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067-93B8-4607-9A76-94A5128D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194-B860-487B-8807-1A82523D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2C4-3294-4CF1-B03F-3A9BADBC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373-A217-41A4-92FA-775FE500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BF9A-D484-4229-B39A-8CB14F5B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D8D2-D8FF-483C-B501-00D6FEF4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A235-5D41-4495-BE7F-D00C1EB4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0815-B481-409A-B0F5-70FB8E8D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D5FA-0D7A-407E-A73D-A3D81864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21F7-BFE3-4CB3-BC8C-50FEFB4D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5571-28B7-42F6-851F-8617EA93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B24-EDCA-41DC-ADD5-57201D9D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7F0B-1B57-47E7-931E-DCDEA71E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B016-F5E5-44FB-BE76-5EC8AA3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AC0F-5655-4B02-9D70-1587F2B7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F731-12D4-40C7-AFF8-1362D9C4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AF7B-9549-4664-8613-D362C8F3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645-91E3-4175-86E0-D886EAAC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079-3C92-4A1D-850A-1FA76C31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A91-221F-40A3-89AD-08FFD911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2DC-FCFC-4C03-96A1-4AD9A6C9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669-555F-4127-AF33-924C334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CB0-2C71-4D59-A758-BE90B6B1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5AE-F593-4967-B097-D751D09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C0CF-C731-4F32-8349-D24C71DDC27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1F5-FCFB-44B3-B435-ABA8F0F32F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352880"/>
            <a:ext cx="81360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ate Scenario Optimization</a:t>
            </a:r>
            <a:br>
              <a:rPr sz="4400"/>
            </a:b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 Data-Driven Approach to Getting Everyone More A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351468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an Patt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phanie Wie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sad Subraman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 Rymz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ive Demonst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251460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ir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495288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2362320"/>
            <a:ext cx="1828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i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2362320"/>
            <a:ext cx="1828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b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4648320"/>
            <a:ext cx="1828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s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464832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sh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768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inal Conclusions and Limitation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8600" y="1905120"/>
            <a:ext cx="8610480" cy="1191240"/>
            <a:chOff x="228600" y="1905120"/>
            <a:chExt cx="8610480" cy="1191240"/>
          </a:xfrm>
        </p:grpSpPr>
        <p:sp>
          <p:nvSpPr>
            <p:cNvPr id="277" name=""/>
            <p:cNvSpPr/>
            <p:nvPr/>
          </p:nvSpPr>
          <p:spPr>
            <a:xfrm>
              <a:off x="2514600" y="1905120"/>
              <a:ext cx="632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s it turns out, the perfect couple, with perfect joint utility, is Lisa and Heidi, who would score even without solver’s hel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" y="1905120"/>
              <a:ext cx="2057400" cy="114300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Perf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Cou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28600" y="3581280"/>
            <a:ext cx="8915400" cy="2702160"/>
            <a:chOff x="228600" y="3581280"/>
            <a:chExt cx="8915400" cy="2702160"/>
          </a:xfrm>
        </p:grpSpPr>
        <p:sp>
          <p:nvSpPr>
            <p:cNvPr id="280" name=""/>
            <p:cNvSpPr/>
            <p:nvPr/>
          </p:nvSpPr>
          <p:spPr>
            <a:xfrm>
              <a:off x="228600" y="3581280"/>
              <a:ext cx="2057400" cy="114300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Gaming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Verdana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4600" y="3629160"/>
              <a:ext cx="6629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t’s worth pointing out that if, as a dater, a participant were willing to accept any scenario as offering maximum utilit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(like, say, listening to your partner talk about him or herself in a club on a Tuesday after a cheap meal without the benefit of 10 cocktails),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utcomes improve dramatical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657600" y="3505320"/>
            <a:ext cx="3429000" cy="3057480"/>
            <a:chOff x="3657600" y="3505320"/>
            <a:chExt cx="3429000" cy="305748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rcRect l="26966" t="30556" r="12322" b="-2775"/>
            <a:stretch/>
          </p:blipFill>
          <p:spPr>
            <a:xfrm>
              <a:off x="3657600" y="3505320"/>
              <a:ext cx="3429000" cy="3057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284" name=""/>
            <p:cNvSpPr/>
            <p:nvPr/>
          </p:nvSpPr>
          <p:spPr>
            <a:xfrm>
              <a:off x="3657600" y="3505320"/>
              <a:ext cx="3429000" cy="2972160"/>
            </a:xfrm>
            <a:custGeom>
              <a:avLst/>
              <a:gdLst>
                <a:gd name="textAreaLeft" fmla="*/ 805680 w 3429000"/>
                <a:gd name="textAreaRight" fmla="*/ 2620800 w 3429000"/>
                <a:gd name="textAreaTop" fmla="*/ 349200 h 2972160"/>
                <a:gd name="textAreaBottom" fmla="*/ 1864440 h 2972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637920"/>
            <a:ext cx="8729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19051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ecdotal reports from eligible New York yuppies indicate 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arm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requency of desired sexual outcomes resulting from d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90512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42900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mplicatio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95288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r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342900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s on dating activities and characteristics may be sub-opti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0292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date characteristics that maximize joint utility, and thereby maximize the chances of desired sexual outco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637920"/>
            <a:ext cx="8729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Managerial Formulat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3200400"/>
            <a:ext cx="678168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best generic dat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optimal date scenario for any two specific members of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327672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190512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e scenario: meal, activity, day, group dynamics, conversation topic, alcohol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82880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4800600"/>
            <a:ext cx="67816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ve parameters, rated with utilities 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st limit, though costs are estimated for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72428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531000"/>
            <a:ext cx="8729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ormulation – Data Gathering &amp; Input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320" y="1305000"/>
            <a:ext cx="8991360" cy="56149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4495680" y="5105520"/>
            <a:ext cx="4442040" cy="1600200"/>
            <a:chOff x="4495680" y="5105520"/>
            <a:chExt cx="4442040" cy="1600200"/>
          </a:xfrm>
        </p:grpSpPr>
        <p:sp>
          <p:nvSpPr>
            <p:cNvPr id="229" name=""/>
            <p:cNvSpPr/>
            <p:nvPr/>
          </p:nvSpPr>
          <p:spPr>
            <a:xfrm>
              <a:off x="4495680" y="5105520"/>
              <a:ext cx="44197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5478480"/>
              <a:ext cx="444204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 simple survey was administered to classmates to identify individual ut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ata was input into a VLOOKUP-friendly spreadsheet to drive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5105520"/>
              <a:ext cx="441972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Method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554760"/>
            <a:ext cx="8729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ormulation – Data Was Formatted to Drive Evolutionary Solver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379080"/>
            <a:ext cx="8686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tion Methodology- Evolutionary Solver Was Used to Maximize Date Utility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168800" y="4591080"/>
            <a:ext cx="4799160" cy="21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68800" y="4964040"/>
            <a:ext cx="4822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normalize the survey data, total joint utility is transformed to a % satisfaction index comparing achieved utility to total possible utility for the optima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the 86% satisfaction results in Tonsil Hockey for our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68800" y="4591080"/>
            <a:ext cx="47991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thodology – Outcome De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2655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04920" y="4572000"/>
            <a:ext cx="37335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572000"/>
            <a:ext cx="37335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utcome Levels by %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952880"/>
            <a:ext cx="35766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9%-100%     Scor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6%-98%       Bill and Mon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3-95%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Third 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90%-92%       Second 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86%-89%       Tonsil Hocke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80%-85%       Peck on Che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&lt;79%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Heis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924680" cy="47307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69480"/>
            <a:ext cx="81630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tion Methodology- A Similar Approach Used for Any Two Individual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3962520"/>
            <a:ext cx="4190760" cy="2590560"/>
            <a:chOff x="228600" y="3962520"/>
            <a:chExt cx="4190760" cy="2590560"/>
          </a:xfrm>
        </p:grpSpPr>
        <p:sp>
          <p:nvSpPr>
            <p:cNvPr id="245" name=""/>
            <p:cNvSpPr/>
            <p:nvPr/>
          </p:nvSpPr>
          <p:spPr>
            <a:xfrm>
              <a:off x="228600" y="3962520"/>
              <a:ext cx="4190760" cy="25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" y="3962520"/>
              <a:ext cx="4190760" cy="349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Outcome Levels by %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720" y="4312080"/>
              <a:ext cx="3893400" cy="21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9%-100%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core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6%-98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ill and Mo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3-95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     Third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0%-92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econd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86%-89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onsil Hocke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80%-85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eck on Che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&lt;79%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Heism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91260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Conclusions – Generic Date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90512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l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y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a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Dynamic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-on-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y of the Week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cohol Consump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90512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495288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Tonsil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Conclusions – Specific Individual Date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1828800"/>
            <a:ext cx="640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course, these vary. To illustrate, we examine the outcomes for a date between Paul and Heidi, had Paul chosen his own unique utility maximizing scenario, and had they chosen the solver 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1905120"/>
            <a:ext cx="2057400" cy="11430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8862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ul’s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505320"/>
            <a:ext cx="1981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3886200"/>
            <a:ext cx="2514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gant Di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cuss yourse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turday, One on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ts of Alcoh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35053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350532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t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4114800"/>
            <a:ext cx="15238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1, (8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: $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28600" y="5372280"/>
            <a:ext cx="6477120" cy="1413000"/>
            <a:chOff x="228600" y="5372280"/>
            <a:chExt cx="6477120" cy="1413000"/>
          </a:xfrm>
        </p:grpSpPr>
        <p:sp>
          <p:nvSpPr>
            <p:cNvPr id="263" name=""/>
            <p:cNvSpPr/>
            <p:nvPr/>
          </p:nvSpPr>
          <p:spPr>
            <a:xfrm>
              <a:off x="228600" y="5410080"/>
              <a:ext cx="2133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l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14600" y="5372280"/>
              <a:ext cx="259092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porting Ev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asual Din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scuss Current Ev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unday, One on 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ots of Alcoh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9200" y="5410080"/>
              <a:ext cx="1676520" cy="11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7, (95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st: $1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($55 savings!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0" y="40384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Peck on the Ch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Third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37:18Z</dcterms:created>
  <dc:creator>BRYMZO</dc:creator>
  <dc:description/>
  <dc:language>en-US</dc:language>
  <cp:lastModifiedBy>Stephanie Wiese</cp:lastModifiedBy>
  <dcterms:modified xsi:type="dcterms:W3CDTF">2004-04-26T16:52:52Z</dcterms:modified>
  <cp:revision>18</cp:revision>
  <dc:subject/>
  <dc:title>Managerial Problem Definition</dc:title>
</cp:coreProperties>
</file>