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3DB-7F25-4EE3-A105-7E8720A1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8C2-12D8-4E30-83E2-A7EB7D34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02D-6079-42BF-8D73-12F90FBF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C7A-2403-4DF7-AB5E-96902781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60E0-0376-4784-87CA-43E6BDC4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FFF5-4C6D-4661-B33C-778E5CB7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909D-3ADB-4417-B60B-76CDB4B5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6006-2197-435F-BDE8-9F5A5F16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0B12-200C-496B-BD07-73BB2433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E03E-BBC9-460B-A43E-C264C463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C04E-E5F0-4ADE-8F80-54C20D34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056-C45C-41C9-8003-31823AEE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493F-A637-473B-BE75-2A9E6123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3258-16EB-4A7D-98E3-9A8CAD4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8547-2CF4-4BAA-83C0-91C05E59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180F-C7C5-4480-A016-F7E29E4B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BAE7-4908-4C18-9F46-6D045D5D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DC7-0330-4C8E-9EF8-ADDFFDAB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53B-016C-40FE-8835-95978155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21A-5B3A-4B5F-ABCC-0634D8DA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B8B-F1A0-45CB-B205-28EEC901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6C7-EC91-48AF-9F12-0B51F8E6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123-D4D8-45CC-970C-BD330FE6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033-1417-496D-898B-3A58AE92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7DFA-3801-4CEB-A789-6DC57B49A7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7D24-B01F-452C-A1C2-8DAB4068590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352880"/>
            <a:ext cx="81360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ate Scenario Optimization</a:t>
            </a:r>
            <a:br>
              <a:rPr sz="4400"/>
            </a:b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 Data-Driven Approach to Getting Everyone More A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351468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an Patt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phanie Wie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sad Subraman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 Rym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ive Demonst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251460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495288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o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2362320"/>
            <a:ext cx="1828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i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2362320"/>
            <a:ext cx="1828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bb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4648320"/>
            <a:ext cx="1828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s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464832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sh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768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Final Conclusions and Limitation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28600" y="1905120"/>
            <a:ext cx="8610480" cy="1191240"/>
            <a:chOff x="228600" y="1905120"/>
            <a:chExt cx="8610480" cy="1191240"/>
          </a:xfrm>
        </p:grpSpPr>
        <p:sp>
          <p:nvSpPr>
            <p:cNvPr id="277" name=""/>
            <p:cNvSpPr/>
            <p:nvPr/>
          </p:nvSpPr>
          <p:spPr>
            <a:xfrm>
              <a:off x="2514600" y="1905120"/>
              <a:ext cx="632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s it turns out, the perfect couple, with perfect joint utility, is Lisa and Heidi, who would score even without solver’s hel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" y="1905120"/>
              <a:ext cx="2057400" cy="114300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Perf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Cou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28600" y="3581280"/>
            <a:ext cx="8915400" cy="2702160"/>
            <a:chOff x="228600" y="3581280"/>
            <a:chExt cx="8915400" cy="2702160"/>
          </a:xfrm>
        </p:grpSpPr>
        <p:sp>
          <p:nvSpPr>
            <p:cNvPr id="280" name=""/>
            <p:cNvSpPr/>
            <p:nvPr/>
          </p:nvSpPr>
          <p:spPr>
            <a:xfrm>
              <a:off x="228600" y="3581280"/>
              <a:ext cx="2057400" cy="114300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Gaming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14600" y="3629160"/>
              <a:ext cx="66294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t’s worth pointing out that if, as a dater, a participant were willing to accept any scenario as offering maximum utilit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(like, say, listening to your partner talk about him or herself in a club on a Tuesday after a cheap meal without the benefit of 10 cocktails),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utcomes improve dramatical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657600" y="3505320"/>
            <a:ext cx="3429000" cy="3057480"/>
            <a:chOff x="3657600" y="3505320"/>
            <a:chExt cx="3429000" cy="3057480"/>
          </a:xfrm>
        </p:grpSpPr>
        <p:pic>
          <p:nvPicPr>
            <p:cNvPr id="283" name="" descr=""/>
            <p:cNvPicPr/>
            <p:nvPr/>
          </p:nvPicPr>
          <p:blipFill>
            <a:blip r:embed="rId1"/>
            <a:srcRect l="26966" t="30556" r="12322" b="-2775"/>
            <a:stretch/>
          </p:blipFill>
          <p:spPr>
            <a:xfrm>
              <a:off x="3657600" y="3505320"/>
              <a:ext cx="3429000" cy="3057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284" name=""/>
            <p:cNvSpPr/>
            <p:nvPr/>
          </p:nvSpPr>
          <p:spPr>
            <a:xfrm>
              <a:off x="3657600" y="3505320"/>
              <a:ext cx="3429000" cy="2972160"/>
            </a:xfrm>
            <a:custGeom>
              <a:avLst/>
              <a:gdLst>
                <a:gd name="textAreaLeft" fmla="*/ 805680 w 3429000"/>
                <a:gd name="textAreaRight" fmla="*/ 2620800 w 3429000"/>
                <a:gd name="textAreaTop" fmla="*/ 349200 h 2972160"/>
                <a:gd name="textAreaBottom" fmla="*/ 1864440 h 2972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637920"/>
            <a:ext cx="8729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19051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ecdotal reports from eligible New York yuppies indicate 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arm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frequency of desired sexual outcomes resulting from d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90512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42900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mplicatio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495288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ur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342900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s on dating activities and characteristics may be sub-opti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50292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date characteristics that maximize joint utility, and thereby maximize the chances of desired sexual outco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637920"/>
            <a:ext cx="8729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Managerial Formulatio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3200400"/>
            <a:ext cx="678168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best generic dat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optimal date scenario for any two specific members of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327672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190512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ate scenario: meal, activity, day, group dynamics, conversation topic, alcohol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82880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4800600"/>
            <a:ext cx="678168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ve parameters, rated with utilities 1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st limit, though costs are estimated for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72428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531000"/>
            <a:ext cx="8729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Formulation – Data Gathering &amp; Input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320" y="1305000"/>
            <a:ext cx="8991360" cy="561492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4495680" y="5105520"/>
            <a:ext cx="4442040" cy="1600200"/>
            <a:chOff x="4495680" y="5105520"/>
            <a:chExt cx="4442040" cy="1600200"/>
          </a:xfrm>
        </p:grpSpPr>
        <p:sp>
          <p:nvSpPr>
            <p:cNvPr id="229" name=""/>
            <p:cNvSpPr/>
            <p:nvPr/>
          </p:nvSpPr>
          <p:spPr>
            <a:xfrm>
              <a:off x="4495680" y="5105520"/>
              <a:ext cx="44197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5478480"/>
              <a:ext cx="444204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 simple survey was administered to classmates to identify individual ut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ata was input into a VLOOKUP-friendly spreadsheet to drive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5105520"/>
              <a:ext cx="441972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Method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554760"/>
            <a:ext cx="8729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Formulation – Data Was Formatted to Drive Evolutionary Solver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379080"/>
            <a:ext cx="86868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tion Methodology- Evolutionary Solver Was Used to Maximize Date Utility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168800" y="4591080"/>
            <a:ext cx="4799160" cy="21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68800" y="4964040"/>
            <a:ext cx="48229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normalize the survey data, total joint utility is transformed to a % satisfaction index comparing achieved utility to total possible utility for the optima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the 86% satisfaction results in Tonsil Hockey for our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68800" y="4591080"/>
            <a:ext cx="479916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ethodology – Outcome De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2655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04920" y="4572000"/>
            <a:ext cx="37335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4572000"/>
            <a:ext cx="373356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utcome Levels by %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952880"/>
            <a:ext cx="35766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99%-100%     Score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96%-98%       Bill and Mon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93-95%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Third 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90%-92%       Second 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86%-89%       Tonsil Hocke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80%-85%       Peck on Ch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&lt;79%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Heism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924680" cy="47307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69480"/>
            <a:ext cx="81630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tion Methodology- A Similar Approach Used for Any Two Individual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3962520"/>
            <a:ext cx="4190760" cy="2590560"/>
            <a:chOff x="228600" y="3962520"/>
            <a:chExt cx="4190760" cy="2590560"/>
          </a:xfrm>
        </p:grpSpPr>
        <p:sp>
          <p:nvSpPr>
            <p:cNvPr id="245" name=""/>
            <p:cNvSpPr/>
            <p:nvPr/>
          </p:nvSpPr>
          <p:spPr>
            <a:xfrm>
              <a:off x="228600" y="3962520"/>
              <a:ext cx="4190760" cy="25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" y="3962520"/>
              <a:ext cx="4190760" cy="349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Outcome Levels by %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8720" y="4312080"/>
              <a:ext cx="3893400" cy="21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99%-100%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core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96%-98%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ill and Mo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93-95%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     Third B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90%-92%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econd B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86%-89%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onsil Hocke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80%-85%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eck on Che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&lt;79%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Heism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91260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Conclusions – Generic Date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90512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l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y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a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Dynamic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-on-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y of the Week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cohol Consump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90512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495288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5257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Tonsil Ho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Conclusions – Specific Individual Date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1828800"/>
            <a:ext cx="640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course, these vary. To illustrate, we examine the outcomes for a date between Paul and Heidi, had Paul chosen his own unique utility maximizing scenario, and had they chosen the solver 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190512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88620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ul’s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505320"/>
            <a:ext cx="1981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3886200"/>
            <a:ext cx="2514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egant Di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cuss yoursel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turday, One on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ts of Alcoh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34320" y="350532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350532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t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29200" y="4114800"/>
            <a:ext cx="15238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1, (85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: $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28600" y="5372280"/>
            <a:ext cx="6477120" cy="1413000"/>
            <a:chOff x="228600" y="5372280"/>
            <a:chExt cx="6477120" cy="1413000"/>
          </a:xfrm>
        </p:grpSpPr>
        <p:sp>
          <p:nvSpPr>
            <p:cNvPr id="263" name=""/>
            <p:cNvSpPr/>
            <p:nvPr/>
          </p:nvSpPr>
          <p:spPr>
            <a:xfrm>
              <a:off x="228600" y="5410080"/>
              <a:ext cx="2133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l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14600" y="5372280"/>
              <a:ext cx="259092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porting Ev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asual Din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scuss Current Ev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unday, One on 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ots of Alcoh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9200" y="5410080"/>
              <a:ext cx="1676520" cy="11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7, (95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st: $1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($55 savings!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0" y="40384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Peck on the Ch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Third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2:37:18Z</dcterms:created>
  <dc:creator>BRYMZO</dc:creator>
  <dc:description/>
  <dc:language>en-US</dc:language>
  <cp:lastModifiedBy>Stephanie Wiese</cp:lastModifiedBy>
  <dcterms:modified xsi:type="dcterms:W3CDTF">2004-04-26T16:52:52Z</dcterms:modified>
  <cp:revision>18</cp:revision>
  <dc:subject/>
  <dc:title>Managerial Problem Definition</dc:title>
</cp:coreProperties>
</file>