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59A-8B69-4142-9077-503B612B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79F-68D3-488A-97DA-1A81D963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517-EC2E-412A-A06A-D6FC5BAD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4FB-5E2C-4494-963D-D0673E13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20B2-4AA1-4969-B16B-D3C9940D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CCB6-9E93-43F3-8E8D-21FFD1CD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2C03-6EC3-4B09-B9BE-3D748187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2CD1-4523-4C90-98ED-14F40C95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8C24-10A3-4F8E-88D7-9FF6A2B7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47F3-92B3-441B-A4FC-AD15475C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CF50-7613-4439-9A2F-08ACD69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02A-CEE2-49E2-8416-81CD096E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5F4C-F02D-44D8-B92F-15AC804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7E36-5604-4A17-B17E-955B91A4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E131-DB54-4292-BAF3-11AFF96F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402E-B690-4315-8A13-6FE44571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4084-274B-4B06-8FE1-2DE14000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0F3-E13B-4E73-B8B7-CEDCF9AD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9D1-4A37-4F86-BB6B-2B660F75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08B-274B-45D7-8D5A-760D14FB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098-5582-43B0-98D7-DE356F96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C63-8C00-4EC7-9A00-11E3BDB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E7E-066F-48CA-A383-825C5C0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C5E-A062-4542-90A2-5530CBD4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4393-BF3B-42A2-B008-1E04734687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EF85-1062-433F-83BC-AC4D75E807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22.verizon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alliance.cingularinteractive.com/dev/cda/home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t-mobile.com/personal/individual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2351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Optimal Cellular Plan Finder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c458"/>
                </a:solidFill>
                <a:uFillTx/>
                <a:latin typeface="Times New Roman"/>
              </a:rPr>
              <a:t>Team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Anthony Alex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Allan Bo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Jacques Bleind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Keith Single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Veriz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1371600" cy="345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Sprint Logo"/>
          <p:cNvPicPr/>
          <p:nvPr/>
        </p:nvPicPr>
        <p:blipFill>
          <a:blip r:embed="rId3"/>
          <a:stretch/>
        </p:blipFill>
        <p:spPr>
          <a:xfrm>
            <a:off x="1828800" y="604800"/>
            <a:ext cx="1066680" cy="690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NEXTEL"/>
          <p:cNvPicPr/>
          <p:nvPr/>
        </p:nvPicPr>
        <p:blipFill>
          <a:blip r:embed="rId4"/>
          <a:stretch/>
        </p:blipFill>
        <p:spPr>
          <a:xfrm>
            <a:off x="7620120" y="685800"/>
            <a:ext cx="1295280" cy="490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cingula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762120"/>
            <a:ext cx="129564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T-Mobile US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762120"/>
            <a:ext cx="1371600" cy="341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T&amp;T Wireless"/>
          <p:cNvPicPr/>
          <p:nvPr/>
        </p:nvPicPr>
        <p:blipFill>
          <a:blip r:embed="rId9"/>
          <a:stretch/>
        </p:blipFill>
        <p:spPr>
          <a:xfrm>
            <a:off x="6172200" y="762120"/>
            <a:ext cx="129528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Data Input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7724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Run Crystal Ball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520" y="4114800"/>
            <a:ext cx="1292760" cy="901800"/>
            <a:chOff x="2520" y="4114800"/>
            <a:chExt cx="1292760" cy="901800"/>
          </a:xfrm>
        </p:grpSpPr>
        <p:sp>
          <p:nvSpPr>
            <p:cNvPr id="243" name=""/>
            <p:cNvSpPr/>
            <p:nvPr/>
          </p:nvSpPr>
          <p:spPr>
            <a:xfrm flipV="1">
              <a:off x="685800" y="4114800"/>
              <a:ext cx="6094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0" y="464832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an-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298520" y="4114440"/>
            <a:ext cx="2282760" cy="1785960"/>
            <a:chOff x="1298520" y="4114440"/>
            <a:chExt cx="2282760" cy="1785960"/>
          </a:xfrm>
        </p:grpSpPr>
        <p:sp>
          <p:nvSpPr>
            <p:cNvPr id="246" name=""/>
            <p:cNvSpPr/>
            <p:nvPr/>
          </p:nvSpPr>
          <p:spPr>
            <a:xfrm flipV="1">
              <a:off x="2286000" y="4114440"/>
              <a:ext cx="129528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98520" y="5257800"/>
              <a:ext cx="125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lcula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istic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352680" y="4114440"/>
            <a:ext cx="3276720" cy="2243160"/>
            <a:chOff x="3352680" y="4114440"/>
            <a:chExt cx="3276720" cy="2243160"/>
          </a:xfrm>
        </p:grpSpPr>
        <p:sp>
          <p:nvSpPr>
            <p:cNvPr id="249" name=""/>
            <p:cNvSpPr/>
            <p:nvPr/>
          </p:nvSpPr>
          <p:spPr>
            <a:xfrm flipV="1">
              <a:off x="4648320" y="4114440"/>
              <a:ext cx="1981080" cy="163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2680" y="571500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mulation – Daytime Minutes per Mont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utput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8394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Which is the Optimal Choice?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1295280"/>
          <a:ext cx="9144000" cy="518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1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209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Demonstr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Limitations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90296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ination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ming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distribution of monthly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mbersome – due to Crystal Ball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ac458"/>
                </a:solidFill>
                <a:latin typeface="Times New Roman"/>
              </a:rPr>
              <a:t>Q&amp;A</a:t>
            </a:r>
            <a:endParaRPr b="0" lang="en-US" sz="9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2819160"/>
            <a:ext cx="82263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Agenda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Background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live in New York and need a new cellular phone plan since your current plan is going to exp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desire a model to review cellular plans of all the major providers to make an optimal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identify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owest c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ellular Plan with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ghest qu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 Vari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usage patterns 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vs. Off-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ekday vs. Wee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of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ing vs. Out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-network vs. Out-of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daytime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ginal cost of excess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ghts and Weekend plan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over minutes plan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Assumptions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192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 does not incur switching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 does not have any budgetary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thly minutes used are normally dis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73680" y="1598760"/>
            <a:ext cx="3813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 is evaluating nationwide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-network calls are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lans offer free nights and weekend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verview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months of cellula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l model derives monthly mean of day calls and standard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te crystal ball to simulate twelve  months of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verview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nual cost for all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west cost plan by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frontier of possible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21:43:27Z</dcterms:created>
  <dc:creator>Stern School of Business</dc:creator>
  <dc:description/>
  <dc:language>en-US</dc:language>
  <cp:lastModifiedBy>baseuser</cp:lastModifiedBy>
  <dcterms:modified xsi:type="dcterms:W3CDTF">2004-05-03T17:32:43Z</dcterms:modified>
  <cp:revision>20</cp:revision>
  <dc:subject/>
  <dc:title>Slide 1</dc:title>
</cp:coreProperties>
</file>