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215-D930-41D9-BFEB-AA59EC8D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EA0-9B75-42F2-A903-93E23E85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6E4-E614-4F9F-A542-0D32C96A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D56-97E8-4B3E-BFE8-6FCAAE26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24A-71AF-4A51-88B9-D688B1BD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E88-ED32-421A-AE60-D97A9DFA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CF1-B589-460B-84E7-9EECE9A6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A3F-E9EA-4E6A-B17D-FC5A3998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173-186F-4884-A8E3-5D7CA6B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2D2-80E7-4AD9-BB6F-56D0B30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2D5-E45E-49B6-979E-A955F1D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BF2-9AF4-46BB-832A-FD6699C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F603-0F84-4BD6-8EA4-9476CC9A8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rump’s Condo Conversion Proje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Presen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Asli Aksuyek, </a:t>
            </a:r>
            <a:r>
              <a:rPr b="0" i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Michael G Perkons, Valia Rodr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6336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1143000" cy="146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72400" y="4952880"/>
            <a:ext cx="1143000" cy="14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00800" y="4952880"/>
            <a:ext cx="1143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-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25720" cy="3179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1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nning Solv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1708200"/>
            <a:ext cx="56390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tail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8640" y="2305080"/>
            <a:ext cx="58752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 flipH="1" flipV="1">
            <a:off x="1551960" y="17776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18" name=""/>
          <p:cNvCxnSpPr/>
          <p:nvPr/>
        </p:nvCxnSpPr>
        <p:spPr>
          <a:xfrm flipV="1">
            <a:off x="1920600" y="1777680"/>
            <a:ext cx="53388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503280" y="232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23115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 flipH="1" flipV="1">
            <a:off x="2910600" y="17647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22" name=""/>
          <p:cNvCxnSpPr/>
          <p:nvPr/>
        </p:nvCxnSpPr>
        <p:spPr>
          <a:xfrm flipV="1">
            <a:off x="3279600" y="1764720"/>
            <a:ext cx="53424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292640" y="2298600"/>
            <a:ext cx="58716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H="1" flipV="1">
            <a:off x="4215600" y="175212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25" name=""/>
          <p:cNvCxnSpPr/>
          <p:nvPr/>
        </p:nvCxnSpPr>
        <p:spPr>
          <a:xfrm flipV="1">
            <a:off x="4584600" y="1752120"/>
            <a:ext cx="53424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638680" y="23115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 flipV="1">
            <a:off x="5562000" y="17647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>
            <a:off x="5930640" y="1764720"/>
            <a:ext cx="53388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97680" y="23115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flipV="1">
            <a:off x="6920640" y="17647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7289640" y="1764720"/>
            <a:ext cx="53424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019240" y="52833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 flipH="1" flipV="1">
            <a:off x="1942560" y="47365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>
            <a:off x="2311200" y="4736520"/>
            <a:ext cx="53388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5" name=""/>
          <p:cNvCxnSpPr/>
          <p:nvPr/>
        </p:nvCxnSpPr>
        <p:spPr>
          <a:xfrm flipH="1" flipV="1">
            <a:off x="6234840" y="2567880"/>
            <a:ext cx="78516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6" name=""/>
          <p:cNvCxnSpPr/>
          <p:nvPr/>
        </p:nvCxnSpPr>
        <p:spPr>
          <a:xfrm flipH="1" flipV="1">
            <a:off x="4876560" y="2567880"/>
            <a:ext cx="78480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7" name=""/>
          <p:cNvCxnSpPr/>
          <p:nvPr/>
        </p:nvCxnSpPr>
        <p:spPr>
          <a:xfrm flipH="1" flipV="1">
            <a:off x="3545640" y="2606040"/>
            <a:ext cx="78516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flipV="1">
            <a:off x="2208960" y="2586960"/>
            <a:ext cx="78516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9" name=""/>
          <p:cNvCxnSpPr/>
          <p:nvPr/>
        </p:nvCxnSpPr>
        <p:spPr>
          <a:xfrm flipH="1" flipV="1">
            <a:off x="847440" y="2571120"/>
            <a:ext cx="78480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381480" y="5302080"/>
            <a:ext cx="58716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 flipH="1" flipV="1">
            <a:off x="3304440" y="47746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>
            <a:off x="3673440" y="4774680"/>
            <a:ext cx="53424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4740120" y="5308560"/>
            <a:ext cx="58752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/>
          <p:nvPr/>
        </p:nvCxnSpPr>
        <p:spPr>
          <a:xfrm flipH="1" flipV="1">
            <a:off x="4663440" y="47620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5" name=""/>
          <p:cNvCxnSpPr/>
          <p:nvPr/>
        </p:nvCxnSpPr>
        <p:spPr>
          <a:xfrm flipV="1">
            <a:off x="5032080" y="4762080"/>
            <a:ext cx="53388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045120" y="5308560"/>
            <a:ext cx="58752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H="1" flipV="1">
            <a:off x="5968440" y="47620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8" name=""/>
          <p:cNvCxnSpPr/>
          <p:nvPr/>
        </p:nvCxnSpPr>
        <p:spPr>
          <a:xfrm flipV="1">
            <a:off x="6337080" y="4762080"/>
            <a:ext cx="53388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9" name=""/>
          <p:cNvCxnSpPr/>
          <p:nvPr/>
        </p:nvCxnSpPr>
        <p:spPr>
          <a:xfrm flipH="1" flipV="1">
            <a:off x="5298840" y="5603400"/>
            <a:ext cx="784800" cy="136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50" name=""/>
          <p:cNvCxnSpPr/>
          <p:nvPr/>
        </p:nvCxnSpPr>
        <p:spPr>
          <a:xfrm flipH="1" flipV="1">
            <a:off x="3962160" y="5584320"/>
            <a:ext cx="784800" cy="136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51" name=""/>
          <p:cNvCxnSpPr/>
          <p:nvPr/>
        </p:nvCxnSpPr>
        <p:spPr>
          <a:xfrm flipH="1" flipV="1">
            <a:off x="2599560" y="5568480"/>
            <a:ext cx="785160" cy="136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341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561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/>
          <p:nvPr/>
        </p:nvCxnSpPr>
        <p:spPr>
          <a:xfrm flipV="1">
            <a:off x="1905120" y="2895120"/>
            <a:ext cx="216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27133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4120" y="2362320"/>
            <a:ext cx="333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86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8020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336760"/>
            <a:ext cx="333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348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620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2600" y="424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2600" y="2349360"/>
            <a:ext cx="333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7000" y="424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588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8492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380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8020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6108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5180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35200" y="33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V="1">
            <a:off x="3257640" y="2895120"/>
            <a:ext cx="216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087720" y="33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 flipV="1">
            <a:off x="4591080" y="28695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4215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 flipV="1">
            <a:off x="5931000" y="28695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57610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V="1">
            <a:off x="7334280" y="28695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47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/>
          <p:nvPr/>
        </p:nvCxnSpPr>
        <p:spPr>
          <a:xfrm flipV="1">
            <a:off x="2305080" y="58287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135520" y="631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V="1">
            <a:off x="3676680" y="58413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44304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 flipV="1">
            <a:off x="5079600" y="5828760"/>
            <a:ext cx="252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4846680" y="631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/>
          <p:nvPr/>
        </p:nvCxnSpPr>
        <p:spPr>
          <a:xfrm flipV="1">
            <a:off x="6330960" y="5816160"/>
            <a:ext cx="216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097680" y="6299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2438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puts to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r. Trump has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105 apartments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in Flor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e decided to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convert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84 of them into condominiums by the end of the year (we are in Apri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Out of his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105 apartments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8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are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va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76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have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various lease termination dates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 throughout the next 12 months and they will be available for conversion when the existing tenants leave, according to their lease expiration sched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 apartments have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month to month leases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e conversion company has a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monthly demand schedul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to convert 84 apartments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by the end of the year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r. Trump agreed on a contract with the conversion company to meet their monthly conversion schedule.  However the expiring lease schedule does not meet the demand schedule on a monthly basi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o meet the monthly conversion schedule, Mr. Trump can use the 8 vacant apartments or kick out the tenants of the 21 apartments with month to month leases at a cost of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$1,500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82296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li Aksu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581120"/>
            <a:ext cx="8076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termine for Donald Trump the least costly method to ensure that there are enough units available for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puts to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se expira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 vacant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6 leases to expire over the nex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1 month to month 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t of terminating a month to month lease: $1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t of holding the 8 vacant units: $750/mon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ease Expirati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57240" y="3276720"/>
            <a:ext cx="2552760" cy="110484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eec1"/>
                </a:solidFill>
                <a:latin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62760" y="2494080"/>
            <a:ext cx="2547720" cy="270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28880" y="1219320"/>
            <a:ext cx="2711160" cy="5410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Model – Network Flow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213000"/>
            <a:ext cx="914400" cy="8193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92880" y="3219480"/>
            <a:ext cx="914400" cy="8190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J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193920"/>
            <a:ext cx="914400" cy="8193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p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/>
          <p:nvPr/>
        </p:nvCxnSpPr>
        <p:spPr>
          <a:xfrm flipH="1" flipV="1">
            <a:off x="1739520" y="2437560"/>
            <a:ext cx="534240" cy="7628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74" name=""/>
          <p:cNvCxnSpPr>
            <a:endCxn id="75" idx="2"/>
          </p:cNvCxnSpPr>
          <p:nvPr/>
        </p:nvCxnSpPr>
        <p:spPr>
          <a:xfrm flipV="1">
            <a:off x="2286000" y="2450520"/>
            <a:ext cx="807120" cy="749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06360" y="189216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9520" y="1905120"/>
            <a:ext cx="108432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arly 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 flipH="1" flipV="1">
            <a:off x="1075680" y="3630240"/>
            <a:ext cx="778680" cy="21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flipV="1">
            <a:off x="4495320" y="2450880"/>
            <a:ext cx="534240" cy="7624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79" name=""/>
          <p:cNvCxnSpPr>
            <a:endCxn id="80" idx="2"/>
          </p:cNvCxnSpPr>
          <p:nvPr/>
        </p:nvCxnSpPr>
        <p:spPr>
          <a:xfrm flipV="1">
            <a:off x="5041800" y="2463120"/>
            <a:ext cx="807120" cy="749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962520" y="1905120"/>
            <a:ext cx="106668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05320" y="1917720"/>
            <a:ext cx="108432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arly 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 flipH="1" flipV="1">
            <a:off x="7216200" y="2463120"/>
            <a:ext cx="533880" cy="7628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83" name=""/>
          <p:cNvCxnSpPr>
            <a:endCxn id="84" idx="2"/>
          </p:cNvCxnSpPr>
          <p:nvPr/>
        </p:nvCxnSpPr>
        <p:spPr>
          <a:xfrm flipV="1">
            <a:off x="7763040" y="2476080"/>
            <a:ext cx="807120" cy="750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83400" y="1917720"/>
            <a:ext cx="106668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26200" y="1930320"/>
            <a:ext cx="108432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arly 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0" idx="2"/>
            <a:endCxn id="72" idx="6"/>
          </p:cNvCxnSpPr>
          <p:nvPr/>
        </p:nvCxnSpPr>
        <p:spPr>
          <a:xfrm flipH="1" flipV="1">
            <a:off x="2742840" y="3602880"/>
            <a:ext cx="18295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098880" y="3349800"/>
            <a:ext cx="10666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Appt not con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flipH="1" flipV="1">
            <a:off x="5486040" y="3606120"/>
            <a:ext cx="18295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842080" y="3352680"/>
            <a:ext cx="10666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Appt not con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3362400"/>
            <a:ext cx="10922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4040" y="3619440"/>
            <a:ext cx="9144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72" idx="4"/>
          </p:cNvCxnSpPr>
          <p:nvPr/>
        </p:nvCxnSpPr>
        <p:spPr>
          <a:xfrm flipV="1">
            <a:off x="2285640" y="4012560"/>
            <a:ext cx="1080" cy="864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1752480" y="487368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/>
          <p:nvPr/>
        </p:nvCxnSpPr>
        <p:spPr>
          <a:xfrm flipV="1">
            <a:off x="5028840" y="4025160"/>
            <a:ext cx="1080" cy="864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495680" y="488628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flipV="1">
            <a:off x="7772040" y="4037760"/>
            <a:ext cx="1080" cy="864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7238880" y="489888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-Cost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293840"/>
            <a:ext cx="7772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- Decision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59092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666880" cy="5334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6520" y="1295280"/>
            <a:ext cx="260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8:57:45Z</dcterms:created>
  <dc:creator>Metin Negrin</dc:creator>
  <dc:description/>
  <dc:language>en-US</dc:language>
  <cp:lastModifiedBy>Murat Abay</cp:lastModifiedBy>
  <dcterms:modified xsi:type="dcterms:W3CDTF">2004-05-03T00:11:48Z</dcterms:modified>
  <cp:revision>56</cp:revision>
  <dc:subject/>
  <dc:title>Trump’s Condo Conversion Project</dc:title>
</cp:coreProperties>
</file>