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0311-955A-487F-9E37-0B50F9CC3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A1D6-7F97-4CC4-B8B7-D2732D5B14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D1176-FA93-420E-8449-F369697C2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B159-25A8-4BE9-B851-9F534A0E2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77122-3A86-4A25-A4DD-2EDC9D3AD7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EAA9D-F3AB-439A-B07B-0A37BB862F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0A9E9-245B-4E29-AB20-5883E5ED39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B9ECD-ACD2-48A5-B921-E800A4C695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FAD7B-C341-4BFF-A635-4271533DED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CCA98-4775-4A8E-8572-16B9092EC8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8152B-6654-4092-94DC-F95EDD6EE2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AC517-E3EC-4B3C-AE4C-C4E185FC0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FC25B-2DFF-4D72-8E58-5418948FD5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6F148-0915-48F6-BFFF-DD3417D1F3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1D9E3-0395-4FEC-A3F4-2C540CE322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B644C-3B6E-4518-8177-99616741E6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DC80E-7993-4A4C-8579-812FBEB007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838B-8627-4D1A-B278-8193A37E3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8CDEC-E78D-4BA7-8501-F2090EB44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AB73-BEB2-405B-8A00-EE724C067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B7E9D-031B-40AB-8D5B-522D8DCD4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E300-9F16-4D3A-AF76-865482997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9CFB6-BAA3-42BA-942A-2A01EF04F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0ED4-4E42-4C19-A965-FC638CCC6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520" y="6244920"/>
            <a:ext cx="685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FE65-E582-4A08-98E6-8DA469344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55354" r="0" b="7357"/>
          <a:stretch/>
        </p:blipFill>
        <p:spPr>
          <a:xfrm>
            <a:off x="0" y="0"/>
            <a:ext cx="9144000" cy="12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6F7C-BD06-4D45-A58D-3D22B1990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2"/>
            <a:srcRect l="0" t="0" r="0" b="88901"/>
            <a:stretch/>
          </p:blipFill>
          <p:spPr>
            <a:xfrm>
              <a:off x="0" y="6095880"/>
              <a:ext cx="914400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4419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IMA CONSULTANTS, IN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428640" y="4343040"/>
            <a:ext cx="4876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Marcelo Charif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Rodrigo Este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Igor Meske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ndrea Teix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640" y="61722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ril 26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ORTFOLIO ALLOC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905120"/>
            <a:ext cx="7772400" cy="60948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ri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651040"/>
            <a:ext cx="7772400" cy="60984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3397320"/>
            <a:ext cx="7772400" cy="609480"/>
          </a:xfrm>
          <a:prstGeom prst="rect">
            <a:avLst/>
          </a:prstGeom>
          <a:solidFill>
            <a:srgbClr val="008000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145040"/>
            <a:ext cx="7772400" cy="60948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890960"/>
            <a:ext cx="7772400" cy="60984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stions &amp;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31996" b="0"/>
          <a:stretch/>
        </p:blipFill>
        <p:spPr>
          <a:xfrm>
            <a:off x="457200" y="3886200"/>
            <a:ext cx="7620120" cy="934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rcRect l="0" t="26664" r="44875" b="0"/>
          <a:stretch/>
        </p:blipFill>
        <p:spPr>
          <a:xfrm>
            <a:off x="685800" y="2133720"/>
            <a:ext cx="6172200" cy="990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rcRect l="0" t="58781" r="74764" b="0"/>
          <a:stretch/>
        </p:blipFill>
        <p:spPr>
          <a:xfrm>
            <a:off x="457200" y="4800600"/>
            <a:ext cx="1981080" cy="1066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8600" y="19051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34290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905120"/>
            <a:ext cx="7772400" cy="60948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ri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2651040"/>
            <a:ext cx="7772400" cy="60984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397320"/>
            <a:ext cx="7772400" cy="60948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4145040"/>
            <a:ext cx="7772400" cy="609480"/>
          </a:xfrm>
          <a:prstGeom prst="rect">
            <a:avLst/>
          </a:prstGeom>
          <a:solidFill>
            <a:srgbClr val="008000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4890960"/>
            <a:ext cx="7772400" cy="60984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stions &amp;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or Profile - Conservat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1752480"/>
            <a:ext cx="3505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1828800"/>
            <a:ext cx="746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: Profile – Conserv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3520" y="2665440"/>
            <a:ext cx="81532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or Profile - Conservat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1752480"/>
            <a:ext cx="3505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371600"/>
            <a:ext cx="746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ed Portfolio - Si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1947960"/>
            <a:ext cx="769644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or Profile – Speculative Grow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1752480"/>
            <a:ext cx="3505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1828800"/>
            <a:ext cx="746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2: Profile – Speculative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06640" y="2394000"/>
            <a:ext cx="689436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or Profile – Speculative Growth - Simu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1752480"/>
            <a:ext cx="3505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371600"/>
            <a:ext cx="746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ed Portfol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3520" y="1871640"/>
            <a:ext cx="769608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or Profile – Speculative Grow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1752480"/>
            <a:ext cx="3505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1523880"/>
            <a:ext cx="746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2: Profile – Speculative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880" y="2122560"/>
            <a:ext cx="822960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or Profile – Speculative Growth - Simu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1752480"/>
            <a:ext cx="3505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1371600"/>
            <a:ext cx="746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ed Portfol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66756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38080" y="2971800"/>
            <a:ext cx="7239240" cy="1311120"/>
          </a:xfrm>
          <a:prstGeom prst="rect">
            <a:avLst/>
          </a:prstGeom>
          <a:solidFill>
            <a:srgbClr val="008000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05120"/>
            <a:ext cx="7772400" cy="609480"/>
          </a:xfrm>
          <a:prstGeom prst="rect">
            <a:avLst/>
          </a:prstGeom>
          <a:solidFill>
            <a:srgbClr val="008000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ri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651040"/>
            <a:ext cx="7772400" cy="60984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397320"/>
            <a:ext cx="7772400" cy="60948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145040"/>
            <a:ext cx="7772400" cy="60948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890960"/>
            <a:ext cx="7772400" cy="60984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stions &amp;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agerial Probl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1752480"/>
            <a:ext cx="3505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1680" y="2076480"/>
            <a:ext cx="80010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 Zero wanted to implement a Web-Based portfolio optimizer to help its clients simulate the best Portfolio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rtfolio should be based on three po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would choose from a variety of 15 different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s'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s’ sources of 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the above criteria, the key objective is to identify the Allocation Portfolio that maximizes the returns and minimizes th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905120"/>
            <a:ext cx="7772400" cy="60948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ri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651040"/>
            <a:ext cx="7772400" cy="609840"/>
          </a:xfrm>
          <a:prstGeom prst="rect">
            <a:avLst/>
          </a:prstGeom>
          <a:solidFill>
            <a:srgbClr val="008000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397320"/>
            <a:ext cx="7772400" cy="60948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4145040"/>
            <a:ext cx="7772400" cy="60948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4890960"/>
            <a:ext cx="7772400" cy="60984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stions &amp;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Analysis – Risk and Retur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1752480"/>
            <a:ext cx="3505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600200"/>
            <a:ext cx="8001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MA collected data from the past 3 years on 15 different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tables summariz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cal resul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41360" y="3124080"/>
            <a:ext cx="6459480" cy="1378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82640" y="4648320"/>
            <a:ext cx="577872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Analysis – Risk and Retur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1752480"/>
            <a:ext cx="3505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6002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the historical collected data, w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Crystal B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imulate the future returns and obtained the following risks and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49320" y="2813040"/>
            <a:ext cx="7245360" cy="1238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00228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Analysis – Investment Objectives &amp; Sources of Inco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1752480"/>
            <a:ext cx="3505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600200"/>
            <a:ext cx="80010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termine which investment fitted best each client, RIMA developed questions to find customers’ pro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questions/options were given to the cli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038480"/>
            <a:ext cx="3429000" cy="19051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66640" indent="-27612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612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eculative Grow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612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ow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612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612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eservation of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estment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4038480"/>
            <a:ext cx="3429000" cy="19051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3880" indent="-33336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pital g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3336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vid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3336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mission, Bonu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3336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3336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34290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 of Inc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ficient Frontier – Historical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1752480"/>
            <a:ext cx="3505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520" y="1335240"/>
            <a:ext cx="8076960" cy="5522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400480" y="144792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storical Data considering the 15 ass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ficient Frontier – Simu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1752480"/>
            <a:ext cx="3505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00480" y="144792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ion considering the 15 ass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867420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02:39:38Z</dcterms:created>
  <dc:creator>NYU-Stern</dc:creator>
  <dc:description/>
  <dc:language>en-US</dc:language>
  <cp:lastModifiedBy>Rodrigo Esteves</cp:lastModifiedBy>
  <dcterms:modified xsi:type="dcterms:W3CDTF">2004-05-03T18:18:00Z</dcterms:modified>
  <cp:revision>182</cp:revision>
  <dc:subject/>
  <dc:title>Decision Models - Portfolio Allo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23904027</vt:r8>
  </property>
  <property fmtid="{D5CDD505-2E9C-101B-9397-08002B2CF9AE}" pid="3" name="_AuthorEmail">
    <vt:lpwstr>ntb210@stern.nyu.edu</vt:lpwstr>
  </property>
  <property fmtid="{D5CDD505-2E9C-101B-9397-08002B2CF9AE}" pid="4" name="_AuthorEmailDisplayName">
    <vt:lpwstr>Nilton Bastos</vt:lpwstr>
  </property>
  <property fmtid="{D5CDD505-2E9C-101B-9397-08002B2CF9AE}" pid="5" name="_EmailSubject">
    <vt:lpwstr>status Quo slide</vt:lpwstr>
  </property>
  <property fmtid="{D5CDD505-2E9C-101B-9397-08002B2CF9AE}" pid="6" name="_ReviewingToolsShownOnce">
    <vt:lpwstr/>
  </property>
</Properties>
</file>