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D0F1-570D-43D3-A8D3-D819990DB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3454-BAA6-4044-9E7D-23FCB1C12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61F0-72BB-4F53-BEF7-808EEBA87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78F1-6B72-47F7-883E-8BBA1B8EB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F9704-07F5-48A8-9F99-9B7AB8F528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3EF09-31DD-4482-B40E-D176F8A90F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4E88A-A7DB-4DF8-9DA4-3FD2CC4075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4C276-BE80-4752-8907-6339190EB6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784C-00CA-4F72-9458-C568FC8113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E00CB-F717-4EAC-A589-18E53A3A2F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F51BF-1CCB-420A-9EFC-5D7A3ED585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858A-513C-46BE-B5A9-45D849755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D7876-F2C2-45FE-AA37-FC6BB2C32E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BFCD8-FDA4-4B32-A27E-3B8838DC1C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7BD37-62EF-4762-B61C-DAC956C3B9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43098-1FFE-4D01-BED6-C7C565550D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C9198-7289-4193-8C9F-9E4D851E0F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4CEE-81E7-493D-8C8C-0527D4521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F394-E8E2-460D-A274-2FBFF086F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B7A3-8281-4515-AA40-74FED56F3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E6CB-530C-4003-907D-BDC772C81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220AA-A911-4897-8B45-06828164F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EDB6-7375-4E97-895E-C9CE2358A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BA65-3DB5-4C4D-A895-761FB5748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520" y="6244920"/>
            <a:ext cx="685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35C1-6636-4599-9654-88F1DCF3B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55354" r="0" b="7357"/>
          <a:stretch/>
        </p:blipFill>
        <p:spPr>
          <a:xfrm>
            <a:off x="0" y="0"/>
            <a:ext cx="9144000" cy="12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A2A5-BF13-431E-A057-5F953570D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"/>
            <a:srcRect l="0" t="0" r="0" b="88901"/>
            <a:stretch/>
          </p:blipFill>
          <p:spPr>
            <a:xfrm>
              <a:off x="0" y="6095880"/>
              <a:ext cx="914400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4419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IMA CONSULTANTS, IN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428640" y="4343040"/>
            <a:ext cx="4876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Marcelo Charif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Rodrigo Este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Igor Meske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ndrea Teix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640" y="61722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ril 26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ORTFOLIO ALLOC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05120"/>
            <a:ext cx="7772400" cy="60948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r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651040"/>
            <a:ext cx="7772400" cy="60984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3397320"/>
            <a:ext cx="7772400" cy="609480"/>
          </a:xfrm>
          <a:prstGeom prst="rect">
            <a:avLst/>
          </a:prstGeom>
          <a:solidFill>
            <a:srgbClr val="008000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145040"/>
            <a:ext cx="7772400" cy="60948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890960"/>
            <a:ext cx="7772400" cy="60984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stions &amp;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31996" b="0"/>
          <a:stretch/>
        </p:blipFill>
        <p:spPr>
          <a:xfrm>
            <a:off x="457200" y="3886200"/>
            <a:ext cx="7620120" cy="93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rcRect l="0" t="26664" r="44875" b="0"/>
          <a:stretch/>
        </p:blipFill>
        <p:spPr>
          <a:xfrm>
            <a:off x="685800" y="2133720"/>
            <a:ext cx="6172200" cy="990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rcRect l="0" t="58781" r="74764" b="0"/>
          <a:stretch/>
        </p:blipFill>
        <p:spPr>
          <a:xfrm>
            <a:off x="457200" y="4800600"/>
            <a:ext cx="1981080" cy="1066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8600" y="19051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429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905120"/>
            <a:ext cx="7772400" cy="60948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r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651040"/>
            <a:ext cx="7772400" cy="60984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97320"/>
            <a:ext cx="7772400" cy="60948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4145040"/>
            <a:ext cx="7772400" cy="609480"/>
          </a:xfrm>
          <a:prstGeom prst="rect">
            <a:avLst/>
          </a:prstGeom>
          <a:solidFill>
            <a:srgbClr val="008000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890960"/>
            <a:ext cx="7772400" cy="60984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stions &amp;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or Profile - Conserva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828800"/>
            <a:ext cx="746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: Profile – Conserv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2665440"/>
            <a:ext cx="81532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or Profile - Conserva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371600"/>
            <a:ext cx="746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Portfolio - Si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1947960"/>
            <a:ext cx="769644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or Profile – Speculative Grow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828800"/>
            <a:ext cx="746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: Profile – Specula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06640" y="2394000"/>
            <a:ext cx="689436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or Profile – Speculative Growth - Simu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371600"/>
            <a:ext cx="746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Portfol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3520" y="1871640"/>
            <a:ext cx="769608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or Profile – Speculative Grow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523880"/>
            <a:ext cx="746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: Profile – Specula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2122560"/>
            <a:ext cx="822960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or Profile – Speculative Growth - Simu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371600"/>
            <a:ext cx="746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Portfol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6675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38080" y="2971800"/>
            <a:ext cx="7239240" cy="1311120"/>
          </a:xfrm>
          <a:prstGeom prst="rect">
            <a:avLst/>
          </a:prstGeom>
          <a:solidFill>
            <a:srgbClr val="008000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05120"/>
            <a:ext cx="7772400" cy="609480"/>
          </a:xfrm>
          <a:prstGeom prst="rect">
            <a:avLst/>
          </a:prstGeom>
          <a:solidFill>
            <a:srgbClr val="008000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r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651040"/>
            <a:ext cx="7772400" cy="60984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397320"/>
            <a:ext cx="7772400" cy="60948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145040"/>
            <a:ext cx="7772400" cy="60948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890960"/>
            <a:ext cx="7772400" cy="60984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stions &amp;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agerial Probl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1680" y="2076480"/>
            <a:ext cx="80010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 Zero wanted to implement a Web-Based portfolio optimizer to help its clients simulate the best Portfolio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rtfolio should be based on three po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would choose from a variety of 15 different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'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’ sources of 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the above criteria, the key objective is to identify the Allocation Portfolio that maximizes the returns and minimizes th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905120"/>
            <a:ext cx="7772400" cy="60948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r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651040"/>
            <a:ext cx="7772400" cy="609840"/>
          </a:xfrm>
          <a:prstGeom prst="rect">
            <a:avLst/>
          </a:prstGeom>
          <a:solidFill>
            <a:srgbClr val="008000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397320"/>
            <a:ext cx="7772400" cy="60948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145040"/>
            <a:ext cx="7772400" cy="60948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890960"/>
            <a:ext cx="7772400" cy="609840"/>
          </a:xfrm>
          <a:prstGeom prst="rect">
            <a:avLst/>
          </a:prstGeom>
          <a:solidFill>
            <a:srgbClr val="b2b2b2">
              <a:alpha val="85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stions &amp;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nalysis – Risk and Retur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600200"/>
            <a:ext cx="8001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MA collected data from the past 3 years on 15 different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tables summariz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cal resul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41360" y="3124080"/>
            <a:ext cx="6459480" cy="1378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82640" y="4648320"/>
            <a:ext cx="577872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nalysis – Risk and Retur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6002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the historical collected data, w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Crystal B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imulate the future returns and obtained the following risks and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49320" y="2813040"/>
            <a:ext cx="7245360" cy="1238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0022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nalysis – Investment Objectives &amp; Sources of Inco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600200"/>
            <a:ext cx="80010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which investment fitted best each client, RIMA developed questions to find customers’ pro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500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questions/options were given to the cli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038480"/>
            <a:ext cx="3429000" cy="1905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66640" indent="-27612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612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eculative 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612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ow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612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612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eservation of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estment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4038480"/>
            <a:ext cx="3429000" cy="1905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3880" indent="-33336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pital g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3336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vid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3336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mission, Bon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3336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33336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34290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of Inc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icient Frontier – Historical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1335240"/>
            <a:ext cx="8076960" cy="5522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400480" y="144792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storical Data considering the 15 as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icient Frontier – Simu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1752480"/>
            <a:ext cx="3505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00480" y="144792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ion considering the 15 as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86742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2:39:38Z</dcterms:created>
  <dc:creator>NYU-Stern</dc:creator>
  <dc:description/>
  <dc:language>en-US</dc:language>
  <cp:lastModifiedBy>Rodrigo Esteves</cp:lastModifiedBy>
  <dcterms:modified xsi:type="dcterms:W3CDTF">2004-05-03T18:18:00Z</dcterms:modified>
  <cp:revision>182</cp:revision>
  <dc:subject/>
  <dc:title>Decision Models - Portfolio Allo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23904027</vt:r8>
  </property>
  <property fmtid="{D5CDD505-2E9C-101B-9397-08002B2CF9AE}" pid="3" name="_AuthorEmail">
    <vt:lpwstr>ntb210@stern.nyu.edu</vt:lpwstr>
  </property>
  <property fmtid="{D5CDD505-2E9C-101B-9397-08002B2CF9AE}" pid="4" name="_AuthorEmailDisplayName">
    <vt:lpwstr>Nilton Bastos</vt:lpwstr>
  </property>
  <property fmtid="{D5CDD505-2E9C-101B-9397-08002B2CF9AE}" pid="5" name="_EmailSubject">
    <vt:lpwstr>status Quo slide</vt:lpwstr>
  </property>
  <property fmtid="{D5CDD505-2E9C-101B-9397-08002B2CF9AE}" pid="6" name="_ReviewingToolsShownOnce">
    <vt:lpwstr/>
  </property>
</Properties>
</file>