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EC9E-CC79-4656-BC05-363D04273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 trial to see how many points each line-up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o score &gt; Enemy Score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o score &lt; Enemy score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 ~ 200/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y ~300/7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imulated a thousand trials to identify the likely outcome of the head-to-head competition. For the simulation there are three teams to consider, Team Hero, Team Enemy and Team Theory. Hero and Enemy are actual selected rosters from the 2002-2003 NFL sea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describes the likely scoring outcomes based on a series of confidence intervals. Based on this analysis there is little chance that the Enemy will prev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client is the prize/p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ior technology is player ro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venture is the same as splitting the 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analysis of this scenario is contemplating the expected value if our Hero provided the Enemy a counter offer. Using solver we determined the minimum Hero could accep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not playing has the same expected value as cheating, our Hero should decline the deal and confront the Ene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136A-F5BF-4E1C-BBDE-ECA51DAD5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ECB2-5A48-4927-85C5-23F7922DE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E8A3-FBEF-45EC-90F2-2AFE00CC9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1455-D1A2-4215-9AC9-AFB7245BB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766880" y="18684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C4E3B-9D98-4438-874C-DFD7C2F5C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DB25A-E459-4720-8AC1-3D78EB481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707EA-2D2C-4B95-877E-8A8F73852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8D2BC-23F4-40CC-8319-D7D812A2A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66880" y="18684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8D0E-58F0-4CAE-8DD1-184EC1A38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0458-0798-4EB2-80A7-5DC29A3F0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F6AE-17CE-4613-B3CC-4FB5B9E86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54752-14AA-4E58-9A5E-8D5DC5FAD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2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20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2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>
              <a:spcBef>
                <a:spcPts val="2001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>
              <a:spcBef>
                <a:spcPts val="2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>
              <a:spcBef>
                <a:spcPts val="2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64520" y="6391440"/>
            <a:ext cx="538920" cy="323280"/>
          </a:xfrm>
          <a:prstGeom prst="rect">
            <a:avLst/>
          </a:prstGeom>
          <a:noFill/>
          <a:ln w="9360">
            <a:solidFill>
              <a:srgbClr val="dbbd71"/>
            </a:solidFill>
            <a:miter/>
          </a:ln>
        </p:spPr>
        <p:txBody>
          <a:bodyPr lIns="90000" rIns="90000" tIns="91440" bIns="9144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1B66-9B47-43FB-83E5-C581747158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6320" y="69840"/>
            <a:ext cx="1676160" cy="1378080"/>
          </a:xfrm>
          <a:prstGeom prst="rect">
            <a:avLst/>
          </a:prstGeom>
          <a:ln w="19080">
            <a:solidFill>
              <a:srgbClr val="dbbd71"/>
            </a:solidFill>
            <a:miter/>
          </a:ln>
        </p:spPr>
      </p:pic>
      <p:sp>
        <p:nvSpPr>
          <p:cNvPr id="4" name=""/>
          <p:cNvSpPr/>
          <p:nvPr/>
        </p:nvSpPr>
        <p:spPr>
          <a:xfrm>
            <a:off x="0" y="6553080"/>
            <a:ext cx="8153280" cy="0"/>
          </a:xfrm>
          <a:prstGeom prst="line">
            <a:avLst/>
          </a:prstGeom>
          <a:ln w="9360">
            <a:solidFill>
              <a:srgbClr val="dbb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30660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 Black"/>
              </a:rPr>
              <a:t>Fantasy Football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 Black"/>
              </a:rPr>
              <a:t>and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 Black"/>
              </a:rPr>
              <a:t>Competitive Advantage</a:t>
            </a:r>
            <a:endParaRPr b="0" lang="en-US" sz="40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shid Cur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llya Ger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sa Ker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shua Plum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3,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Scoring Distributions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2084400"/>
            <a:ext cx="4038480" cy="2440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48320" y="3303720"/>
            <a:ext cx="4038480" cy="2439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488240" y="171756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am Hero - Ac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8640" y="293688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am Enemy - Ac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91920" y="187200"/>
            <a:ext cx="16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A8C6-7539-4050-9C8A-34411444E3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Forecasted Winning Percentage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2240" y="2359080"/>
            <a:ext cx="4222440" cy="2550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48320" y="3303720"/>
            <a:ext cx="4222800" cy="2550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413720" y="171756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o vs. Ene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ctual Lineup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25160" y="266220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o vs. Enem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Theoretical Be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91920" y="187200"/>
            <a:ext cx="16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ECC03-F76E-40A8-A10A-16B7ED0E6B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72960" y="1795320"/>
            <a:ext cx="8494920" cy="4335480"/>
          </a:xfrm>
          <a:prstGeom prst="rect">
            <a:avLst/>
          </a:pr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Descriptive Statistics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58840" y="1652760"/>
          <a:ext cx="8494560" cy="4335120"/>
        </p:xfrm>
        <a:graphic>
          <a:graphicData uri="http://schemas.openxmlformats.org/drawingml/2006/table">
            <a:tbl>
              <a:tblPr/>
              <a:tblGrid>
                <a:gridCol w="1925640"/>
                <a:gridCol w="1030320"/>
                <a:gridCol w="955440"/>
                <a:gridCol w="1016280"/>
                <a:gridCol w="1089000"/>
                <a:gridCol w="969840"/>
                <a:gridCol w="1508040"/>
              </a:tblGrid>
              <a:tr h="40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Statistic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Theoretical Enem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Actual Enem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Actual He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Theoretical He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Wi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Win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(Act vs. Theo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Tria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Me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20.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16.8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38.4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37.7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7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7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Medi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20.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16.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39.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37.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Mod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Standard Devi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23.4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9.4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20.7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22.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4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4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Varianc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551.8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378.7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429.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496.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Skewnes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-0.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-0.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-1.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-0.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Kurtosi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3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3.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3.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2.9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2.8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.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Coeff. of Variabil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Range Minimu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48.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53.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72.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69.3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Range Maximu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98.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96.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208.4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209.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Range Widt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50.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43.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35.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39.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06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Mean Std. Erro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7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6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7246440" y="1872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DFEFF-51B1-45F3-8FB5-231B33C9E2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Selection Bias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14400" y="1647720"/>
            <a:ext cx="6818400" cy="4635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131" name=""/>
          <p:cNvSpPr/>
          <p:nvPr/>
        </p:nvSpPr>
        <p:spPr>
          <a:xfrm>
            <a:off x="7246440" y="1872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52A5-D0D6-4DE3-B669-C8DBA43D5E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Real World Example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o and Enemy are rival companies soliciting a new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o has superior technology and most likely to win con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my approached Hero to enter a joint venture to win con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hould Hero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47160" y="18720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F77B-AE32-4695-8274-5128110AD9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Counter Offer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Simulation, Probability of Winning = 78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sponding Expected Value of Playing = $25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eroffer Limit (Hero’s Portion) = $2,5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29320" y="1600200"/>
            <a:ext cx="3895560" cy="248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8a500">
                <a:alpha val="50000"/>
              </a:srgbClr>
            </a:outerShdw>
          </a:effectLst>
        </p:spPr>
      </p:pic>
      <p:sp>
        <p:nvSpPr>
          <p:cNvPr id="138" name=""/>
          <p:cNvSpPr/>
          <p:nvPr/>
        </p:nvSpPr>
        <p:spPr>
          <a:xfrm>
            <a:off x="7247160" y="18720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D985-3C03-4D66-9D01-8BD1B57C36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Final Analysis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7040" y="1884240"/>
            <a:ext cx="8723520" cy="3478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247160" y="18720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6C90-12B8-45C2-84C1-0728FCC53D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Into the sunset …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really happen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Hero declined the d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n the purse - $3,000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nt the proceeds on undisclosed activities in Las Ve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questions (unrelated to Las Veg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D039-F054-4B9B-9053-DD14BA2162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rial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D437-98A8-434D-BE5F-4217C02231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Art of the Deal”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antasy football tournament is coming to completion with two rosters about to “compete” for the champ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 H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 Ene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ach Enemy approaches Coach Hero about foregoing the championship round and splitting the purse 50/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99280" y="187200"/>
            <a:ext cx="23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RIAL PROBL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C01C-53B7-4888-A4BD-4AB5444DBD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Quick Explanation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l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team has 16 players from any te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ing lineup consists of 9 play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ing lineup can change every week, and must have the following posi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QB, 2 RB, 3 WR, 1 TE, 1 PK, 1 Def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r Season weeks 1-14, Week 15  - top 4 records play, winners meet in Week 16 for the title (highest head-head score is the winner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99280" y="187200"/>
            <a:ext cx="23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RIAL PROBL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8C00-35A9-43EC-A0B5-C8ACFDF7D7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Show Me the Money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Purs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$4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eds from Playing and Winn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$3,0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eds from Taking the Deal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$2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eds from Playing and Los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$1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99280" y="187200"/>
            <a:ext cx="23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RIAL PROBL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917F1-3D25-4D95-BF42-89E9817849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21 Questions”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hould our Hero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expected value of this decis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probability of win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next best alternat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99280" y="187200"/>
            <a:ext cx="23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RIAL PROBL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583F7-D14D-403E-85F5-FC46BCE564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Problem Definition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ize Team Hero income by competing in the fantasy football tourna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production of selected ro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covariance among p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roster is available to play for the champion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04640" y="187200"/>
            <a:ext cx="19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OMMEND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2228-66AB-4EF0-A4F9-F2F2FF96BB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Breakeven Analysis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 Hero should decline the deal and 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ability of Winning = 5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pected Value of Playing to Equal Value of Not Pla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63960" y="1600200"/>
            <a:ext cx="3760920" cy="2411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8a500">
                <a:alpha val="50000"/>
              </a:srgbClr>
            </a:outerShdw>
          </a:effectLst>
        </p:spPr>
      </p:pic>
      <p:sp>
        <p:nvSpPr>
          <p:cNvPr id="109" name=""/>
          <p:cNvSpPr/>
          <p:nvPr/>
        </p:nvSpPr>
        <p:spPr>
          <a:xfrm>
            <a:off x="6704640" y="187200"/>
            <a:ext cx="19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OMMEND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3935-5025-48E0-9D9E-5F2055BCB9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All the King’s Men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936800"/>
            <a:ext cx="8229600" cy="38559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3300">
                <a:alpha val="50000"/>
              </a:srgbClr>
            </a:outerShdw>
          </a:effectLst>
        </p:spPr>
      </p:pic>
      <p:sp>
        <p:nvSpPr>
          <p:cNvPr id="112" name=""/>
          <p:cNvSpPr/>
          <p:nvPr/>
        </p:nvSpPr>
        <p:spPr>
          <a:xfrm>
            <a:off x="6991920" y="187200"/>
            <a:ext cx="16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6E8D-A77F-4D43-839E-9D7FCBF62F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4:48:43Z</dcterms:created>
  <dc:creator>Theresa Kerr </dc:creator>
  <dc:description/>
  <dc:language>en-US</dc:language>
  <cp:lastModifiedBy>baseuser</cp:lastModifiedBy>
  <dcterms:modified xsi:type="dcterms:W3CDTF">2004-05-02T19:32:29Z</dcterms:modified>
  <cp:revision>25</cp:revision>
  <dc:subject/>
  <dc:title>Fantasy Football</dc:title>
</cp:coreProperties>
</file>