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000A-455F-443C-806C-39CEDCBF3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trial to see how many points each line-up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o score &gt; Enemy Score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o score &lt; Enemy score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 ~ 200/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 ~300/7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imulated a thousand trials to identify the likely outcome of the head-to-head competition. For the simulation there are three teams to consider, Team Hero, Team Enemy and Team Theory. Hero and Enemy are actual selected rosters from the 2002-2003 NFL se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describes the likely scoring outcomes based on a series of confidence intervals. Based on this analysis there is little chance that the Enemy will prev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lient is the prize/p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technology is player ro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venture is the same as splitting the 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analysis of this scenario is contemplating the expected value if our Hero provided the Enemy a counter offer. Using solver we determined the minimum Hero could accep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not playing has the same expected value as cheating, our Hero should decline the deal and confront the En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C9BD-F23E-4B70-A219-D2566A537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BDEF-42A5-43F9-8FB3-99E7ECE6E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EF8C-76F6-45C1-8C2F-038AA9E48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EAC3-741B-4201-B579-A81249808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66880" y="1868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7277-1550-4822-AB91-2F1E833C8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F9D9-1224-45EE-8B7E-77E7C34E3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7EB3-F90C-4049-BF9D-D2CB65BC4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9E6A-B07C-42D3-91D9-D1A8BFC58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6880" y="1868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ECDA-E5F8-43A0-A4A1-E89663A98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0462-EAB0-4ECF-91E9-AEB2E4488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720E-5F05-4377-B533-6D1578571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90C8-C63C-467E-B088-7C2BCBC0E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2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20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2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2001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2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2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64520" y="6391440"/>
            <a:ext cx="538920" cy="323280"/>
          </a:xfrm>
          <a:prstGeom prst="rect">
            <a:avLst/>
          </a:prstGeom>
          <a:noFill/>
          <a:ln w="9360">
            <a:solidFill>
              <a:srgbClr val="dbbd71"/>
            </a:solidFill>
            <a:miter/>
          </a:ln>
        </p:spPr>
        <p:txBody>
          <a:bodyPr lIns="90000" rIns="90000" tIns="91440" bIns="9144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AA8F-7E07-421C-8E18-4F203A1D0C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320" y="69840"/>
            <a:ext cx="1676160" cy="1378080"/>
          </a:xfrm>
          <a:prstGeom prst="rect">
            <a:avLst/>
          </a:prstGeom>
          <a:ln w="19080">
            <a:solidFill>
              <a:srgbClr val="dbbd71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0" y="6553080"/>
            <a:ext cx="8153280" cy="0"/>
          </a:xfrm>
          <a:prstGeom prst="line">
            <a:avLst/>
          </a:prstGeom>
          <a:ln w="936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30660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 Black"/>
              </a:rPr>
              <a:t>Fantasy Football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 Black"/>
              </a:rPr>
              <a:t>and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 Black"/>
              </a:rPr>
              <a:t>Competitive Advantage</a:t>
            </a:r>
            <a:endParaRPr b="0" lang="en-US" sz="40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shid Cur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llya Ger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sa Ker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shua Plum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,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Scoring Distributions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2084400"/>
            <a:ext cx="4038480" cy="2440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8320" y="3303720"/>
            <a:ext cx="4038480" cy="2439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88240" y="171756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 Hero - Ac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8640" y="293688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 Enemy - Ac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91920" y="18720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86DA-00D3-4B38-B016-D24180EFBC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Forecasted Winning Percentage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2240" y="2359080"/>
            <a:ext cx="4222440" cy="2550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8320" y="3303720"/>
            <a:ext cx="4222800" cy="2550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13720" y="171756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o vs. Ene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ctual Lineup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25160" y="266220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o vs. Enem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Theoretical Be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91920" y="18720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3667-8160-4B46-AE8B-218F8218B8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72960" y="1795320"/>
            <a:ext cx="8494920" cy="4335480"/>
          </a:xfrm>
          <a:prstGeom prst="rect">
            <a:avLst/>
          </a:pr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Descriptive Statistics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8840" y="1652760"/>
          <a:ext cx="8494560" cy="4335120"/>
        </p:xfrm>
        <a:graphic>
          <a:graphicData uri="http://schemas.openxmlformats.org/drawingml/2006/table">
            <a:tbl>
              <a:tblPr/>
              <a:tblGrid>
                <a:gridCol w="1925640"/>
                <a:gridCol w="1030320"/>
                <a:gridCol w="955440"/>
                <a:gridCol w="1016280"/>
                <a:gridCol w="1089000"/>
                <a:gridCol w="969840"/>
                <a:gridCol w="1508040"/>
              </a:tblGrid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Statistic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Theoretical Enem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Actual Enem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Actual He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Theoretical He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Wi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Win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(Act vs. Theo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Tria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Me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20.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16.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38.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37.7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7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7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Medi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20.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16.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39.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37.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Mod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Standard Devi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23.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9.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20.7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22.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4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Varian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551.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378.7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429.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496.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Skewnes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-0.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-1.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-0.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Kurtos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3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3.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3.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2.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2.8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Coeff. of Var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Range Minim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48.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53.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72.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69.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Range Maxim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98.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96.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208.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209.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Range Widt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50.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43.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35.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39.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6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Mean Std. Erro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7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6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MS Sans Serif"/>
                          <a:ea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7246440" y="1872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9CC9-C47E-4F66-98C1-16E50E55A1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Selection Bias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4400" y="1647720"/>
            <a:ext cx="6818400" cy="4635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31" name=""/>
          <p:cNvSpPr/>
          <p:nvPr/>
        </p:nvSpPr>
        <p:spPr>
          <a:xfrm>
            <a:off x="7246440" y="1872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8314-BDB0-493C-B03B-01DD5E0783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Real World Example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 and Enemy are rival companies soliciting a new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 has superior technology and most likely to win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my approached Hero to enter a joint venture to win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hould Hero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47160" y="18720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1344-5F74-4B6B-94A9-22ED72B432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Counter Offer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Simulation, Probability of Winning = 78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sponding Expected Value of Playing = $25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eroffer Limit (Hero’s Portion) = $2,5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9320" y="1600200"/>
            <a:ext cx="3895560" cy="248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8a500">
                <a:alpha val="50000"/>
              </a:srgbClr>
            </a:outerShdw>
          </a:effectLst>
        </p:spPr>
      </p:pic>
      <p:sp>
        <p:nvSpPr>
          <p:cNvPr id="138" name=""/>
          <p:cNvSpPr/>
          <p:nvPr/>
        </p:nvSpPr>
        <p:spPr>
          <a:xfrm>
            <a:off x="7247160" y="18720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7340-A53E-44AD-8DE0-139CB50824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Final Analysis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7040" y="1884240"/>
            <a:ext cx="8723520" cy="3478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247160" y="18720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1AC0-46FD-409A-AF09-6342E588D9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Into the sunset …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ally happe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Hero declined the d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 the purse - $3,000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the proceeds on undisclosed activities in Las Ve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questions (unrelated to Las Veg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3A04-ADBA-42D0-9628-7FF8020B90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3EFB-BF25-4380-A574-13AAAB6C67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Art of the Deal”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antasy football tournament is coming to completion with two rosters about to “compete” for the champ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 H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 Ene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ch Enemy approaches Coach Hero about foregoing the championship round and splitting the purse 50/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99280" y="187200"/>
            <a:ext cx="23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631E-7236-4C8F-BF17-FDAF92884C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Quick Explanation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l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team has 16 players from any te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ing lineup consists of 9 play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ing lineup can change every week, and must have the following posi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QB, 2 RB, 3 WR, 1 TE, 1 PK, 1 Def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Season weeks 1-14, Week 15  - top 4 records play, winners meet in Week 16 for the title (highest head-head score is the winne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99280" y="187200"/>
            <a:ext cx="23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4C03-1264-4210-9A5F-78CBDCDDA7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Show Me the Money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Purs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$4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eds from Playing and Winn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$3,0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eds from Taking the Dea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$2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eds from Playing and Los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$1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99280" y="187200"/>
            <a:ext cx="23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E450-F6C9-42CC-BD56-F9B2B4F40C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21 Questions”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hould our Hero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expected value of this deci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probability of wi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next best alternat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99280" y="187200"/>
            <a:ext cx="23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0947-09FE-45A2-BBAD-BDBFE10CE3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Problem Definition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 Team Hero income by competing in the fantasy football tourn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production of selected ro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ovariance among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roster is available to play for the champion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4640" y="18720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4FAA-91F6-4545-B5B1-FD4B5E7B6B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Breakeven Analysis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 Hero should decline the deal and 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ability of Winning = 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pected Value of Playing to Equal Value of Not Pla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63960" y="1600200"/>
            <a:ext cx="3760920" cy="241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8a500">
                <a:alpha val="50000"/>
              </a:srgbClr>
            </a:outerShdw>
          </a:effectLst>
        </p:spPr>
      </p:pic>
      <p:sp>
        <p:nvSpPr>
          <p:cNvPr id="109" name=""/>
          <p:cNvSpPr/>
          <p:nvPr/>
        </p:nvSpPr>
        <p:spPr>
          <a:xfrm>
            <a:off x="6704640" y="18720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9277-2E5E-4B71-9269-6322BD8C71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6880" y="18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 Black"/>
              </a:rPr>
              <a:t>All the King’s Men</a:t>
            </a:r>
            <a:endParaRPr b="0" lang="en-US" sz="3200" spc="-1" strike="noStrike">
              <a:solidFill>
                <a:srgbClr val="dbbd71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936800"/>
            <a:ext cx="8229600" cy="38559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663300">
                <a:alpha val="50000"/>
              </a:srgbClr>
            </a:outerShdw>
          </a:effectLst>
        </p:spPr>
      </p:pic>
      <p:sp>
        <p:nvSpPr>
          <p:cNvPr id="112" name=""/>
          <p:cNvSpPr/>
          <p:nvPr/>
        </p:nvSpPr>
        <p:spPr>
          <a:xfrm>
            <a:off x="6991920" y="18720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825A-2604-4EDE-A023-177123FE67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4:48:43Z</dcterms:created>
  <dc:creator>Theresa Kerr </dc:creator>
  <dc:description/>
  <dc:language>en-US</dc:language>
  <cp:lastModifiedBy>baseuser</cp:lastModifiedBy>
  <dcterms:modified xsi:type="dcterms:W3CDTF">2004-05-02T19:32:29Z</dcterms:modified>
  <cp:revision>25</cp:revision>
  <dc:subject/>
  <dc:title>Fantasy Football</dc:title>
</cp:coreProperties>
</file>