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362-5435-4CAB-A109-DB28A02D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341-08F1-4713-B997-3150B66B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DD7-2AC1-4D76-BD0E-EB68A592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04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96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04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33196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0B9-09F9-422E-A71D-8BB9DE32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A2EC-87E7-493C-B637-AA84A114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870A-0687-48BF-B91B-EA12D766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2BD0-DA88-4242-A565-CDFFFEF0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F15A-4BEA-4B05-8FA4-7E3EC8CE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4A1C-B183-420C-BAFB-98795BA5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B5D6-4BF1-41D6-A092-8A9F3426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51D9-759D-494B-A024-B3F77EF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9E3-015C-4CF2-9A35-D73A8251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1CBE-961D-4226-8676-1193930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5219-7EDD-471B-A240-32827F47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33D7-B50C-4AC6-B4B7-D36AB78E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C505-ED9B-40D9-A08E-F7E9935D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70432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196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70432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3196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86BE-2FBE-4386-BAE5-F6915F4F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D2A-97E2-4C03-A44D-D730269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3FC-5605-4F19-AF44-29FE2D49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3C4-A937-415A-9B84-CF537C7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65D-A92F-4FD5-8237-CCBB2A7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D0D-0577-401A-A247-0C117DF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590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589-0A84-452B-BC96-03444B2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590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148-009D-4748-AF3D-2443B2C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483c0"/>
                </a:gs>
                <a:gs pos="100000">
                  <a:srgbClr val="003399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0046-0487-4F8D-BC2A-C49D3B68C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990720"/>
            <a:ext cx="464832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1066680"/>
            <a:ext cx="464832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4469b3"/>
                </a:gs>
                <a:gs pos="100000">
                  <a:srgbClr val="00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D38E-DFEB-4ADA-AC73-23D937600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Costa+Rica/v=2/SID=e/l=II/R=18/*-http://images.search.yahoo.com/search/images/view?back=http%3A//images.search.yahoo.com/search/images%3Fp=Costa%2BRica&amp;h=648&amp;w=434&amp;imgcurl=www.goldbergmcduffie.com/projects/letsgo/costa%2520rica.jpg&amp;imgurl=www.goldbergmcduffie.com/projects/letsgo/costa%2520rica.jpg&amp;name=%3Cb%3Ecosta%3C/b%3E+%3Cb%3Erica%3C/b%3E.jpg&amp;p=Costa+Rica&amp;rurl=http%3A//www.goldbergmcduffie.com/projects/letsgo/jacket_letsgo.html&amp;rcurl=http%3A//www.goldbergmcduffie.com/projects/letsgo/jacket_letsgo.html&amp;type=&amp;no=18&amp;tt=203,00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648320"/>
            <a:ext cx="1351080" cy="200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san"/>
          <p:cNvPicPr/>
          <p:nvPr/>
        </p:nvPicPr>
        <p:blipFill>
          <a:blip r:embed="rId3"/>
          <a:stretch/>
        </p:blipFill>
        <p:spPr>
          <a:xfrm>
            <a:off x="228600" y="5029200"/>
            <a:ext cx="2743200" cy="1660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5640" y="-2286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icking a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ost-Graduate Vac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514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lini Am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dy Echeverr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bbie Le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liana Sirotzk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" descr="kaanapali1.jpg (13264 bytes)"/>
          <p:cNvPicPr/>
          <p:nvPr/>
        </p:nvPicPr>
        <p:blipFill>
          <a:blip r:embed="rId4"/>
          <a:stretch/>
        </p:blipFill>
        <p:spPr>
          <a:xfrm>
            <a:off x="1295280" y="3352680"/>
            <a:ext cx="2438640" cy="1830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52280" y="2057400"/>
            <a:ext cx="16639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nhancements &amp; Limita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6232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tion doesn’t take into account all the other activities that are avail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c time perio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to the four frie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3880"/>
            <a:ext cx="2514600" cy="1981440"/>
          </a:xfrm>
          <a:prstGeom prst="rect">
            <a:avLst/>
          </a:prstGeom>
          <a:gradFill rotWithShape="0">
            <a:gsLst>
              <a:gs pos="0">
                <a:srgbClr val="a5b7da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038480"/>
            <a:ext cx="2514600" cy="1981440"/>
          </a:xfrm>
          <a:prstGeom prst="rect">
            <a:avLst/>
          </a:prstGeom>
          <a:gradFill rotWithShape="0">
            <a:gsLst>
              <a:gs pos="0">
                <a:srgbClr val="a5b7da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0968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72428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3716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more locations and preferen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reak-out options into more detai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(i.e. amount spe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ckage location with all activities and cos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7480" indent="-102600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utility require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ot everyone’s personal utility is maximized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Q&amp;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del Inpu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nhancements &amp; Limita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robl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752480"/>
            <a:ext cx="8001000" cy="144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124080"/>
            <a:ext cx="8001000" cy="1447920"/>
          </a:xfrm>
          <a:prstGeom prst="rect">
            <a:avLst/>
          </a:prstGeom>
          <a:solidFill>
            <a:srgbClr val="0033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495680"/>
            <a:ext cx="8001000" cy="1447920"/>
          </a:xfrm>
          <a:prstGeom prst="rect">
            <a:avLst/>
          </a:prstGeom>
          <a:solidFill>
            <a:srgbClr val="00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friends want to go on vacation together after they graduate from Stern…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ant to go away together and have managed to narrow their locations to four option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given they have different preferences, how do they find common ground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olution… A decision model!!!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48769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ile satisfying personal preferenc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d maximizing vacation requireme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 well as estimating desired spend lev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219320"/>
            <a:ext cx="3733560" cy="365760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e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905120"/>
            <a:ext cx="3276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se a model that will maximize total group u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odel Inputs…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600200"/>
          <a:ext cx="8534520" cy="4038480"/>
        </p:xfrm>
        <a:graphic>
          <a:graphicData uri="http://schemas.openxmlformats.org/drawingml/2006/table">
            <a:tbl>
              <a:tblPr/>
              <a:tblGrid>
                <a:gridCol w="1973160"/>
                <a:gridCol w="1836720"/>
                <a:gridCol w="1741680"/>
                <a:gridCol w="1492200"/>
                <a:gridCol w="1490760"/>
              </a:tblGrid>
              <a:tr h="100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red Sp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f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irline Mi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30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an Francis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ha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&lt;$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$1,000-$1,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$1,750-$2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&gt;$2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ea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Gambl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i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seums Shop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Water Sports Wine Tas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meric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tin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Un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648320" cy="548640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ser Inpu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09720" y="228600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Amount spen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ype of activi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Frequent flyer mil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ength of tri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367160" cy="525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52880" y="1143000"/>
            <a:ext cx="381240" cy="5486400"/>
          </a:xfrm>
          <a:custGeom>
            <a:avLst/>
            <a:gdLst>
              <a:gd name="textAreaLeft" fmla="*/ 0 w 381240"/>
              <a:gd name="textAreaRight" fmla="*/ 137520 w 38124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3880"/>
            <a:ext cx="9144000" cy="42674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ur model: Conjoint Analysi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906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7120" y="5302080"/>
            <a:ext cx="1981080" cy="1371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4343400" cy="3962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ur constra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810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locations…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 not meet activity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visited for short time perio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quire a minimum spend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064040" cy="3686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53080" y="5378400"/>
            <a:ext cx="1832040" cy="1403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71600" y="548640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itionally, the sum of binary scores for the respective inputs had to equal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olver Set-up and Observa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5715000" cy="3216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2819520"/>
            <a:ext cx="3504960" cy="298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320" y="2590920"/>
            <a:ext cx="1828800" cy="182880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4724280"/>
            <a:ext cx="1828800" cy="45720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6T13:35:02Z</dcterms:created>
  <dc:creator>Stern School of Business</dc:creator>
  <dc:description/>
  <dc:language>en-US</dc:language>
  <cp:lastModifiedBy>Prashun</cp:lastModifiedBy>
  <cp:lastPrinted>2000-09-27T15:49:02Z</cp:lastPrinted>
  <dcterms:modified xsi:type="dcterms:W3CDTF">2004-04-24T22:17:16Z</dcterms:modified>
  <cp:revision>51</cp:revision>
  <dc:subject/>
  <dc:title>Why consistenc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3250448</vt:r8>
  </property>
  <property fmtid="{D5CDD505-2E9C-101B-9397-08002B2CF9AE}" pid="3" name="_AuthorEmail">
    <vt:lpwstr>del241@stern.nyu.edu</vt:lpwstr>
  </property>
  <property fmtid="{D5CDD505-2E9C-101B-9397-08002B2CF9AE}" pid="4" name="_AuthorEmailDisplayName">
    <vt:lpwstr>Debbie Lee</vt:lpwstr>
  </property>
  <property fmtid="{D5CDD505-2E9C-101B-9397-08002B2CF9AE}" pid="5" name="_EmailSubject">
    <vt:lpwstr>Final Project_Vacation.ppt</vt:lpwstr>
  </property>
  <property fmtid="{D5CDD505-2E9C-101B-9397-08002B2CF9AE}" pid="6" name="_ReviewingToolsShownOnce">
    <vt:lpwstr/>
  </property>
</Properties>
</file>