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2.jpeg" ContentType="image/jpeg"/>
  <Override PartName="/ppt/media/image28.jpeg" ContentType="image/jpeg"/>
  <Override PartName="/ppt/media/image3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33.wmf" ContentType="image/x-wmf"/>
  <Override PartName="/ppt/media/image29.jpeg" ContentType="image/jpeg"/>
  <Override PartName="/ppt/media/image13.jpeg" ContentType="image/jpeg"/>
  <Override PartName="/ppt/media/image16.jpeg" ContentType="image/jpeg"/>
  <Override PartName="/ppt/media/image35.wmf" ContentType="image/x-wmf"/>
  <Override PartName="/ppt/media/image30.jpeg" ContentType="image/jpeg"/>
  <Override PartName="/ppt/media/image37.wmf" ContentType="image/x-wmf"/>
  <Override PartName="/ppt/media/image34.wmf" ContentType="image/x-wmf"/>
  <Override PartName="/ppt/media/image36.wmf" ContentType="image/x-wmf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2513-4357-4894-9247-90504C1E2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ode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. Use Prof. Juran as guinea pig (ID 3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b. Jacky – ID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how Model 1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Review Model 1 Poi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xplain solver table constrain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ew non-solver solution using Data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. Show data tabl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Model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a. Purpose of Model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b. Structure  of Model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c. Solver Unable to solve model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2 of model 1 – dat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y &amp; Valia – both married and having an affai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 &amp; Jen – both significant others..having an aff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a&amp;rodrigo – both  m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e has Adam, but Adam wants Debbie..Asli want Guillaume, but so do two other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1 – data table – print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B506-079B-4C56-9C4F-46C25252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7578-ABD1-4C7A-861A-75EEFC4D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AD9A-399F-49C0-95ED-610806695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B182-1E45-46C8-969C-B559191B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99FC-3622-4D76-8A90-E4C9C82B0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4B81-BD24-4DC5-A8AC-4EC17071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E0FC-1886-4082-9314-45E0C75B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8ED4-166D-4ECF-B6F0-1618A47D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1021-61C3-4424-9AE2-10B8EF9A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9EFD-A348-4F26-93D6-1461D543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E28E-AE61-4DEA-BD97-C4F2EEDE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5056-C4CD-4155-B1EE-E47CEAD0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F89E-832E-4AF5-8DE0-667E8D89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6EBA-FB99-46A2-97FD-EA76363D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B685-949D-45B7-8FFC-3BC36739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A160-F77B-4A3D-A85B-29F16C22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9799-1A39-43C5-8DD0-90C1A71A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21A0-4AD7-44AD-BA25-DBD99C27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5E15C-252B-4295-A7C4-D5F4F11E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6044-84F0-4010-8478-3E19400A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2F20-62F7-4DD3-BE6F-403692DE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E882-BE77-4273-92B8-39BEFDF5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D84C-0A04-432A-AD69-4B690D91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6A39-4AE0-4C4D-B534-86D17B1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D63F-8E07-49DD-B9D8-2CF0B5006B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8843-A930-4C6C-870F-E225B6F8B4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image" Target="../media/image18.jpeg"/><Relationship Id="rId16" Type="http://schemas.openxmlformats.org/officeDocument/2006/relationships/image" Target="../media/image19.jpeg"/><Relationship Id="rId17" Type="http://schemas.openxmlformats.org/officeDocument/2006/relationships/image" Target="../media/image20.jpeg"/><Relationship Id="rId18" Type="http://schemas.openxmlformats.org/officeDocument/2006/relationships/image" Target="../media/image21.jpeg"/><Relationship Id="rId19" Type="http://schemas.openxmlformats.org/officeDocument/2006/relationships/image" Target="../media/image22.jpeg"/><Relationship Id="rId20" Type="http://schemas.openxmlformats.org/officeDocument/2006/relationships/image" Target="../media/image23.jpeg"/><Relationship Id="rId21" Type="http://schemas.openxmlformats.org/officeDocument/2006/relationships/image" Target="../media/image24.jpeg"/><Relationship Id="rId22" Type="http://schemas.openxmlformats.org/officeDocument/2006/relationships/image" Target="../media/image25.jpeg"/><Relationship Id="rId23" Type="http://schemas.openxmlformats.org/officeDocument/2006/relationships/image" Target="../media/image26.jpeg"/><Relationship Id="rId24" Type="http://schemas.openxmlformats.org/officeDocument/2006/relationships/image" Target="../media/image27.jpeg"/><Relationship Id="rId25" Type="http://schemas.openxmlformats.org/officeDocument/2006/relationships/image" Target="../media/image28.jpeg"/><Relationship Id="rId2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9.jpeg"/><Relationship Id="rId3" Type="http://schemas.openxmlformats.org/officeDocument/2006/relationships/image" Target="../media/image7.jpeg"/><Relationship Id="rId4" Type="http://schemas.openxmlformats.org/officeDocument/2006/relationships/image" Target="../media/image22.jpeg"/><Relationship Id="rId5" Type="http://schemas.openxmlformats.org/officeDocument/2006/relationships/image" Target="../media/image20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52578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  <a:ea typeface="굴림"/>
              </a:rPr>
              <a:t>The Match Making Team…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dfdef6"/>
                </a:solidFill>
                <a:latin typeface="Arial"/>
                <a:ea typeface="굴림"/>
              </a:rPr>
              <a:t>FIND YOUR SOLE/SOUL MATE?!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McK Date"/>
          <p:cNvSpPr/>
          <p:nvPr/>
        </p:nvSpPr>
        <p:spPr>
          <a:xfrm>
            <a:off x="222120" y="5981760"/>
            <a:ext cx="19447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Times New Roman"/>
                <a:ea typeface="-윤명조140"/>
              </a:rPr>
              <a:t>Shelley Poniachek, Yael Rothschild, Aitan Weinbe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Times New Roman"/>
                <a:ea typeface="-윤명조140"/>
              </a:rPr>
              <a:t>April 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073240" y="2448000"/>
            <a:ext cx="1190520" cy="16160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1303200" y="2376360"/>
            <a:ext cx="1182960" cy="160812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2241720" y="3110040"/>
            <a:ext cx="1190520" cy="16160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7734240" y="4626000"/>
            <a:ext cx="1181160" cy="16081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5"/>
          <a:stretch/>
        </p:blipFill>
        <p:spPr>
          <a:xfrm>
            <a:off x="6765840" y="566640"/>
            <a:ext cx="1173240" cy="16020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6"/>
          <a:stretch/>
        </p:blipFill>
        <p:spPr>
          <a:xfrm>
            <a:off x="873000" y="3924360"/>
            <a:ext cx="1185840" cy="16160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7"/>
          <a:stretch/>
        </p:blipFill>
        <p:spPr>
          <a:xfrm>
            <a:off x="3181320" y="2459160"/>
            <a:ext cx="1184400" cy="16002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8"/>
          <a:stretch/>
        </p:blipFill>
        <p:spPr>
          <a:xfrm>
            <a:off x="222120" y="2541600"/>
            <a:ext cx="1182960" cy="16081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9"/>
          <a:stretch/>
        </p:blipFill>
        <p:spPr>
          <a:xfrm>
            <a:off x="2921040" y="3911760"/>
            <a:ext cx="1190520" cy="161604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10"/>
          <a:stretch/>
        </p:blipFill>
        <p:spPr>
          <a:xfrm>
            <a:off x="6532560" y="4935600"/>
            <a:ext cx="1185840" cy="161604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1"/>
          <a:stretch/>
        </p:blipFill>
        <p:spPr>
          <a:xfrm>
            <a:off x="442800" y="3467160"/>
            <a:ext cx="1189080" cy="16174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2"/>
          <a:stretch/>
        </p:blipFill>
        <p:spPr>
          <a:xfrm>
            <a:off x="1760400" y="4241880"/>
            <a:ext cx="1189080" cy="161748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3"/>
          <a:stretch/>
        </p:blipFill>
        <p:spPr>
          <a:xfrm>
            <a:off x="5907240" y="1660680"/>
            <a:ext cx="1180800" cy="16063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4"/>
          <a:stretch/>
        </p:blipFill>
        <p:spPr>
          <a:xfrm>
            <a:off x="3129120" y="4629240"/>
            <a:ext cx="1180800" cy="160812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5"/>
          <a:stretch/>
        </p:blipFill>
        <p:spPr>
          <a:xfrm>
            <a:off x="3962520" y="3219480"/>
            <a:ext cx="1190520" cy="16160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6"/>
          <a:stretch/>
        </p:blipFill>
        <p:spPr>
          <a:xfrm>
            <a:off x="4419720" y="4770360"/>
            <a:ext cx="1189080" cy="16160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7"/>
          <a:stretch/>
        </p:blipFill>
        <p:spPr>
          <a:xfrm>
            <a:off x="5072040" y="3909960"/>
            <a:ext cx="1177920" cy="16081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8"/>
          <a:stretch/>
        </p:blipFill>
        <p:spPr>
          <a:xfrm>
            <a:off x="4562640" y="2639880"/>
            <a:ext cx="1177920" cy="16081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9"/>
          <a:stretch/>
        </p:blipFill>
        <p:spPr>
          <a:xfrm>
            <a:off x="5802480" y="4672080"/>
            <a:ext cx="1190520" cy="161604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0"/>
          <a:stretch/>
        </p:blipFill>
        <p:spPr>
          <a:xfrm>
            <a:off x="7184880" y="3649680"/>
            <a:ext cx="1189080" cy="161604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1"/>
          <a:stretch/>
        </p:blipFill>
        <p:spPr>
          <a:xfrm>
            <a:off x="6388200" y="3387600"/>
            <a:ext cx="1177920" cy="160812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2"/>
          <a:stretch/>
        </p:blipFill>
        <p:spPr>
          <a:xfrm>
            <a:off x="5502240" y="2944800"/>
            <a:ext cx="1114560" cy="15969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3"/>
          <a:stretch/>
        </p:blipFill>
        <p:spPr>
          <a:xfrm>
            <a:off x="7728120" y="2709720"/>
            <a:ext cx="1180800" cy="16066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4"/>
          <a:stretch/>
        </p:blipFill>
        <p:spPr>
          <a:xfrm>
            <a:off x="6961320" y="1630440"/>
            <a:ext cx="1145880" cy="16383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5"/>
          <a:stretch/>
        </p:blipFill>
        <p:spPr>
          <a:xfrm>
            <a:off x="7667640" y="1174680"/>
            <a:ext cx="118584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e found the reason for the 9am late arrival …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95440" y="1600200"/>
          <a:ext cx="3760560" cy="219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600200"/>
                    <a:ext cx="37605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9" name=""/>
          <p:cNvGraphicFramePr/>
          <p:nvPr/>
        </p:nvGraphicFramePr>
        <p:xfrm>
          <a:off x="595440" y="3943440"/>
          <a:ext cx="3760560" cy="2190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440" y="3943440"/>
                    <a:ext cx="37605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"/>
          <p:cNvGraphicFramePr/>
          <p:nvPr/>
        </p:nvGraphicFramePr>
        <p:xfrm>
          <a:off x="4786200" y="3943440"/>
          <a:ext cx="3760920" cy="219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6200" y="3943440"/>
                    <a:ext cx="376092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"/>
          <p:cNvSpPr/>
          <p:nvPr/>
        </p:nvSpPr>
        <p:spPr>
          <a:xfrm>
            <a:off x="4952880" y="1676520"/>
            <a:ext cx="3657600" cy="1828800"/>
          </a:xfrm>
          <a:prstGeom prst="cloudCallout">
            <a:avLst>
              <a:gd name="adj1" fmla="val -101648"/>
              <a:gd name="adj2" fmla="val 132291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0% of the 9am class students claim that they are a “night person”… solver found a solution.. most constrains were satisfied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733920" y="5943600"/>
            <a:ext cx="1371600" cy="533520"/>
          </a:xfrm>
          <a:prstGeom prst="wedgeRectCallout">
            <a:avLst>
              <a:gd name="adj1" fmla="val 137268"/>
              <a:gd name="adj2" fmla="val -7351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 consultant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72% are looking for someone similar!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4724280" y="4038480"/>
          <a:ext cx="37609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038480"/>
                    <a:ext cx="37609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609480" y="4038480"/>
          <a:ext cx="3760920" cy="2190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37609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595440" y="1600200"/>
          <a:ext cx="3760560" cy="2190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440" y="1600200"/>
                    <a:ext cx="37605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"/>
          <p:cNvSpPr/>
          <p:nvPr/>
        </p:nvSpPr>
        <p:spPr>
          <a:xfrm>
            <a:off x="5257800" y="1600200"/>
            <a:ext cx="3429000" cy="2286000"/>
          </a:xfrm>
          <a:prstGeom prst="cloudCallout">
            <a:avLst>
              <a:gd name="adj1" fmla="val -95925"/>
              <a:gd name="adj2" fmla="val 80624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1320" y="1981080"/>
            <a:ext cx="22860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ing challen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unting for similar vs. opposite prefer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743040" y="2133720"/>
            <a:ext cx="778356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ook Antiqua"/>
              </a:rPr>
              <a:t>Model Review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(In Exce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743040" y="2133720"/>
            <a:ext cx="77835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ook Antiqua"/>
              </a:rPr>
              <a:t>Q&amp;A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3040" y="2133720"/>
            <a:ext cx="7783560" cy="35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tchmaking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ocess &amp; Population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view of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43040" y="2133720"/>
            <a:ext cx="778356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atchmaking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arget Audience: Students in Decision Models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o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43080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nd best match for an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343080">
              <a:lnSpc>
                <a:spcPct val="10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ptimize satisfaction for matching ALL students in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ook Antiqua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743040" y="2133720"/>
            <a:ext cx="77835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ook Antiqua"/>
              </a:rPr>
              <a:t>Result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est Matches…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(overall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343160" cy="18288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2120760" y="1447920"/>
            <a:ext cx="1308240" cy="17827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901800" y="3048120"/>
            <a:ext cx="2293920" cy="914400"/>
          </a:xfrm>
          <a:custGeom>
            <a:avLst/>
            <a:gdLst>
              <a:gd name="textAreaLeft" fmla="*/ 573480 w 2293920"/>
              <a:gd name="textAreaRight" fmla="*/ 1720440 w 229392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Price Winner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700 poi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5257800" y="1503360"/>
            <a:ext cx="1380960" cy="17733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6705720" y="1523880"/>
            <a:ext cx="1390680" cy="17827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5"/>
          <a:stretch/>
        </p:blipFill>
        <p:spPr>
          <a:xfrm>
            <a:off x="3200400" y="4094280"/>
            <a:ext cx="1376280" cy="177300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6"/>
          <a:stretch/>
        </p:blipFill>
        <p:spPr>
          <a:xfrm>
            <a:off x="4648320" y="4114800"/>
            <a:ext cx="1385640" cy="178272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429000" y="5562720"/>
            <a:ext cx="2293920" cy="914400"/>
          </a:xfrm>
          <a:custGeom>
            <a:avLst/>
            <a:gdLst>
              <a:gd name="textAreaLeft" fmla="*/ 573480 w 2293920"/>
              <a:gd name="textAreaRight" fmla="*/ 1720440 w 229392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baseline="30000">
                <a:solidFill>
                  <a:srgbClr val="ffffff"/>
                </a:solidFill>
                <a:latin typeface="Arial"/>
              </a:rPr>
              <a:t>3rd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Price Winner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300 poi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62720" y="3048120"/>
            <a:ext cx="2293920" cy="914400"/>
          </a:xfrm>
          <a:custGeom>
            <a:avLst/>
            <a:gdLst>
              <a:gd name="textAreaLeft" fmla="*/ 573480 w 2293920"/>
              <a:gd name="textAreaRight" fmla="*/ 1720440 w 229392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nd Price Winner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6300 poi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est Matches…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(Singles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304920" y="2435400"/>
            <a:ext cx="83818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def6"/>
                </a:solidFill>
                <a:latin typeface="Arial"/>
              </a:rPr>
              <a:t>Matches for the whole class…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803680" y="1143000"/>
            <a:ext cx="3709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743040" y="2133720"/>
            <a:ext cx="778356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marL="343080" indent="-343080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ocess &amp; Population Statis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Process…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" y="1752480"/>
            <a:ext cx="2057400" cy="1295640"/>
          </a:xfrm>
          <a:prstGeom prst="flowChartAlternateProcess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3520" y="1905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y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90920" y="23623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52680" y="1752480"/>
            <a:ext cx="1981440" cy="1371600"/>
          </a:xfrm>
          <a:prstGeom prst="flowChartMultidocumen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05320" y="20574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y Fill O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248520" y="1752480"/>
            <a:ext cx="1904760" cy="1295640"/>
          </a:xfrm>
          <a:prstGeom prst="flowChartPunchedCard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2362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477120" y="19051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En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24480" y="4038480"/>
            <a:ext cx="1905120" cy="1447920"/>
          </a:xfrm>
          <a:prstGeom prst="flowChartPunchedTap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315200" y="3200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248520" y="44197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Analysis and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200400" y="5181480"/>
            <a:ext cx="266688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3276720" y="396252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3276720" y="502920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9480" y="3657600"/>
            <a:ext cx="2210040" cy="685800"/>
          </a:xfrm>
          <a:prstGeom prst="flowChartMagneticTap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1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9480" y="4572000"/>
            <a:ext cx="2210040" cy="685800"/>
          </a:xfrm>
          <a:prstGeom prst="flowChartMagneticTap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1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5562720"/>
            <a:ext cx="2210040" cy="685800"/>
          </a:xfrm>
          <a:prstGeom prst="flowChartMagneticTap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9:47:26Z</dcterms:created>
  <dc:creator>Stern School of Business</dc:creator>
  <dc:description/>
  <dc:language>en-US</dc:language>
  <cp:lastModifiedBy>Stern School Of Business</cp:lastModifiedBy>
  <dcterms:modified xsi:type="dcterms:W3CDTF">2004-04-26T12:56:45Z</dcterms:modified>
  <cp:revision>27</cp:revision>
  <dc:subject/>
  <dc:title>The D.M. Matching Team…  FIND YOUR SOLE/SOUL MATE?!</dc:title>
</cp:coreProperties>
</file>