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B74B-51CC-4963-B0F0-FE5B8EBD2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4CA6-9EFD-4D8B-90B0-456C10FB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CB3F-8082-4B3E-821B-110EFB86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270E-85DD-4411-A4D1-F0D69CF4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1446-6B32-4FA5-8528-57F0AE7C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CA71-8E7E-42D5-9794-87E3301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E900-8946-4082-841D-AD17D52B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1395-406E-4569-AD3E-2448EDB6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DB51-2A5B-4246-AA38-9A5A3105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C7F5-87A6-439E-BDEE-E84AE2E4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091-76F1-4976-A0F4-C4F39A2F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8A00-01F2-4F22-842A-62DFDAD4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D0A1-1C99-498F-8110-C6BB5945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8CCD-AA21-4563-9225-B8A33AE6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6333-1784-45D8-AFE8-90711A8E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E052-E937-4674-8425-5B2F4100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C386-168C-4BA8-A24E-466EA1BE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A555-4E8A-4B30-B465-C672CE48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BDF11-7EC9-41C5-B924-25D97B54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8AD7-99C4-4276-92DC-7B0A4894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06CB-96A5-4F1B-8252-71084ECB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EF9F-E825-4841-AA0B-44B258E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03A6-CDE5-4D65-9A57-3A379268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4B0DD-F97F-4CA6-87A6-ED5E5349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6CED-9E77-4F42-91F9-97174B818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555C-E270-412E-B372-A83266C042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MBAs Who Laund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Eugenia Chi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Alan Li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Brian Rhe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d914"/>
                </a:solidFill>
                <a:latin typeface="Garamond"/>
              </a:rPr>
              <a:t>Fern Wa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Recommend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 washers/3 dryers/2 trucks to meet the forecasted dem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aily profit increases from $1,107 to $1,792 (in comparison to Ladies Who Launder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ual profit increases = $210,98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he Increase is attributed to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enue from 1) ironed sheets, 2) napkins, 3) blanke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2666880"/>
          <a:ext cx="7772400" cy="358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666880"/>
                    <a:ext cx="7772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siness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advise premium home delivery laundry services to busy New Yorkers in Manhattan, such as Ladies Who Laun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se 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determine the optimal operating strategy in order to maximize operating efficienc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determine the optimal pricing strategy in order to maximize overall daily profitabilit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708360" y="198900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back office receives 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020000" y="260280"/>
            <a:ext cx="1147680" cy="1584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411280" y="620640"/>
            <a:ext cx="831960" cy="647640"/>
          </a:xfrm>
          <a:prstGeom prst="rightArrow">
            <a:avLst>
              <a:gd name="adj1" fmla="val 50000"/>
              <a:gd name="adj2" fmla="val 321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407000">
            <a:off x="6021000" y="711000"/>
            <a:ext cx="647640" cy="6984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7529760" y="2342160"/>
            <a:ext cx="689040" cy="84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00720" y="4797360"/>
            <a:ext cx="936720" cy="649440"/>
          </a:xfrm>
          <a:prstGeom prst="leftArrow">
            <a:avLst>
              <a:gd name="adj1" fmla="val 50000"/>
              <a:gd name="adj2" fmla="val 360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452200">
            <a:off x="1979280" y="5157360"/>
            <a:ext cx="689040" cy="555840"/>
          </a:xfrm>
          <a:prstGeom prst="leftArrow">
            <a:avLst>
              <a:gd name="adj1" fmla="val 50000"/>
              <a:gd name="adj2" fmla="val 3099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265400" y="1909800"/>
            <a:ext cx="576000" cy="5889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093000"/>
            <a:ext cx="17287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8 hour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54920" y="6093000"/>
            <a:ext cx="208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picks up the laund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557360"/>
            <a:ext cx="30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 places an order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32720" y="1916280"/>
            <a:ext cx="24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 may leave laundry bag with door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6093000"/>
            <a:ext cx="30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perform customized laundry serv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465300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BAs Who Launder drops off the laund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35280" y="260280"/>
            <a:ext cx="2160720" cy="1584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84360" y="260280"/>
            <a:ext cx="1481040" cy="1152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451640" y="3284640"/>
            <a:ext cx="12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3348000" y="4221000"/>
            <a:ext cx="2181240" cy="1695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68360" y="2852640"/>
            <a:ext cx="1955880" cy="1781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916360" y="2852640"/>
            <a:ext cx="3581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MBAs Who Launder</a:t>
            </a:r>
            <a:endParaRPr b="1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00360" y="981000"/>
            <a:ext cx="3816360" cy="5689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692360" y="189000"/>
            <a:ext cx="61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Geographic Operating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umptions (Cost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808200" y="1733400"/>
            <a:ext cx="7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308 Business days (365-52 Sundays - 5 holiday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Rent Expense is $2,100/mon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Utility cost is $33/da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A washer or a dryer would cost $2300. Assume a useful life of 10 years using straight line depreciation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Wages– Minimum wage $6.25 per hour.  60 hours/wee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Salaries – Salary of $31,200 per ye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GMC truck (full size) costs $25,000.  Assume a useful life of 5 years using straight line depreci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Garamond"/>
                <a:ea typeface="新細明體"/>
              </a:rPr>
              <a:t>2 workers are needed per washer and dry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ssumptions (Customer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492280"/>
            <a:ext cx="843588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Average 41.6 customers per day (STDV = 9.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Average 1.57 loads per customer (STDV = 0.1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Average truck travel distance by route = 35 mi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新細明體"/>
              </a:rPr>
              <a:t>Maximum volume increase from price discount = 25% over original volu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ost Analysis – Using Crystal Bal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Profit Optimization – Using Solv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4:44:23Z</dcterms:created>
  <dc:creator>EYChiang</dc:creator>
  <dc:description/>
  <dc:language>en-US</dc:language>
  <cp:lastModifiedBy>EYChiang</cp:lastModifiedBy>
  <dcterms:modified xsi:type="dcterms:W3CDTF">2004-05-06T03:52:41Z</dcterms:modified>
  <cp:revision>14</cp:revision>
  <dc:subject/>
  <dc:title>投影片 1</dc:title>
</cp:coreProperties>
</file>