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A38-73F7-468B-8E4D-FE129BB7079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166-728A-4AD1-A656-9951FD47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1FE-56DF-4C20-A21F-8272B68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1D2-12AF-461C-B58D-B503B8EB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A30-94AA-433F-8F16-988A9A4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77A-759A-43A7-926B-C1B340A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348-9B1E-4298-898A-5AD9FEB4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693-50B7-4AA5-A0CB-1976BA5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EDF-08DD-42CC-9448-D18C2B3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253-DB62-4C02-9BDD-5A90F522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190-8B12-4211-B059-BD3927F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9EC-826A-4BC6-B9AC-7EEBD96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B5F-01D7-4D74-BD67-D2C1060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6B0-2FD6-4418-BB20-194AF3961F92}" type="slidenum"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4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36576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10240" cy="95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949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Table of Content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895480"/>
            <a:ext cx="380988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Concept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erational Challenge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ssumpt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Supply Model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Demand Model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Conclus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00200"/>
            <a:ext cx="495288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40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6019920"/>
            <a:ext cx="251460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368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181480" cy="57150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240" y="874440"/>
            <a:ext cx="3429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Bd BT"/>
              </a:rPr>
              <a:t>Concept:</a:t>
            </a:r>
            <a:endParaRPr b="0" lang="en-US" sz="4000" spc="-1" strike="noStrike">
              <a:solidFill>
                <a:srgbClr val="b4080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Copperplate Gothic Bold"/>
              </a:rPr>
              <a:t>An urban-focused multi-unit, Asian quick-casual dining concept that sells an array of steamed or fried dumplings with sauces, salads and other Asian side dishes.</a:t>
            </a: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5240" y="324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447920"/>
            <a:ext cx="8229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Operational Challenge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…</a:t>
            </a: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time to make the dumplings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Futura Bk BT"/>
              </a:rPr>
              <a:t>Demand Assumptions</a:t>
            </a: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225 covers during 2.5 hour lunch period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1.5 customers per minut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ordering 6.4 dumplings per cover (60% fried 40% steamed) </a:t>
            </a:r>
            <a:r>
              <a:rPr b="0" lang="en-US" sz="1800" spc="-1" strike="noStrike">
                <a:solidFill>
                  <a:srgbClr val="0a50a1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9.6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dumplings needed per min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Futura Bd BT"/>
              </a:rPr>
              <a:t>Supply Assumptions</a:t>
            </a: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customer wait time &lt;= 6 min (from time of order to receive food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dumpling hold time &lt;= 10 minutes (for fully cooked dumplings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4480" y="1371600"/>
            <a:ext cx="9029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47920"/>
            <a:ext cx="82296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Demand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Can we handle 225 covers during lunch?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Pay and Receive Drink = 1 minute w/15 sec S.D. (norm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Line inter-arrival time is an exponential distribution with a mean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of 0.667 minutes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Assuming all dumplings are ready to be served when they are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needed.  (This is the supply side)  Next Model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Max of 20 ppl. in system waiting (btw ordering and receiving food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Cold Prep Time = 1.5 minutes w/ 15 sec S.D. (norm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Plating Time = 30 seconds w/ 6 sec S.D. (norm)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6591240" cy="478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1219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080c"/>
                </a:solidFill>
                <a:latin typeface="Copperplate Gothic Bold"/>
              </a:rPr>
              <a:t>Extend Model: 3 Cashiers, 2 Cold Prep, 1 Plater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447920"/>
            <a:ext cx="82296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Demand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Conclusions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his works!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Maximum people in waiting area is 6.  The avg. number of people in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he waiting area is 0.72.  The average wait time in this area (in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uality this should be added to time in process for cold prep and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plating, though) is 0.49 minutes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rriv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Dept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Util.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im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9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9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6541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7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7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4986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old Prep 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1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1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7482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Plating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218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21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7374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49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49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31256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old Prep 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06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05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686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Supply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182680"/>
            <a:ext cx="6324480" cy="2487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822920"/>
            <a:ext cx="77724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59:31Z</dcterms:created>
  <dc:creator>Trial User</dc:creator>
  <dc:description/>
  <dc:language>en-US</dc:language>
  <cp:lastModifiedBy>Kenneth Lao</cp:lastModifiedBy>
  <dcterms:modified xsi:type="dcterms:W3CDTF">2004-04-26T00:2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6607403</vt:r8>
  </property>
  <property fmtid="{D5CDD505-2E9C-101B-9397-08002B2CF9AE}" pid="3" name="_AuthorEmail">
    <vt:lpwstr>kennyl@attglobal.net</vt:lpwstr>
  </property>
  <property fmtid="{D5CDD505-2E9C-101B-9397-08002B2CF9AE}" pid="4" name="_AuthorEmailDisplayName">
    <vt:lpwstr>Kenneth K. Lao</vt:lpwstr>
  </property>
  <property fmtid="{D5CDD505-2E9C-101B-9397-08002B2CF9AE}" pid="5" name="_EmailSubject">
    <vt:lpwstr>All Extend models  with assumptions and conclusion</vt:lpwstr>
  </property>
</Properties>
</file>