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A560-1850-4B5A-9219-24815F75689E}" type="slidenum"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itle of Section where the white text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itle of Section where the white text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itle of Section where the white text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itle of Section where the white text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itle of Section where the white text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itle of Section where the white text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itle of Section where the white text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FA0E-2CA3-4870-96A1-51FF859E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93AA-D81D-4DC9-8698-197B1E8D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EAE3-60E0-4DD5-959F-4132DFDAA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1CC7-82C0-4B3A-813E-C357F963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9044-048C-42AB-B568-D2BD7025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C839-C761-4371-AF5E-AA0AB0C6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0B07-95A1-41AB-A933-DCB432B7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479E-3F92-466B-AACE-B6EB7897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A20A-A2E3-4CD4-B192-785B3665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50E4-D441-41E8-94C4-6255358E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A3B9-38C1-4097-BB28-407A752A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34B6-E2AC-4E32-9D68-F6F9603C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4080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080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4080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080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4080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080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4080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080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4080c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080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b4080c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080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b4080c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080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4080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4080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4080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4080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4080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D0AF-F16C-4105-AAD5-6DD0A2B8A41A}" type="slidenum">
              <a:rPr b="0" lang="en-US" sz="1400" spc="-1" strike="noStrike">
                <a:solidFill>
                  <a:srgbClr val="b4080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b408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2971800"/>
            <a:ext cx="365760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056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600200"/>
            <a:ext cx="4572000" cy="5257800"/>
          </a:xfrm>
          <a:prstGeom prst="rect">
            <a:avLst/>
          </a:prstGeom>
          <a:solidFill>
            <a:srgbClr val="8c0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3810240" cy="952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0880" y="19494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pperplate Gothic Bold"/>
              </a:rPr>
              <a:t>Table of Contents</a:t>
            </a:r>
            <a:endParaRPr b="0" lang="en-US" sz="3600" spc="-1" strike="noStrike">
              <a:solidFill>
                <a:srgbClr val="b4080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895480"/>
            <a:ext cx="380988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e7d1f"/>
              </a:buClr>
              <a:buFont typeface="Futura B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7d1f"/>
                </a:solidFill>
                <a:latin typeface="Futura Bd BT"/>
              </a:rPr>
              <a:t>Concept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Futura B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7d1f"/>
                </a:solidFill>
                <a:latin typeface="Futura Bd BT"/>
              </a:rPr>
              <a:t>Operational Challenge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Futura B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7d1f"/>
                </a:solidFill>
                <a:latin typeface="Futura Bd BT"/>
              </a:rPr>
              <a:t>Assumptions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Futura B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7d1f"/>
                </a:solidFill>
                <a:latin typeface="Futura Bd BT"/>
              </a:rPr>
              <a:t>Supply Model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Futura B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7d1f"/>
                </a:solidFill>
                <a:latin typeface="Futura Bd BT"/>
              </a:rPr>
              <a:t>Demand Model 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Futura B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7d1f"/>
                </a:solidFill>
                <a:latin typeface="Futura Bd BT"/>
              </a:rPr>
              <a:t>Conclusions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Futura B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600200"/>
            <a:ext cx="4952880" cy="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b40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6019920"/>
            <a:ext cx="2514600" cy="628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836800" y="517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5181480" cy="5715000"/>
          </a:xfrm>
          <a:prstGeom prst="rect">
            <a:avLst/>
          </a:prstGeom>
          <a:solidFill>
            <a:srgbClr val="8c0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9240" y="874440"/>
            <a:ext cx="342900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a Bd BT"/>
              </a:rPr>
              <a:t>Concept:</a:t>
            </a:r>
            <a:endParaRPr b="0" lang="en-US" sz="4000" spc="-1" strike="noStrike">
              <a:solidFill>
                <a:srgbClr val="b4080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7d1f"/>
                </a:solidFill>
                <a:latin typeface="Copperplate Gothic Bold"/>
              </a:rPr>
              <a:t>An urban-focused multi-unit, Asian quick-casual dining concept that sells an array of steamed or fried dumplings with sauces, salads and other Asian side dishes.</a:t>
            </a:r>
            <a:r>
              <a:rPr b="0" lang="en-US" sz="2400" spc="-1" strike="noStrike">
                <a:solidFill>
                  <a:srgbClr val="fe7d1f"/>
                </a:solidFill>
                <a:latin typeface="Copperplate Gothic Bold"/>
              </a:rPr>
              <a:t> 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28600" y="6019920"/>
            <a:ext cx="2514600" cy="628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575240" y="324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144440"/>
            <a:ext cx="9144000" cy="571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447920"/>
            <a:ext cx="822960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e00"/>
                </a:solidFill>
                <a:latin typeface="Copperplate Gothic Bold"/>
              </a:rPr>
              <a:t>Operational Challenge</a:t>
            </a:r>
            <a:endParaRPr b="0" lang="en-US" sz="3600" spc="-1" strike="noStrike">
              <a:solidFill>
                <a:srgbClr val="b4080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b4080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080c"/>
                </a:solidFill>
                <a:latin typeface="Futura Bk BT"/>
              </a:rPr>
              <a:t>…</a:t>
            </a:r>
            <a:r>
              <a:rPr b="0" lang="en-US" sz="2800" spc="-1" strike="noStrike">
                <a:solidFill>
                  <a:srgbClr val="b4080c"/>
                </a:solidFill>
                <a:latin typeface="Futura Bk BT"/>
              </a:rPr>
              <a:t>time to make the dumplings</a:t>
            </a:r>
            <a:endParaRPr b="0" lang="en-US" sz="2800" spc="-1" strike="noStrike">
              <a:solidFill>
                <a:srgbClr val="b4080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4080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Futura Bk BT"/>
              </a:rPr>
              <a:t>Demand Assumptions</a:t>
            </a:r>
            <a:endParaRPr b="0" lang="en-US" sz="2000" spc="-1" strike="noStrike">
              <a:solidFill>
                <a:srgbClr val="b4080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a50a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225 covers during 2.5 hour lunch period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a50a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1.5 customers per minute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a50a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ordering 6.4 dumplings per cover (60% fried 40% steamed) </a:t>
            </a:r>
            <a:r>
              <a:rPr b="0" lang="en-US" sz="1800" spc="-1" strike="noStrike">
                <a:solidFill>
                  <a:srgbClr val="0a50a1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9.6 </a:t>
            </a: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dumplings needed per min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50a1"/>
                </a:solidFill>
                <a:latin typeface="Futura Bd BT"/>
              </a:rPr>
              <a:t>Supply Assumptions</a:t>
            </a:r>
            <a:endParaRPr b="0" lang="en-US" sz="2000" spc="-1" strike="noStrike">
              <a:solidFill>
                <a:srgbClr val="b4080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a50a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customer wait time &lt;= 6 min (from time of order to receive food)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a50a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      </a:t>
            </a: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dumpling hold time &lt;= 10 minutes (for fully cooked dumplings)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a50a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a50a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a50a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251460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144440"/>
            <a:ext cx="9144000" cy="571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2514600" cy="628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14480" y="1371600"/>
            <a:ext cx="902952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144440"/>
            <a:ext cx="9144000" cy="571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447920"/>
            <a:ext cx="8229600" cy="51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e00"/>
                </a:solidFill>
                <a:latin typeface="Copperplate Gothic Bold"/>
              </a:rPr>
              <a:t>Demand Model</a:t>
            </a:r>
            <a:endParaRPr b="0" lang="en-US" sz="3600" spc="-1" strike="noStrike">
              <a:solidFill>
                <a:srgbClr val="b4080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b4080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080c"/>
                </a:solidFill>
                <a:latin typeface="Futura Bk BT"/>
              </a:rPr>
              <a:t>Can we handle 225 covers during lunch?</a:t>
            </a:r>
            <a:endParaRPr b="0" lang="en-US" sz="2800" spc="-1" strike="noStrike">
              <a:solidFill>
                <a:srgbClr val="b4080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a50a1"/>
              </a:buClr>
              <a:buFont typeface="Futura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Pay and Receive Drink = 1 minute w/15 sec S.D. (norm)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a50a1"/>
              </a:buClr>
              <a:buFont typeface="Futura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      </a:t>
            </a: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Line inter-arrival time is an exponential distribution with a mean </a:t>
            </a: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of 0.667 minutes.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a50a1"/>
              </a:buClr>
              <a:buFont typeface="Futura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      </a:t>
            </a: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Assuming all dumplings are ready to be served when they are </a:t>
            </a: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needed.  (This is the supply side)  Next Model.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a50a1"/>
              </a:buClr>
              <a:buFont typeface="Futura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      </a:t>
            </a: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Max of 20 ppl. in system waiting (btw ordering and receiving food)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a50a1"/>
              </a:buClr>
              <a:buFont typeface="Futura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      </a:t>
            </a: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Cold Prep Time = 1.5 minutes w/ 15 sec S.D. (norm)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a50a1"/>
              </a:buClr>
              <a:buFont typeface="Futura B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       </a:t>
            </a: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Plating Time = 30 seconds w/ 6 sec S.D. (norm).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251460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144440"/>
            <a:ext cx="9144000" cy="571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4479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2514600" cy="628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333440" y="1981080"/>
            <a:ext cx="6591240" cy="4789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371600" y="12193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080c"/>
                </a:solidFill>
                <a:latin typeface="Copperplate Gothic Bold"/>
              </a:rPr>
              <a:t>Extend Model: 3 Cashiers, 2 Cold Prep, 1 Plater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144440"/>
            <a:ext cx="9144000" cy="571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447920"/>
            <a:ext cx="822960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e00"/>
                </a:solidFill>
                <a:latin typeface="Copperplate Gothic Bold"/>
              </a:rPr>
              <a:t>Demand Model</a:t>
            </a:r>
            <a:endParaRPr b="0" lang="en-US" sz="3600" spc="-1" strike="noStrike">
              <a:solidFill>
                <a:srgbClr val="b4080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b4080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080c"/>
                </a:solidFill>
                <a:latin typeface="Futura Bk BT"/>
              </a:rPr>
              <a:t>Conclusions</a:t>
            </a:r>
            <a:endParaRPr b="0" lang="en-US" sz="2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Futura Bd BT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This works!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Maximum people in waiting area is 6.  The avg. number of people in 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the waiting area is 0.72.  The average wait time in this area (in 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actuality this should be added to time in process for cold prep and 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plating, though) is 0.49 minutes.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Arriv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Dept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Util.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Time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Cashier 1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Activity, Delay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97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97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1" lang="en-US" sz="1800" spc="-1" strike="noStrike">
                <a:solidFill>
                  <a:srgbClr val="0a50a1"/>
                </a:solidFill>
                <a:latin typeface="Copperplate Gothic Bold"/>
              </a:rPr>
              <a:t>0.65413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150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Cashier 2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Activity, Delay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74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74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1" lang="en-US" sz="1800" spc="-1" strike="noStrike">
                <a:solidFill>
                  <a:srgbClr val="0a50a1"/>
                </a:solidFill>
                <a:latin typeface="Copperplate Gothic Bold"/>
              </a:rPr>
              <a:t>0.49862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150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Cold Prep 2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Activity, Delay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114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113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0.74827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150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Plating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Activity, Delay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218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217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0.73741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150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Cashier 3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Activity, Delay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49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49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1" lang="en-US" sz="1800" spc="-1" strike="noStrike">
                <a:solidFill>
                  <a:srgbClr val="0a50a1"/>
                </a:solidFill>
                <a:latin typeface="Copperplate Gothic Bold"/>
              </a:rPr>
              <a:t>0.31256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150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Cold Prep 1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Activity, Delay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106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105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0.6861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	</a:t>
            </a:r>
            <a:r>
              <a:rPr b="0" lang="en-US" sz="1800" spc="-1" strike="noStrike">
                <a:solidFill>
                  <a:srgbClr val="0a50a1"/>
                </a:solidFill>
                <a:latin typeface="Copperplate Gothic Bold"/>
              </a:rPr>
              <a:t>150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251460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144440"/>
            <a:ext cx="9144000" cy="571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447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e00"/>
                </a:solidFill>
                <a:latin typeface="Copperplate Gothic Bold"/>
              </a:rPr>
              <a:t>Supply Model</a:t>
            </a:r>
            <a:endParaRPr b="0" lang="en-US" sz="3600" spc="-1" strike="noStrike">
              <a:solidFill>
                <a:srgbClr val="b4080c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2514600" cy="628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828800" y="2182680"/>
            <a:ext cx="6324480" cy="2487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85800" y="4822920"/>
            <a:ext cx="777240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22:59:31Z</dcterms:created>
  <dc:creator>Trial User</dc:creator>
  <dc:description/>
  <dc:language>en-US</dc:language>
  <cp:lastModifiedBy>Kenneth Lao</cp:lastModifiedBy>
  <dcterms:modified xsi:type="dcterms:W3CDTF">2004-04-26T00:25:1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26607403</vt:r8>
  </property>
  <property fmtid="{D5CDD505-2E9C-101B-9397-08002B2CF9AE}" pid="3" name="_AuthorEmail">
    <vt:lpwstr>kennyl@attglobal.net</vt:lpwstr>
  </property>
  <property fmtid="{D5CDD505-2E9C-101B-9397-08002B2CF9AE}" pid="4" name="_AuthorEmailDisplayName">
    <vt:lpwstr>Kenneth K. Lao</vt:lpwstr>
  </property>
  <property fmtid="{D5CDD505-2E9C-101B-9397-08002B2CF9AE}" pid="5" name="_EmailSubject">
    <vt:lpwstr>All Extend models  with assumptions and conclusion</vt:lpwstr>
  </property>
</Properties>
</file>