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940-A085-434A-8FDE-864AD4F9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082-2E67-413D-81CD-3650E17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822-E6A1-4DE5-B44E-6E5B983C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1EF-2C7F-4B46-A360-53E0A439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AFB6-05F2-44F3-8F9C-702A8DEA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17FD-5206-4C2E-A07F-2DA1208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AF36-BF9A-4A85-B66E-DF51A2AE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A822-80FB-43E4-8579-437504B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EC4-C9A0-49D5-8A42-64DEA76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2A02-6D4C-4690-BCD2-1A401FA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7DE-2759-49A0-9A4D-00DE8F8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5E4-E591-4A87-8DB4-778DB16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749-4216-4417-987D-F183E4F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7220-DB4B-4012-B591-813B157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9B9E-C579-4D69-8FA5-B5B12B39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5DC3-92F5-4EAF-B6F5-917DF035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7E53-3451-4912-B485-09005533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3CA-1C6D-4CF7-BC67-17A57D0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5FE-E958-4CE8-A508-5FE40C1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DAA-7939-45BA-AF80-D387B67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684-8985-4A58-A936-1780885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3D2-0B21-4B7C-AD94-CD1875C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21F-00BA-418C-BF1E-FEF28E0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CD7-A37E-40E2-AA91-173ABE2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EC64-FF64-40EA-AB48-7A9942DFF9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EFE-97C6-48F3-85C5-410BE5043F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600" y="1699920"/>
            <a:ext cx="844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Pizza Optimization at Beer Bla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y 3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roup 3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cham Lahl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uillaume Sivadi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ak Tetsuya Sueza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khuma Suku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9160" y="340992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14880" y="306360"/>
            <a:ext cx="2498400" cy="199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03800" y="3451320"/>
            <a:ext cx="218448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servers,  multiple que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= pizza (8 slices ea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lines = number of pizzas (serv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ing time of server = time needed for one person to take the required slices of piz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 seconds * number of slice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line is too long (5 minutes), people will not wait but will walk back to the lounge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ould come back to the line 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number of pizzas is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deliveries take place during the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ill exit the system after taking pizza sl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4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l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servers, 5 que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 is delivered every 30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is idle for 26 minutes each 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950000" y="1592280"/>
            <a:ext cx="384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ervers, 2 que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 is delivered every 12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is idle for 8 minutes each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Server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11561" r="520" b="1319"/>
          <a:stretch/>
        </p:blipFill>
        <p:spPr>
          <a:xfrm>
            <a:off x="293760" y="1338120"/>
            <a:ext cx="85820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 Server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31" t="12675" r="1894" b="2874"/>
          <a:stretch/>
        </p:blipFill>
        <p:spPr>
          <a:xfrm>
            <a:off x="270000" y="1339920"/>
            <a:ext cx="8611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(100 Simulatio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2640" y="1600200"/>
            <a:ext cx="414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5 Server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core = 7,5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Wq = 4.56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number of students served =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735440" y="1592280"/>
            <a:ext cx="4164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2 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core = 2,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Wq = 3.99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number of students served = 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izzas model seems to be much more efficient. (total score is 60% low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Pizzas per deliveries, but more frequent delive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249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and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n you reach Pizza at the Beer Blast?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86120" y="16002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happens at Beer Blas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2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rive Sosnoff from 6 to 9 p.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ould walk around but rush to the pizza table when pizzas ar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97480" y="4211640"/>
            <a:ext cx="169920" cy="166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78200" y="380052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ngry Attend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6120" y="40971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rge piz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038320"/>
            <a:ext cx="3600720" cy="2398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38200" y="4113360"/>
            <a:ext cx="2049480" cy="29052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4760" y="4184640"/>
            <a:ext cx="20160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6400" y="4178160"/>
            <a:ext cx="200160" cy="195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73480" y="4173480"/>
            <a:ext cx="19980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8120" y="4183200"/>
            <a:ext cx="20016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1840" y="4178160"/>
            <a:ext cx="200160" cy="195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5120" y="409896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a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57560" y="2417760"/>
            <a:ext cx="453960" cy="15732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98080" y="2612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1600" y="359712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79720" y="3606840"/>
            <a:ext cx="1440" cy="38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5000" y="3602160"/>
            <a:ext cx="1440" cy="38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0280" y="359712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08400" y="359244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2400" y="3940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24796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4760" y="24606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38360" y="29034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27400" y="241452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67160" y="287352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2473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246708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57320" y="29304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1480" y="244332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2830680"/>
            <a:ext cx="11880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31960" y="2809800"/>
            <a:ext cx="104760" cy="1414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7560" y="238140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6760" y="240336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6280" y="28018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60680" y="247500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50800" y="229392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55760" y="275112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257004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920" y="24256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36840" y="4192560"/>
            <a:ext cx="20160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8480" y="4186080"/>
            <a:ext cx="200160" cy="1954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4181400"/>
            <a:ext cx="20016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0200" y="4191120"/>
            <a:ext cx="20016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3920" y="4186080"/>
            <a:ext cx="200160" cy="1954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9680" y="256716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262584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1640" y="261936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09960" y="3083040"/>
            <a:ext cx="11880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4240" y="2962440"/>
            <a:ext cx="104760" cy="1411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19400" y="255600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8920" y="295416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6272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3440" y="2446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8400" y="290340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55760" y="272268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04046E-006 L -0.00642 0.11931 E">
                                      <p:cBhvr>
                                        <p:cTn id="2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91329E-006 L 0.00469 0.1829 E">
                                      <p:cBhvr>
                                        <p:cTn id="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0116E-006 L 0.00469 0.18497 E">
                                      <p:cBhvr>
                                        <p:cTn id="3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82659E-007 L 0.00156 0.18705 E">
                                      <p:cBhvr>
                                        <p:cTn id="3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96532E-006 L 0.00174 0.10451 E">
                                      <p:cBhvr>
                                        <p:cTn id="3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1214E-007 L -0.01111 0.18081 E">
                                      <p:cBhvr>
                                        <p:cTn id="3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5272 L 0.02222 0.19352 E">
                                      <p:cBhvr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1503E-006 L 1.66667E-006 0.13018 E">
                                      <p:cBhvr>
                                        <p:cTn id="4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11191 L -0.00313 0.06474 E">
                                      <p:cBhvr>
                                        <p:cTn id="4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5549E-006 L 2.5E-006 0.17226 E">
                                      <p:cBhvr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7168E-006 L 2.22222E-006 0.12139 E">
                                      <p:cBhvr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526E-006 L 0.00157 0.17226 E">
                                      <p:cBhvr>
                                        <p:cTn id="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2428E-006 L -1.38889E-006 0.16394 E">
                                      <p:cBhvr>
                                        <p:cTn id="5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35838E-007 L -0.00156 0.14913 E">
                                      <p:cBhvr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89017E-006 L 3.88889E-006 0.10451 E">
                                      <p:cBhvr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9653E-006 L -0.00642 0.11307 E">
                                      <p:cBhvr>
                                        <p:cTn id="5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948E-006 L -0.00156 0.18682 E">
                                      <p:cBhvr>
                                        <p:cTn id="6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67052E-007 L -0.00156 0.15746 E">
                                      <p:cBhvr>
                                        <p:cTn id="6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526E-006 L 0.00156 0.11514 E">
                                      <p:cBhvr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04046E-006 L -0.00642 0.11931 E">
                                      <p:cBhvr>
                                        <p:cTn id="8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91329E-006 L 0.00469 0.1829 E">
                                      <p:cBhvr>
                                        <p:cTn id="8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0116E-006 L 0.00469 0.18497 E">
                                      <p:cBhvr>
                                        <p:cTn id="8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82659E-007 L 0.00156 0.18705 E"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96532E-006 L 0.00174 0.10451 E">
                                      <p:cBhvr>
                                        <p:cTn id="9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1214E-007 L -0.01111 0.18081 E">
                                      <p:cBhvr>
                                        <p:cTn id="9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5272 L 0.02222 0.19352 E">
                                      <p:cBhvr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1503E-006 L 1.66667E-006 0.13018 E">
                                      <p:cBhvr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11191 L -0.00313 0.06474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5549E-006 L 2.5E-006 0.17226 E">
                                      <p:cBhvr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9653E-006 L -0.00642 0.11307 E">
                                      <p:cBhvr>
                                        <p:cTn id="10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e you hungr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4328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77000" y="1623960"/>
            <a:ext cx="2612880" cy="1190520"/>
          </a:xfrm>
          <a:prstGeom prst="wedgeRectCallout">
            <a:avLst>
              <a:gd name="adj1" fmla="val -50972"/>
              <a:gd name="adj2" fmla="val 89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d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re is my pizza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ptimal number of pizzas on the ta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ptimal frequency of deliveries throughout the ev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cision variabl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ber of pizzas on the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quency or Delive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bjectiv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inimize the average waiting time in the queues (Wq) and number of rene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straint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imum number of attendants: 432 guys, 288 gir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300 budget constraint equivalent to 30 pizz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xed delivery cycle of 30 minutes in Model 1 and 12 minutes in Model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 time: 30 seconds per sli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ctiv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Minim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440080" y="2963880"/>
            <a:ext cx="302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verage W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 Students Exi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3640" y="2959200"/>
            <a:ext cx="253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of Rene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* (Average Wq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9320" y="31320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Score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4160" y="30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groups of attendants: guys and gir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-arrival rate of 1 min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: number of pizza slice needed and time spent in the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need 2 slices while guys need 3 sl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person take 30 seconds to pick up 1 s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ts first stay in the lounge area, then proceed to the pizza ta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46:08Z</dcterms:created>
  <dc:creator>Stern School of Business</dc:creator>
  <dc:description/>
  <dc:language>en-US</dc:language>
  <cp:lastModifiedBy>Pepper</cp:lastModifiedBy>
  <dcterms:modified xsi:type="dcterms:W3CDTF">2004-05-03T00:35:01Z</dcterms:modified>
  <cp:revision>129</cp:revision>
  <dc:subject/>
  <dc:title>Decision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9968635</vt:r8>
  </property>
  <property fmtid="{D5CDD505-2E9C-101B-9397-08002B2CF9AE}" pid="3" name="_AuthorEmail">
    <vt:lpwstr>ss1562@stern.nyu.edu</vt:lpwstr>
  </property>
  <property fmtid="{D5CDD505-2E9C-101B-9397-08002B2CF9AE}" pid="4" name="_AuthorEmailDisplayName">
    <vt:lpwstr>Sukhuma Sukul</vt:lpwstr>
  </property>
  <property fmtid="{D5CDD505-2E9C-101B-9397-08002B2CF9AE}" pid="5" name="_EmailSubject">
    <vt:lpwstr>Decision Model Presentation</vt:lpwstr>
  </property>
  <property fmtid="{D5CDD505-2E9C-101B-9397-08002B2CF9AE}" pid="6" name="_ReviewingToolsShownOnce">
    <vt:lpwstr/>
  </property>
</Properties>
</file>