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4.png" ContentType="image/png"/>
  <Override PartName="/ppt/media/image23.png" ContentType="image/png"/>
  <Override PartName="/ppt/media/image5.jpeg" ContentType="image/jpeg"/>
  <Override PartName="/ppt/media/image20.png" ContentType="image/png"/>
  <Override PartName="/ppt/media/image12.wmf" ContentType="image/x-wmf"/>
  <Override PartName="/ppt/media/image1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8.jpeg" ContentType="image/jpeg"/>
  <Override PartName="/ppt/media/image31.png" ContentType="image/png"/>
  <Override PartName="/ppt/media/image33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.wmf" ContentType="image/x-wmf"/>
  <Override PartName="/ppt/media/image26.wmf" ContentType="image/x-wmf"/>
  <Override PartName="/ppt/media/image11.png" ContentType="image/png"/>
  <Override PartName="/ppt/media/image9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221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2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2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2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221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2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2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2212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2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2212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248520"/>
            <a:ext cx="9220320" cy="609480"/>
            <a:chOff x="0" y="6248520"/>
            <a:chExt cx="9220320" cy="60948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76212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1523880" y="6248520"/>
              <a:ext cx="8384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228600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6"/>
            <a:stretch/>
          </p:blipFill>
          <p:spPr>
            <a:xfrm>
              <a:off x="304812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7"/>
            <a:stretch/>
          </p:blipFill>
          <p:spPr>
            <a:xfrm>
              <a:off x="3809880" y="6248520"/>
              <a:ext cx="8384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8"/>
            <a:stretch/>
          </p:blipFill>
          <p:spPr>
            <a:xfrm>
              <a:off x="457200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9"/>
            <a:stretch/>
          </p:blipFill>
          <p:spPr>
            <a:xfrm>
              <a:off x="533412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10"/>
            <a:stretch/>
          </p:blipFill>
          <p:spPr>
            <a:xfrm>
              <a:off x="685800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11"/>
            <a:stretch/>
          </p:blipFill>
          <p:spPr>
            <a:xfrm>
              <a:off x="6095880" y="6248520"/>
              <a:ext cx="8384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12"/>
            <a:stretch/>
          </p:blipFill>
          <p:spPr>
            <a:xfrm>
              <a:off x="7620120" y="6248520"/>
              <a:ext cx="8380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3"/>
            <a:stretch/>
          </p:blipFill>
          <p:spPr>
            <a:xfrm>
              <a:off x="8381880" y="6248520"/>
              <a:ext cx="83844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" name="" descr=""/>
          <p:cNvPicPr/>
          <p:nvPr/>
        </p:nvPicPr>
        <p:blipFill>
          <a:blip r:embed="rId14"/>
          <a:stretch/>
        </p:blipFill>
        <p:spPr>
          <a:xfrm>
            <a:off x="0" y="6033960"/>
            <a:ext cx="1828800" cy="82404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5"/>
          <a:stretch/>
        </p:blipFill>
        <p:spPr>
          <a:xfrm>
            <a:off x="8001000" y="5951520"/>
            <a:ext cx="905040" cy="90648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1676520" y="1447920"/>
            <a:ext cx="7010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520" y="1142640"/>
            <a:ext cx="5790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575320"/>
            <a:ext cx="1981080" cy="128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1981080" cy="92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1981080" cy="135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245268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4660920"/>
            <a:ext cx="1981080" cy="939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520" y="1142640"/>
            <a:ext cx="5790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C Transportation Decisio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62520" y="5105160"/>
            <a:ext cx="48765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odels Te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 Fr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a L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old L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lene Mi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…just on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67652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24480" y="1828800"/>
            <a:ext cx="1828800" cy="2895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1981440" cy="3200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28600" y="1676520"/>
            <a:ext cx="201312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243400" y="4495680"/>
            <a:ext cx="3900600" cy="178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12392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629400" y="1523880"/>
            <a:ext cx="2333520" cy="542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2590920" y="4267080"/>
            <a:ext cx="119052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3962520" y="4267080"/>
            <a:ext cx="1197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becomes more useful on a case-specific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ooked at two scenarios: Brooklyn-bound and Upper East Side-bound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odel to find the personal value point at which it make sense to choose one option ove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actors: Salary and Time of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620640"/>
            <a:ext cx="609480" cy="59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622440"/>
            <a:ext cx="609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okly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1880" y="152280"/>
            <a:ext cx="10620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457200" y="175248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Data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-minute walk to Broadway/Lafay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stops on train (Carroll St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-minute walk from tr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 Data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 mile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28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Analysis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001000" cy="3808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06056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971800" y="685800"/>
            <a:ext cx="428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Sid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75248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Data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-minute walk to Blee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en stops on train (8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-minute walk from tr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 Data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mile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428760" cy="419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1880" y="152280"/>
            <a:ext cx="10620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Analysi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543800" cy="3591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1880" y="152280"/>
            <a:ext cx="10620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124080" y="685800"/>
            <a:ext cx="428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 is an important part of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 most time-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model work for you requires realistic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have spent much more time on modeling “real lif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the results do not differ from what we would have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specific analysis made the model more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al-Worl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n truth, what is a more relevant ques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ight out dr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out – A more “real”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re at the bar with your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3657600" cy="280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2819520"/>
            <a:ext cx="38862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out – A more “real”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re having a gre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43400" cy="2682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388620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al-world di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ever wond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 take a cab or just ride the subwa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no, it’s rush hour, I’ll never get a cab. But, the subway never comes on time and is 7 blocks aw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have a lot of time but I also want to travel in an economic w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out – A more “real”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 limited amount of money. You’re a little drunk and tired. Sound fam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use your money to get an extra beer and take the subway or decide to call it a n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up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extra utility from extra b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time spent recovering from extra beer the next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time spent asleep on subway and missing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explaining to significant other why you weren’t home 30 min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ways take the be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regardless of what the model says and the transportation method chosen, we all know the “real” res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80040" y="1752480"/>
            <a:ext cx="2973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4953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, so we wanted to find out where the breaking point was. Where and when does it make more sense to select one transportation option versus the o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070440" cy="2594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Up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pu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38120" y="205704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way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walk to 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walk to from 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ubway s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05740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walk to cab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657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a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9625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 and 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rrival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9528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ze total travel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ime is worth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rly opportunity cost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981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/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4382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3720" y="25146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Days/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1840" y="217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40320" y="198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24382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1640" y="2514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Hours/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19520"/>
            <a:ext cx="7696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 and subway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mph for cab, 11 mph for 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day t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variability in subway interarrival rates due to servic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 interarriv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rush hour, cabs arrive at a slow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28960" y="1752480"/>
            <a:ext cx="5084640" cy="3962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5181480" y="28954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29600" cy="370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819160" y="2286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191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333760" y="2514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in the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way and cab arrival rates,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the best way to do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fying th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intangible differences that are difficult to qua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have kept going with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meaningful and relevan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hat does this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from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found that, if all you care about is minimizing cost,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hort distances, you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edium to long distances you take the 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this is what we could have figured intuitively. So, the challenge was to make this more inter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23:36:20Z</dcterms:created>
  <dc:creator>Darlene Miranda</dc:creator>
  <dc:description/>
  <dc:language>en-US</dc:language>
  <cp:lastModifiedBy>Darlene Miranda</cp:lastModifiedBy>
  <dcterms:modified xsi:type="dcterms:W3CDTF">2005-04-28T00:01:22Z</dcterms:modified>
  <cp:revision>45</cp:revision>
  <dc:subject/>
  <dc:title>Slide 1</dc:title>
</cp:coreProperties>
</file>