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llegro BT"/>
              </a:rPr>
              <a:t>Click to move the slide</a:t>
            </a:r>
            <a:endParaRPr b="0" lang="en-US" sz="3500" spc="-1" strike="noStrike">
              <a:solidFill>
                <a:srgbClr val="ffcc00"/>
              </a:solidFill>
              <a:latin typeface="Allegro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840E-015C-4177-AB4D-3AB3365A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have designed a simulation model using crystal ball to assist them in their decision making process and limit downside ri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E70-2A9A-4253-A2B0-68D06490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83F-3277-472C-9B0A-A5EFC40F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445-A7D3-45F7-8ACD-A1A6420A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A5-784F-4C01-9224-BF3044CA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E40-5C44-4789-BD7F-7B508B66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16B-042E-4C20-AD3A-90A188BE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3ED1-3090-486C-8B6F-A3643C7E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42C-5F88-466F-A7B8-1FF9247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74DA-8BCD-445D-B50D-7F07EEE8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90360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DDAD-11EB-484D-833A-4B662B10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9BF-6DF3-4E6D-8AB3-F84DD70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020-BF51-4D35-BA8B-569B14A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5634-E856-4317-B7DD-F76C713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F45A-D98A-4133-8CD2-792F2A7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0DB8-96CF-405F-9912-DF6F9D3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CC5-6677-4197-A54F-80F39A01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850C-21FD-443F-BD0F-8C95DF70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B9F-B43F-4B77-904F-A527D4C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14E-A9FE-4FEA-9808-B4A2C27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338-BF18-4B9C-8C85-E3DAE9CD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-360"/>
            <a:ext cx="90360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276-29D4-4D18-B425-85AEF77E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CCD-F02F-44BE-8880-78068E7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5E1-3A8E-44CA-9F93-4AECAEF9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C43-84F8-482F-9259-45FC523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280" y="5257800"/>
            <a:ext cx="8686800" cy="1736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3789-232F-49BA-AFCA-1DE56BD4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>
              <a:alpha val="99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1996920"/>
            <a:ext cx="8686800" cy="257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5000" y="593640"/>
            <a:ext cx="791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utura XBlk BT"/>
              </a:rPr>
              <a:t>Optimal Housing Deci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Futura XBlk BT"/>
              </a:rPr>
              <a:t>In the NYC mar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3A0-9C4A-49C4-8BEF-C67C505B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8560" y="4478400"/>
            <a:ext cx="164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anelle Eve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jay Kejri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Hima K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osh Krant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Ji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6680" y="4572000"/>
            <a:ext cx="197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60.2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.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orn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ril 25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llegro BT"/>
              </a:rPr>
              <a:t>Click to edit the title text format</a:t>
            </a:r>
            <a:endParaRPr b="0" lang="en-US" sz="3500" spc="-1" strike="noStrike">
              <a:solidFill>
                <a:srgbClr val="ffcc00"/>
              </a:solidFill>
              <a:latin typeface="Allegro B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Out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03884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543480" cy="50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200400" y="3486240"/>
            <a:ext cx="5715000" cy="311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83480" y="3327480"/>
            <a:ext cx="22860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ion of Net Worth in Optimal Neighborhood over 500 tr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 Frontier for Net W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Recommendation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066680"/>
            <a:ext cx="5410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affordable mortgage amount = $10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affordable mortgage payments = $1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&gt;&gt; 10 year Fix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neighborhood to maximize equity value is Highbridge/South Con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grayscl/>
            <a:lum contrast="20000"/>
          </a:blip>
          <a:stretch/>
        </p:blipFill>
        <p:spPr>
          <a:xfrm>
            <a:off x="3105000" y="2013120"/>
            <a:ext cx="5658120" cy="40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5181480" y="2590560"/>
            <a:ext cx="12193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Juran becomes famous and is now giving solo shows all over the world. His all-in compensation is $25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no savings from his previous 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as monthly credit card payments of $1000 and student loans of $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now like to live in Manhat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ure that he wants a 30 year fixed mortg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In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1395360"/>
            <a:ext cx="4038840" cy="3867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0" y="1546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Out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0880" y="1066680"/>
            <a:ext cx="3497400" cy="218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ion of Net Worth in Optimal Neighborhood over 500 tr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t Frontier for Net Wor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191120" y="3174840"/>
            <a:ext cx="4190760" cy="473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657600" y="3733920"/>
            <a:ext cx="5181480" cy="2949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96080" y="3581280"/>
            <a:ext cx="2286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2: Recommendation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066680"/>
            <a:ext cx="5029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affordable mortgage amount = $77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affordable mortgage payments = $5,8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&gt;&gt; 30 Year Fix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afford all areas in Manhat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an’s ideal neighborhood to maximize his equity value is Stuyvesa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  <a:lum contrast="20000"/>
          </a:blip>
          <a:stretch/>
        </p:blipFill>
        <p:spPr>
          <a:xfrm>
            <a:off x="3352680" y="2470320"/>
            <a:ext cx="5658120" cy="4006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91120" y="3733920"/>
            <a:ext cx="20574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Limitation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models require comput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knowledge required to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inputs on housing market are not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1148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economic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Hous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ment Portfolio Add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6920" y="3332160"/>
            <a:ext cx="9036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Extens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05120" y="2152800"/>
            <a:ext cx="5333760" cy="158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19520" y="368784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SimSun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29920" y="152388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ngsana New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Agenda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r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grayscl/>
          </a:blip>
          <a:srcRect l="0" t="0" r="0" b="3923"/>
          <a:stretch/>
        </p:blipFill>
        <p:spPr>
          <a:xfrm>
            <a:off x="3790800" y="1066680"/>
            <a:ext cx="5658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Arial Black"/>
              </a:rPr>
              <a:t>Managerial Problem Definition</a:t>
            </a:r>
            <a:endParaRPr b="0" lang="en-US" sz="31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 Stern alum is considering buying a home in 2006 but does not know where to buy, and what price/monthly payments he can afford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deally he wants to realize as much return on the property as possible but given the volatility of the real estate market, the extent of price appreciation is unknow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Formulation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rtgage Amou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ortgage Type/Ter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Objec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aximize user’s real estate equity at the end of mortgage ter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289640" y="2438280"/>
          <a:ext cx="1828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9640" y="2438280"/>
                    <a:ext cx="1828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243920" y="165240"/>
          <a:ext cx="190008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3920" y="165240"/>
                    <a:ext cx="19000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356080" y="2438280"/>
          <a:ext cx="188280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6080" y="2438280"/>
                    <a:ext cx="1882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59320" y="152280"/>
          <a:ext cx="1836720" cy="215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59320" y="152280"/>
                    <a:ext cx="18367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69040" y="4673520"/>
          <a:ext cx="1841400" cy="203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9040" y="4673520"/>
                    <a:ext cx="18414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277040" y="4673520"/>
          <a:ext cx="180036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77040" y="4673520"/>
                    <a:ext cx="180036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Assumption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perty taxes are a fixed percentage of monthly payments (20%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p to 28% of monthly income is available to service mortgage and tax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perty to be purchased in 200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M is based on 5-5-2 standar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dian housing values are used to calculate affordability per commun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343400"/>
            <a:ext cx="85345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tal monthly expenses should not exceed monthly sal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ocation in the model is limited to 5 boroug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rtgage Rates: min, max over last 30 y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320" y="3560760"/>
            <a:ext cx="9036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Constrai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Model Overview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509920" y="144792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144792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600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414240" y="14040"/>
            <a:ext cx="333360" cy="4267080"/>
          </a:xfrm>
          <a:custGeom>
            <a:avLst/>
            <a:gdLst>
              <a:gd name="textAreaLeft" fmla="*/ 213120 w 333360"/>
              <a:gd name="textAreaRight" fmla="*/ 333720 w 3333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146320"/>
            <a:ext cx="838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 Black"/>
              </a:rPr>
              <a:t>Inputs</a:t>
            </a:r>
            <a:endParaRPr b="0" lang="en-US" sz="39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ual Gross Inc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s Available for Down Pay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 Lo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t Card Pay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Lo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s for Reti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est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19051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Mortgag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220968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nterest Rate (Approx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Years in New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ed Rate, Adjustable or Best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, 15 or 10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 Fixed Number of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4343400"/>
            <a:ext cx="2514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it Mortgag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64832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1722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hood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60199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fordable Neighborh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108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. Juran, decides to change careers and accept position as interpretive dancer for the New York City Ballet paying an annual gross income of $75K. He also has $10K in savings for a down pay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has monthly credit card payments of $200 and student loans of $6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is willing to live in any neighborhood accessible by public transportat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wever, he is unsure about mortgage product or length, so we will allow the model to find the best fi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00"/>
                </a:solidFill>
                <a:latin typeface="Arial Black"/>
              </a:rPr>
              <a:t>Scenario 1: Inputs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1479600"/>
            <a:ext cx="4419360" cy="404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343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49:06Z</dcterms:created>
  <dc:creator>Hima Kher</dc:creator>
  <dc:description/>
  <dc:language>en-US</dc:language>
  <cp:lastModifiedBy>imaging</cp:lastModifiedBy>
  <dcterms:modified xsi:type="dcterms:W3CDTF">2005-04-25T12:49:14Z</dcterms:modified>
  <cp:revision>100</cp:revision>
  <dc:subject/>
  <dc:title>Slide 1</dc:title>
</cp:coreProperties>
</file>