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llegro BT"/>
              </a:rPr>
              <a:t>Click to move the slide</a:t>
            </a:r>
            <a:endParaRPr b="0" lang="en-US" sz="3500" spc="-1" strike="noStrike">
              <a:solidFill>
                <a:srgbClr val="ffcc00"/>
              </a:solidFill>
              <a:latin typeface="Allegro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7A4-2264-42AE-A925-DAE37FE22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have designed a simulation model using crystal ball to assist them in their decision making process and limit downside ri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757-6F40-4B0E-9AC1-37A19FFD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B06-9A95-4D5B-8CFF-AED0AB24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2A9-33F4-488E-92D0-E29F751C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332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576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854-FC66-4523-8884-EA9DAC06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4811-55D4-4326-9463-2B404C7C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CAC1-A878-47EB-8E5C-FAF4BF15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665-402E-449B-814F-F9167D9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12DA-108E-49DE-AD58-0CBAC696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4569-710C-47DF-AFD3-3038BE26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90360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2011-7538-412D-BE0B-0944F06B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40DE-3EAA-4C29-9BA1-BBFD43CE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976-0643-4D98-ACD5-5A0BB34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4A03-6D94-422E-A1AA-454EB73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8452-0D2B-4118-B926-C97A8A0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98F2-8AC0-44A8-B822-49EC20BF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FF22-D70A-4AC4-B124-FE804202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332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576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0B6C-F228-4D07-985F-812DB4C9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874-E8EB-4D52-A6B6-D2BF0E29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B51-68D2-43F0-918C-EA714E0F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19E-8E42-4AC4-9C2B-4BF897D0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90360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FAD-6157-4D99-890D-14A10FB9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CB8-EC37-4F2D-8344-DB2451FA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25A-B72C-4F0C-B4FE-9459CB2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FEF-0ACC-42A2-8232-45E1E135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5257800"/>
            <a:ext cx="8686800" cy="1736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12D-CAB1-4FA6-9AB4-24591502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>
              <a:alpha val="99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1996920"/>
            <a:ext cx="8686800" cy="257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5000" y="593640"/>
            <a:ext cx="791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Futura XBlk BT"/>
              </a:rPr>
              <a:t>Optimal Housing Deci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Futura XBlk BT"/>
              </a:rPr>
              <a:t>In the NYC mark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3FD5-D88F-4DB8-9694-7D207EE2D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8560" y="4478400"/>
            <a:ext cx="164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anelle Eve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jay Kejri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ima K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osh Kran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i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6680" y="4572000"/>
            <a:ext cx="197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cis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60.2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. J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orning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pril 25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llegro BT"/>
              </a:rPr>
              <a:t>Click to edit the title text format</a:t>
            </a:r>
            <a:endParaRPr b="0" lang="en-US" sz="3500" spc="-1" strike="noStrike">
              <a:solidFill>
                <a:srgbClr val="ffcc00"/>
              </a:solidFill>
              <a:latin typeface="Allegro B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1: Output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03884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543480" cy="50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200400" y="3486240"/>
            <a:ext cx="5715000" cy="311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83480" y="3327480"/>
            <a:ext cx="22860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ribution of Net Worth in Optimal Neighborhood over 500 tr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876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t Frontier for Net Wo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1: Recommendation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066680"/>
            <a:ext cx="5410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affordable mortgage amount = $10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affordable mortgage payments = $1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&gt;&gt; 10 year Fix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neighborhood to maximize equity value is Highbridge/South Con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grayscl/>
            <a:lum contrast="20000"/>
          </a:blip>
          <a:stretch/>
        </p:blipFill>
        <p:spPr>
          <a:xfrm>
            <a:off x="3105000" y="2013120"/>
            <a:ext cx="5658120" cy="400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5181480" y="2590560"/>
            <a:ext cx="121932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2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Juran becomes famous and is now giving solo shows all over the world. His all-in compensation is $250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s no savings from his previous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s monthly credit card payments of $1000 and student loans of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now like to live in Manhatt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sure that he wants a 30 year fixed mort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2: Input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1395360"/>
            <a:ext cx="4038840" cy="3867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0" y="154620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2: Output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0880" y="1066680"/>
            <a:ext cx="3497400" cy="218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ribution of Net Worth in Optimal Neighborhood over 500 tr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876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t Frontier for Net Wo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191120" y="3174840"/>
            <a:ext cx="4190760" cy="473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657600" y="3733920"/>
            <a:ext cx="5181480" cy="2949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96080" y="3581280"/>
            <a:ext cx="2286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2: Recommendation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5029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affordable mortgage amount = $77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affordable mortgage payments = $5,8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&gt;&gt; 30 Year Fix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afford all areas in Manhat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an’s ideal neighborhood to maximize his equity value is Stuyvesant 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grayscl/>
            <a:lum contrast="20000"/>
          </a:blip>
          <a:stretch/>
        </p:blipFill>
        <p:spPr>
          <a:xfrm>
            <a:off x="3352680" y="2470320"/>
            <a:ext cx="5658120" cy="4006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91120" y="3733920"/>
            <a:ext cx="20574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Limitations</a:t>
            </a:r>
            <a:endParaRPr b="0" lang="en-US" sz="39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models require comput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t knowledge required to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nputs on housing market are not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41148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economic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Hous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ment Portfolio Add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6920" y="3332160"/>
            <a:ext cx="9036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Extens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05120" y="2152800"/>
            <a:ext cx="5333760" cy="158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19520" y="368784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SimSun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9920" y="152388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ngsana New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grayscl/>
          </a:blip>
          <a:srcRect l="0" t="0" r="0" b="3923"/>
          <a:stretch/>
        </p:blipFill>
        <p:spPr>
          <a:xfrm>
            <a:off x="3790800" y="1066680"/>
            <a:ext cx="5658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Black"/>
              </a:rPr>
              <a:t>Managerial Problem Definition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 Stern alum is considering buying a home in 2006 but does not know where to buy, and what price/monthly payments he can afford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deally he wants to realize as much return on the property as possible but given the volatility of the real estate market, the extent of price appreciation is unknow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Formulation</a:t>
            </a:r>
            <a:endParaRPr b="0" lang="en-US" sz="39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rtgage Amou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rtgage Type/Ter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Objec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ximize user’s real estate equity at the end of mortgage ter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289640" y="2438280"/>
          <a:ext cx="18288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9640" y="2438280"/>
                    <a:ext cx="1828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243920" y="165240"/>
          <a:ext cx="190008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3920" y="165240"/>
                    <a:ext cx="19000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56080" y="2438280"/>
          <a:ext cx="188280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6080" y="2438280"/>
                    <a:ext cx="1882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59320" y="152280"/>
          <a:ext cx="1836720" cy="215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59320" y="152280"/>
                    <a:ext cx="18367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369040" y="4673520"/>
          <a:ext cx="1841400" cy="203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9040" y="4673520"/>
                    <a:ext cx="18414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277040" y="4673520"/>
          <a:ext cx="1800360" cy="20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77040" y="4673520"/>
                    <a:ext cx="180036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Assumptions</a:t>
            </a:r>
            <a:endParaRPr b="0" lang="en-US" sz="39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perty taxes are a fixed percentage of monthly payments (20%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p to 28% of monthly income is available to service mortgage and tax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perty to be purchased in 2006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M is based on 5-5-2 standar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edian housing values are used to calculate affordability per commun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3434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tal monthly expenses should not exceed monthly sal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cation in the model is limited to 5 boroug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rtgage Rates: min, max over last 30 y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4320" y="3560760"/>
            <a:ext cx="9036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Constrai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odel Overview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509920" y="14479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14479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600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414240" y="14040"/>
            <a:ext cx="333360" cy="4267080"/>
          </a:xfrm>
          <a:custGeom>
            <a:avLst/>
            <a:gdLst>
              <a:gd name="textAreaLeft" fmla="*/ 213120 w 333360"/>
              <a:gd name="textAreaRight" fmla="*/ 333720 w 3333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2146320"/>
            <a:ext cx="838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Inputs</a:t>
            </a:r>
            <a:endParaRPr b="0" lang="en-US" sz="39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Gross In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ings Available for Down Pay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 Lo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dit Card Pay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 Lo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ings for Reti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st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19051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Mortgage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2209680"/>
            <a:ext cx="838080" cy="0"/>
          </a:xfrm>
          <a:prstGeom prst="line">
            <a:avLst/>
          </a:prstGeom>
          <a:ln w="108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96252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Interest Rate (Approx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Years in New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ed Rate, Adjustable or Best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, 15 or 10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M Fixed Number of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4343400"/>
            <a:ext cx="2514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Fit Mortgag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648320"/>
            <a:ext cx="838080" cy="0"/>
          </a:xfrm>
          <a:prstGeom prst="line">
            <a:avLst/>
          </a:prstGeom>
          <a:ln w="108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1722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hood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60199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fordable Neighborh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108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1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. Juran, decides to change careers and accept position as interpretive dancer for the New York City Ballet paying an annual gross income of $75K. He also has $10K in savings for a down pay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has monthly credit card payments of $200 and student loans of $6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is willing to live in any neighborhood accessible by public transpor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owever, he is unsure about mortgage product or length, so we will allow the model to find the best fi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1: Input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1479600"/>
            <a:ext cx="4419360" cy="404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3434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6:49:06Z</dcterms:created>
  <dc:creator>Hima Kher</dc:creator>
  <dc:description/>
  <dc:language>en-US</dc:language>
  <cp:lastModifiedBy>imaging</cp:lastModifiedBy>
  <dcterms:modified xsi:type="dcterms:W3CDTF">2005-04-25T12:49:14Z</dcterms:modified>
  <cp:revision>100</cp:revision>
  <dc:subject/>
  <dc:title>Slide 1</dc:title>
</cp:coreProperties>
</file>