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D0F-E352-41BE-ABA4-DD4E43AD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AC3-6C64-4DBF-B7FD-64F84AE3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B0C-B2E0-4807-A30A-28F578B7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AB4-3C4B-4D50-B2F1-7C2C915F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A5A-2F64-4A6B-A45D-8EC7C503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0D5-CFFD-4C04-AECD-214826D0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048-3F0E-42AD-820D-A23B479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861-ED39-4704-B356-55F9F8B0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E69-309B-4733-94CB-B8D9BD3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5D0-3A4D-48AE-AF5F-A5DAA7C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680-B228-4200-9380-6101EED6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2BF-E12D-45E9-A0A1-2EF2CB4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88DC-38DD-4772-A699-34F21F31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card.veepers.com/card/YpkgmQoY2rgU97EHo4oBMW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7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uran Wedding Plann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248520" cy="6352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0" y="1219320"/>
            <a:ext cx="1828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T. Fa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Oroz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dy Zah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an 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uses Solver to maximize the total happiness points that can be created through different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s assigned for each category and attribute are based on the couples’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WP will return the optimum mix that maximizes happiness while staying within the budgetar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ner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iness Quotien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t Att within each Category Ra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rained by Budget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579096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600200"/>
          <a:ext cx="822960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229600" cy="51465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3520" y="838080"/>
            <a:ext cx="19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83808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838080"/>
            <a:ext cx="2361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of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95680" y="1219320"/>
            <a:ext cx="3962520" cy="380880"/>
            <a:chOff x="4495680" y="1219320"/>
            <a:chExt cx="3962520" cy="380880"/>
          </a:xfrm>
        </p:grpSpPr>
        <p:sp>
          <p:nvSpPr>
            <p:cNvPr id="99" name=""/>
            <p:cNvSpPr/>
            <p:nvPr/>
          </p:nvSpPr>
          <p:spPr>
            <a:xfrm>
              <a:off x="4495680" y="137160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77120" y="1219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640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7712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520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58200" y="137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72000" y="6176880"/>
            <a:ext cx="380988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ed Cost, Variable Cost, &amp;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JLo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ard.veepers.com/card/YpkgmQoY2rgU97EHo4oBMW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8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C -0.00365 -0.0074 -0.00834 -0.01342 -0.0125 -0.02037 C -0.01476 -0.02916 -0.01719 -0.0375 -0.01945 -0.04629 C -0.02223 -0.0574 -0.02171 -0.06296 -0.02639 -0.07222 C -0.03021 -0.09236 -0.03351 -0.11087 -0.04306 -0.12777 C -0.04792 -0.14722 -0.05816 -0.16273 -0.06667 -0.17962 C -0.0691 -0.18449 -0.07014 -0.1912 -0.07223 -0.19629 C -0.07657 -0.20671 -0.08282 -0.21782 -0.0875 -0.22777 C -0.09219 -0.2375 -0.09618 -0.24814 -0.10139 -0.2574 C -0.10313 -0.26435 -0.10573 -0.26967 -0.10834 -0.27592 C -0.11025 -0.28078 -0.1125 -0.28541 -0.11389 -0.29074 C -0.11441 -0.29259 -0.11459 -0.29444 -0.11528 -0.29629 C -0.12032 -0.30949 -0.12726 -0.32106 -0.13334 -0.33333 C -0.13525 -0.34398 -0.14167 -0.35324 -0.14879 -0.35925 C -0.15139 -0.36967 -0.15903 -0.37361 -0.16528 -0.37962 C -0.16684 -0.38125 -0.16806 -0.38379 -0.16962 -0.38518 C -0.17084 -0.38634 -0.1724 -0.38611 -0.17362 -0.38703 C -0.18039 -0.39143 -0.18629 -0.39791 -0.19306 -0.40185 C -0.20139 -0.40671 -0.21059 -0.40925 -0.21945 -0.41111 C -0.23368 -0.41041 -0.25973 -0.41296 -0.27639 -0.40555 C -0.28403 -0.39791 -0.29375 -0.39467 -0.30139 -0.38703 C -0.31007 -0.37847 -0.304 -0.38171 -0.31112 -0.37222 C -0.31268 -0.37013 -0.31511 -0.36875 -0.31667 -0.36666 C -0.32084 -0.36111 -0.32431 -0.35254 -0.32778 -0.34629 C -0.33108 -0.33287 -0.33681 -0.32476 -0.34167 -0.31296 C -0.34532 -0.30393 -0.34844 -0.29467 -0.35139 -0.28518 C -0.35747 -0.2662 -0.35816 -0.24259 -0.35973 -0.22222 C -0.35921 -0.19375 -0.35921 -0.1655 -0.35834 -0.13703 C -0.35799 -0.12384 -0.35313 -0.11041 -0.35 -0.09814 C -0.34636 -0.08333 -0.34428 -0.06967 -0.33889 -0.05555 C -0.33299 -0.03981 -0.33004 -0.02175 -0.31806 -0.01111 C -0.30382 0.01737 -0.27605 0.03357 -0.25417 0.04815 C -0.2441 0.05487 -0.23178 0.05625 -0.22223 0.06482 C -0.20035 0.06413 -0.1783 0.06644 -0.15695 0.05926 C -0.14028 0.05371 -0.12066 0.03612 -0.10556 0.02593 C -0.0665 -0.000230000000000001 -0.029 -0.02893 0.00138 -0.07222 C 0.0059 -0.0787 0.00868 -0.08703 0.01388 -0.09259 C 0.01996 -0.09907 0.02656 -0.10555 0.03055 -0.11481 C 0.03888 -0.13402 0.04513 -0.15439 0.05833 -0.16851 C 0.0592 -0.17106 0.05989 -0.17361 0.06093 -0.17592 C 0.06215 -0.17847 0.06406 -0.18055 0.06527 -0.18333 C 0.06944 -0.19328 0.06961 -0.19861 0.07638 -0.2074 C 0.07829 -0.21574 0.08316 -0.22847 0.08888 -0.23333 C 0.09548 -0.25092 0.11024 -0.26203 0.12083 -0.27592 C 0.12968 -0.28773 0.12239 -0.28333 0.13038 -0.28703 C 0.13732 -0.29837 0.146 -0.3037 0.15416 -0.31296 C 0.16197 -0.32175 0.16909 -0.3287 0.17777 -0.33518 C 0.18472 -0.3405 0.18923 -0.34722 0.19704 -0.35 C 0.20694 -0.35879 0.20208 -0.35625 0.21111 -0.35925 C 0.2177 -0.36504 0.22673 -0.36712 0.23472 -0.36851 C 0.24444 -0.37013 0.26388 -0.37222 0.26388 -0.37222 C 0.28802 -0.37152 0.31215 -0.37245 0.33611 -0.37037 C 0.33958 -0.37013 0.34253 -0.3662 0.34583 -0.36481 C 0.35868 -0.35972 0.37152 -0.35439 0.38472 -0.35 C 0.39375 -0.34305 0.40607 -0.33981 0.41388 -0.32962 C 0.4151 -0.328 0.41545 -0.32546 0.41666 -0.32407 C 0.42048 -0.31944 0.42916 -0.31111 0.42916 -0.31111 C 0.43246 -0.30254 0.43645 -0.29699 0.44027 -0.28888 C 0.45659 -0.25486 0.4368 -0.29444 0.44566 -0.27037 C 0.44757 -0.2655 0.45052 -0.2618 0.45277 -0.2574 C 0.45312 -0.25416 0.45434 -0.24768 0.45555 -0.24444 C 0.45729 -0.23935 0.46111 -0.22962 0.46111 -0.22962 C 0.47048 -0.1662 0.46336 -0.09606 0.4625 -0.03518 C 0.46232 -0.01944 0.4592 -0.0081 0.45416 0.00556 C 0.4526 0.01852 0.44878 0.03102 0.44444 0.0426 C 0.44166 0.05024 0.44114 0.05903 0.43888 0.06667 C 0.4368 0.07431 0.43281 0.08241 0.42916 0.08889 C 0.42621 0.1007 0.42222 0.10903 0.41666 0.11852 C 0.41302 0.13311 0.40277 0.14399 0.39444 0.15371 C 0.38975 0.15926 0.38628 0.16459 0.38194 0.17038 C 0.37725 0.17663 0.36909 0.18218 0.36388 0.18704 C 0.36007 0.19051 0.35416 0.19676 0.35 0.19815 C 0.346 0.19954 0.34166 0.19931 0.3375 0.2 C 0.33125 0.20209 0.32586 0.20417 0.31944 0.20556 C 0.29913 0.20487 0.27864 0.20487 0.25833 0.20371 C 0.24861 0.20325 0.23871 0.19399 0.22916 0.19075 C 0.225 0.18704 0.22083 0.18334 0.21649 0.17963 C 0.21284 0.17616 0.20677 0.175 0.20277 0.17223 C 0.19566 0.1676 0.19079 0.16088 0.18316 0.15741 C 0.17847 0.14491 0.18316 0.15417 0.17482 0.14445 C 0.16666 0.1345 0.1625 0.12686 0.1526 0.12038 C 0.14704 0.11019 0.13559 0.1051 0.13038 0.09445 C 0.1151 0.06204 0.10642 0.02616 0.09566 -0.00925 C 0.08906 -0.03217 0.08507 -0.05625 0.07916 -0.07962 C 0.07656 -0.09004 0.07552 -0.0993 0.06944 -0.1074 C 0.06475 -0.13194 0.05607 -0.15324 0.04843 -0.17592 C 0.03732 -0.20925 0.02621 -0.24259 0.00954 -0.27222 C 0.00711 -0.28263 0.00173 -0.28842 -0.00417 -0.29629 C -0.01268 -0.30763 -0.02118 -0.32615 -0.03334 -0.33148 C -0.0599 -0.3581 -0.09306 -0.36134 -0.125 -0.36666 C -0.1408 -0.36597 -0.15643 -0.36597 -0.1724 -0.36481 C -0.18577 -0.36388 -0.20087 -0.34282 -0.2125 -0.33518 C -0.21632 -0.328 -0.22118 -0.32199 -0.225 -0.31481 C -0.23004 -0.30509 -0.23438 -0.29351 -0.23889 -0.28333 C -0.2408 -0.26759 -0.24428 -0.25324 -0.24584 -0.23703 C -0.24514 -0.20555 -0.24636 -0.16643 -0.2375 -0.13518 C -0.23039 -0.10995 -0.2198 -0.08634 -0.20973 -0.06296 C -0.2066 -0.05578 -0.20365 -0.04421 -0.2 -0.03703 C -0.19705 -0.03101 -0.19219 -0.02615 -0.18889 -0.02037 C -0.18733 -0.01759 -0.18646 -0.01388 -0.18473 -0.01111 C -0.18108 -0.00555 -0.17518 -0.00115 -0.17084 0.00371 C -0.14827 0.0301 -0.12032 0.05209 -0.09167 0.06482 C -0.08056 0.07663 -0.06858 0.07709 -0.05556 0.08334 C -0.03473 0.09329 -0.05799 0.08519 -0.03334 0.0926 C -0.0191 0.10209 -0.00365 0.10325 0.01111 0.11112 C 0.02361 0.11042 0.03611 0.11135 0.04843 0.10926 C 0.05121 0.1088 0.05277 0.10487 0.05555 0.10371 C 0.06458 0.09954 0.07656 0.09792 0.08593 0.0963 C 0.09184 0.09283 0.09826 0.09121 0.10416 0.08704 C 0.11232 0.08102 0.11024 0.07871 0.11649 0.07038 C 0.12882 0.05417 0.11875 0.07315 0.13194 0.05186 C 0.14461 0.03172 0.13003 0.04862 0.14444 0.03334 C 0.1526 0.00764 0.14357 0.03311 0.15555 0.00741 C 0.16076 -0.0037 0.16423 -0.01666 0.16944 -0.02777 C 0.17482 -0.03981 0.1809 -0.04953 0.18454 -0.06296 C 0.18819 -0.07638 0.19218 -0.09004 0.19566 -0.1037 C 0.19791 -0.11203 0.2 -0.12962 0.2 -0.12962 C 0.20208 -0.16851 0.20538 -0.20671 0.19027 -0.24074 C 0.18715 -0.25694 0.17899 -0.27152 0.17204 -0.28518 C 0.16475 -0.29976 0.15729 -0.31296 0.14583 -0.32222 C 0.14201 -0.32986 0.13454 -0.33472 0.1276 -0.33703 C 0.11371 -0.35115 0.09704 -0.36296 0.08055 -0.37037 C 0.07725 -0.37175 0.07517 -0.37569 0.07204 -0.37777 C 0.06649 -0.38171 0.05902 -0.38287 0.05277 -0.38518 C 0.04965 -0.38634 0.03958 -0.39166 0.03472 -0.39259 C 0.025 -0.39467 0.01753 -0.39699 0.00833 -0.4 C -0.000869999999999999 -0.403 -0.01945 -0.4074 -0.01945 -0.4074 C -0.04341 -0.40625 -0.05035 -0.40995 -0.06667 -0.4037 C -0.07327 -0.40115 -0.07865 -0.39606 -0.08473 -0.39259 C -0.08733 -0.39097 -0.09306 -0.38888 -0.09306 -0.38888 C -0.10417 -0.37407 -0.09862 -0.3787 -0.10834 -0.37222 C -0.1132 -0.3625 -0.11789 -0.35509 -0.125 -0.34814 C -0.12796 -0.33611 -0.13368 -0.32523 -0.13889 -0.31481 C -0.1408 -0.30509 -0.1441 -0.29629 -0.14723 -0.28703 C -0.15139 -0.27523 -0.15417 -0.26342 -0.15851 -0.25185 C -0.16372 -0.20879 -0.16077 -0.16064 -0.15973 -0.11851 C -0.15921 -0.09583 -0.15625 -0.0706 -0.14879 -0.05 C -0.14601 -0.03263 -0.13855 -0.01689 -0.13195 -0.00185 C -0.12726 0.00903 -0.12327 0.01922 -0.11806 0.02963 C -0.11719 0.03149 -0.11511 0.03172 -0.11389 0.03334 C -0.10469 0.04561 -0.09566 0.05695 -0.08473 0.06667 C -0.07987 0.07107 -0.0757 0.07709 -0.07084 0.08149 C -0.06233 0.08913 -0.05209 0.09399 -0.04306 0.1 C -0.03351 0.10625 -0.02379 0.11551 -0.01389 0.12038 C 0.00902 0.13172 0.03281 0.13658 0.05694 0.13889 C 0.07343 0.13774 0.09027 0.1375 0.10677 0.13519 C 0.10902 0.13496 0.11041 0.13264 0.1125 0.13149 C 0.1302 0.12061 0.14114 0.10278 0.15694 0.08889 C 0.16701 0.06875 0.17569 0.04746 0.18593 0.02778 C 0.19027 0.01968 0.19843 0.00371 0.19843 0.00371 C 0.20416 -0.02222 0.21527 -0.04444 0.22083 -0.07037 C 0.22517 -0.09097 0.22552 -0.1118 0.23194 -0.13148 C 0.23559 -0.15532 0.23316 -0.13472 0.23055 -0.18333 C 0.22986 -0.1956 0.23003 -0.2081 0.22916 -0.22037 C 0.22847 -0.23217 0.221 -0.24351 0.21649 -0.2537 C 0.21493 -0.25787 0.21475 -0.26296 0.2125 -0.26666 C 0.20277 -0.28287 0.19166 -0.29074 0.17916 -0.30185 C 0.17066 -0.30925 0.16163 -0.31875 0.15121 -0.32222 C 0.13454 -0.33564 0.11406 -0.33726 0.09566 -0.34629 C 0.08038 -0.35416 0.06388 -0.35925 0.04722 -0.36111 C 0.03177 -0.3662 0.01579 -0.36851 8.33333E-007 -0.37037 C -0.01858 -0.36944 -0.0375 -0.37199 -0.05556 -0.36666 C -0.05816 -0.36597 -0.0599 -0.3625 -0.0625 -0.36111 C -0.0698 -0.3574 -0.07987 -0.35254 -0.0875 -0.35 C -0.09393 -0.34328 -0.09879 -0.3412 -0.10556 -0.33518 C -0.11059 -0.33078 -0.11372 -0.32662 -0.11945 -0.32407 C -0.12431 -0.31759 -0.13039 -0.31435 -0.13473 -0.3074 C -0.1408 -0.29791 -0.1349 -0.30601 -0.13889 -0.29629 C -0.14792 -0.2743 -0.15782 -0.25254 -0.16528 -0.22962 C -0.16928 -0.21736 -0.17188 -0.20486 -0.17639 -0.19259 C -0.17865 -0.17777 -0.18125 -0.15555 -0.18612 -0.14259 C -0.19132 -0.10787 -0.18872 -0.11412 -0.18473 -0.05555 C -0.18316 -0.03263 -0.17796 -0.00949 -0.17084 0.01112 C -0.16441 0.02963 -0.16059 0.0507 -0.15296 0.06852 C -0.1415 0.09468 -0.12309 0.11806 -0.10139 0.12778 C -0.09219 0.1375 -0.08594 0.13959 -0.075 0.14445 C -0.05313 0.15417 -0.03108 0.16065 -0.00834 0.16667 C -0.00157 0.16598 0.00572 0.16644 0.0125 0.16482 C 0.01597 0.16389 0.01892 0.16065 0.02222 0.15926 C 0.02934 0.15602 0.03715 0.15325 0.04444 0.15 C 0.05138 0.14306 0.05902 0.13658 0.06666 0.13149 C 0.07691 0.11436 0.06961 0.12454 0.09027 0.10371 C 0.10295 0.09075 0.11111 0.07038 0.12222 0.05556 C 0.12777 0.0375 0.13576 0.01899 0.14305 0.00186 C 0.14965 -0.01342 0.15017 -0.0081 0.15555 -0.02407 C 0.17187 -0.075 0.18697 -0.12638 0.19305 -0.18148 C 0.1934 -0.19143 0.19444 -0.20115 0.19427 -0.21111 C 0.19409 -0.23819 0.19288 -0.2655 0.19166 -0.29259 C 0.19027 -0.32291 0.1802 -0.3743 0.15555 -0.38518 C 0.15086 -0.39467 0.13819 -0.39675 0.13038 -0.40185 C 0.12777 -0.4037 0.12135 -0.40972 0.11788 -0.41111 C 0.08663 -0.42361 0.05503 -0.43217 0.02222 -0.43703 C 0.00607 -0.43634 -0.01025 -0.4368 -0.02639 -0.43518 C -0.02848 -0.43495 -0.03004 -0.4324 -0.03195 -0.43148 C -0.03889 -0.42777 -0.04879 -0.42569 -0.05417 -0.41851 C -0.06181 -0.40833 -0.07084 -0.39976 -0.07917 -0.39074 C -0.08178 -0.38796 -0.08507 -0.38657 -0.0875 -0.38333 C -0.10087 -0.3655 -0.11268 -0.34444 -0.12362 -0.32407 C -0.13403 -0.30462 -0.14514 -0.28564 -0.15417 -0.26481 C -0.16684 -0.23564 -0.17327 -0.20277 -0.18612 -0.17407 C -0.18768 -0.16365 -0.18976 -0.15833 -0.19445 -0.15 C -0.20018 -0.11203 -0.2132 -0.07685 -0.21945 -0.03888 C -0.21858 -0.00625 -0.21823 0.02663 -0.21667 0.05926 C -0.21511 0.09167 -0.19827 0.12246 -0.18473 0.14815 C -0.18334 0.15371 -0.18282 0.15973 -0.18073 0.16482 C -0.179 0.16852 -0.17587 0.17084 -0.17362 0.17408 C -0.15018 0.2088 -0.12518 0.2169 -0.09167 0.22593 C -0.075 0.22524 -0.05834 0.22524 -0.04167 0.22408 C -0.03386 0.22362 -0.025 0.21019 -0.01806 0.20556 C -0.01355 0.19769 -0.00921 0.19561 -0.00417 0.18889 C 0.00052 0.18264 -0.00348 0.18311 0.00277 0.17778 C 0.00625 0.17477 0.01024 0.17292 0.01388 0.17038 C 0.01909 0.1669 0.02291 0.15996 0.02777 0.15556 C 0.03177 0.147 0.03767 0.14051 0.04288 0.13334 C 0.05711 0.11459 0.03559 0.13496 0.05 0.12223 C 0.05399 0.11135 0.05659 0.10232 0.06232 0.0926 C 0.06822 0.06875 0.07656 0.0463 0.08194 0.02223 C 0.0842 0.01204 0.08593 -0.00925 0.08593 -0.00925 C 0.08541 -0.03055 0.08697 -0.07731 0.06527 -0.08703 C 0.06093 -0.09259 0.05746 -0.09375 0.05277 -0.09814 C 0.04253 -0.09745 0.03229 -0.09861 0.02222 -0.09629 C 0.01996 -0.09583 0.01875 -0.08703 0.01805 -0.08518 C 0.01562 -0.07847 0.01284 -0.0743 0.00954 -0.06851 C 0.00572 -0.06111 0.00382 -0.05208 8.33333E-007 -0.04444 C -0.00226 -0.0324 -0.00417 -0.02384 -0.00417 -0.01111 E">
                                      <p:cBhvr>
                                        <p:cTn id="129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: Maximize Bridal Bli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uran Wedding Planner (JWP) is a fast, easy way to ensure happiness on the big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uples to choose an optimal mix of attributes for their wedding and reception, specifically tailored to suit every taste and budget rang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uples to rank the importance of the various aspects of their wedding day, and choose which attributes are important to them for each a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s solver to maximize the happiness quotient, given available options and budget constraints for each categ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ption Venu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l fresco to white tablecl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rer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cookin’ to haute cui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grapher/Videograp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ndid to clas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ire (Bridal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nge of styles and fab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ral Arrang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imple to extravag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tainm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, DJs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tations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fferent shapes and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ation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o extravag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ding Cakes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weet to sa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emony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for every belief and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les are asked to rank all 9 categories in order of p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ximum budget for each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 requirements within each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1471680"/>
          <a:ext cx="8305560" cy="52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71680"/>
                    <a:ext cx="8305560" cy="52340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228240" y="380880"/>
            <a:ext cx="1298880" cy="5412960"/>
            <a:chOff x="228240" y="380880"/>
            <a:chExt cx="1298880" cy="5412960"/>
          </a:xfrm>
        </p:grpSpPr>
        <p:sp>
          <p:nvSpPr>
            <p:cNvPr id="56" name=""/>
            <p:cNvSpPr/>
            <p:nvPr/>
          </p:nvSpPr>
          <p:spPr>
            <a:xfrm>
              <a:off x="228600" y="380880"/>
              <a:ext cx="1298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tego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>
              <a:off x="228240" y="510120"/>
              <a:ext cx="1080" cy="528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8" name=""/>
          <p:cNvSpPr/>
          <p:nvPr/>
        </p:nvSpPr>
        <p:spPr>
          <a:xfrm>
            <a:off x="2286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91908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91908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352320" y="843120"/>
            <a:ext cx="5105880" cy="376200"/>
            <a:chOff x="3352320" y="843120"/>
            <a:chExt cx="5105880" cy="376200"/>
          </a:xfrm>
        </p:grpSpPr>
        <p:sp>
          <p:nvSpPr>
            <p:cNvPr id="71" name=""/>
            <p:cNvSpPr/>
            <p:nvPr/>
          </p:nvSpPr>
          <p:spPr>
            <a:xfrm>
              <a:off x="7238880" y="843120"/>
              <a:ext cx="1219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352320" y="12193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3526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5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963720"/>
          <a:ext cx="7848720" cy="57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63720"/>
                    <a:ext cx="7848720" cy="57322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Inputs to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uran Wedding Planner works in rank order for each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hoices based on the number of positive responses to the attribut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ed by the budget limitations for each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Inputs to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puts create a 1(Yes) or 0(No) for each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568600"/>
          <a:ext cx="876312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68600"/>
                    <a:ext cx="8763120" cy="38322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3:49:48Z</dcterms:created>
  <dc:creator>John</dc:creator>
  <dc:description/>
  <dc:language>en-US</dc:language>
  <cp:lastModifiedBy>Alex Orozco</cp:lastModifiedBy>
  <dcterms:modified xsi:type="dcterms:W3CDTF">2005-04-25T13:02:21Z</dcterms:modified>
  <cp:revision>29</cp:revision>
  <dc:subject/>
  <dc:title>The Wedding Planner</dc:title>
</cp:coreProperties>
</file>