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png" ContentType="image/png"/>
  <Override PartName="/ppt/media/image24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8.png" ContentType="image/png"/>
  <Override PartName="/ppt/media/image19.wmf" ContentType="image/x-wmf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5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6.png" ContentType="image/png"/>
  <Override PartName="/ppt/media/image32.jpeg" ContentType="image/jpeg"/>
  <Override PartName="/ppt/media/image20.wmf" ContentType="image/x-wmf"/>
  <Override PartName="/ppt/media/image1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CF68-CAEE-4194-9676-69A56B4CA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670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5640" y="3964320"/>
            <a:ext cx="670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4DF9-D8C6-4CC5-80CB-5863E48F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2184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5640" y="396432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721840" y="396432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4546-3B24-488D-89F6-283662F7A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2920" y="160020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20200" y="160020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5640" y="396432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52920" y="396432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820200" y="396432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2CAD-11BD-4CCA-9E2C-97E7FB9FD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B87A-3CDD-4FFB-815A-8590940F8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564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244A-B3CE-425C-A8E9-005A6927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D519-719B-45DB-B336-1A3647E3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327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21840" y="1600200"/>
            <a:ext cx="327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AE13-0E0B-4302-8E15-48F9D5F3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AD0B-8EA5-46AE-B623-FCA15C96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36196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3F70-E4A8-4F6F-B5C9-201FF3D3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21840" y="1600200"/>
            <a:ext cx="327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5640" y="396432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7A22-246D-4828-A748-97B3CED2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564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D79F-3D2C-4F9A-B69D-DCE1B8CE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327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2184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721840" y="396432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0E6B-7A15-4AAC-A887-8179C918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2184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5640" y="3964320"/>
            <a:ext cx="670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B331-4026-45DF-83C5-B5DE3A26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670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5640" y="3964320"/>
            <a:ext cx="670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9BED-A470-4898-B4E7-59140834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72184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5640" y="396432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721840" y="396432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AA81-ABA0-41C9-A342-8A316ED58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52920" y="160020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20200" y="160020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5640" y="396432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552920" y="396432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820200" y="396432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24F5-8EE5-4124-A649-374B1AED2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63F71-53AC-414E-A0AD-D15A74D35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8564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93050-C62D-4754-BE2F-9EE33488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6D8B2-0BF5-4833-8F30-C2C07633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327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721840" y="1600200"/>
            <a:ext cx="327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BF573-29AB-41BB-B058-18916ECB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AA8DA-C0EE-446E-AF4A-41375AEF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28F6-0EEE-4288-B626-D55C02B9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36196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CAAC0-FD84-4725-87FB-D88BC3E2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721840" y="1600200"/>
            <a:ext cx="327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5640" y="396432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5AB0F-C771-4D20-B329-78988F0E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327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72184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21840" y="396432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D30D1-2DF6-48CB-9CE5-07E73401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2184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285640" y="3964320"/>
            <a:ext cx="670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7C987-777A-4C90-A78D-C55593FB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670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285640" y="3964320"/>
            <a:ext cx="670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ED3F8-3029-4C6A-984E-97623999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72184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285640" y="396432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721840" y="396432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11F11-1268-435F-9B0B-18D253279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52920" y="160020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20200" y="160020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2285640" y="396432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552920" y="396432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820200" y="396432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64662-37D0-4A97-A682-D6F910EEA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327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21840" y="1600200"/>
            <a:ext cx="327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08F4-8979-47A0-8233-F22F4030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72A3-04C8-4857-B392-8EFA9A1F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196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F4DF-A649-4757-8EED-3AA91742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721840" y="1600200"/>
            <a:ext cx="327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5640" y="396432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771B-2BF7-430E-B593-B93E1E8A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327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2184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721840" y="396432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C300-E196-466D-AB8A-58000D52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2184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5640" y="3964320"/>
            <a:ext cx="670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E73C-053D-4216-BA3B-94E4FAE9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0" y="380880"/>
            <a:ext cx="6705720" cy="914400"/>
          </a:xfrm>
          <a:prstGeom prst="roundRect">
            <a:avLst>
              <a:gd name="adj" fmla="val 16667"/>
            </a:avLst>
          </a:prstGeom>
          <a:solidFill>
            <a:srgbClr val="bbe0e3">
              <a:alpha val="50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564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8DE9-14EB-4E83-83A8-586CCE193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Route 374, Death Valley, California, USA"/>
          <p:cNvPicPr/>
          <p:nvPr/>
        </p:nvPicPr>
        <p:blipFill>
          <a:blip r:embed="rId2"/>
          <a:stretch/>
        </p:blipFill>
        <p:spPr>
          <a:xfrm>
            <a:off x="0" y="0"/>
            <a:ext cx="21337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6EAE-4168-42CA-8475-00524E88D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55E8-E16F-4395-9CD6-3E1D7A19D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hyperlink" Target="http://sxc.hu/browse.phtml?f=download&amp;id=277763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www.vdubgifts.co.uk/Hippy%20bug.html" TargetMode="External"/><Relationship Id="rId3" Type="http://schemas.openxmlformats.org/officeDocument/2006/relationships/image" Target="../media/image27.png"/><Relationship Id="rId4" Type="http://schemas.openxmlformats.org/officeDocument/2006/relationships/hyperlink" Target="http://www.vdubgifts.co.uk/Hippy%20bug.html" TargetMode="External"/><Relationship Id="rId5" Type="http://schemas.openxmlformats.org/officeDocument/2006/relationships/image" Target="../media/image28.pn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12.jpeg"/><Relationship Id="rId10" Type="http://schemas.openxmlformats.org/officeDocument/2006/relationships/image" Target="../media/image9.jpeg"/><Relationship Id="rId11" Type="http://schemas.openxmlformats.org/officeDocument/2006/relationships/image" Target="../media/image32.jpeg"/><Relationship Id="rId12" Type="http://schemas.openxmlformats.org/officeDocument/2006/relationships/image" Target="../media/image33.jpeg"/><Relationship Id="rId13" Type="http://schemas.openxmlformats.org/officeDocument/2006/relationships/image" Target="../media/image34.jpeg"/><Relationship Id="rId14" Type="http://schemas.openxmlformats.org/officeDocument/2006/relationships/image" Target="../media/image35.jpeg"/><Relationship Id="rId15" Type="http://schemas.openxmlformats.org/officeDocument/2006/relationships/image" Target="../media/image36.jpeg"/><Relationship Id="rId16" Type="http://schemas.openxmlformats.org/officeDocument/2006/relationships/image" Target="../media/image37.jpeg"/><Relationship Id="rId17" Type="http://schemas.openxmlformats.org/officeDocument/2006/relationships/image" Target="../media/image17.png"/><Relationship Id="rId18" Type="http://schemas.openxmlformats.org/officeDocument/2006/relationships/image" Target="../media/image7.jpeg"/><Relationship Id="rId19" Type="http://schemas.openxmlformats.org/officeDocument/2006/relationships/image" Target="../media/image13.jpeg"/><Relationship Id="rId20" Type="http://schemas.openxmlformats.org/officeDocument/2006/relationships/image" Target="../media/image14.jpeg"/><Relationship Id="rId2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62520" cy="2971800"/>
          </a:xfrm>
          <a:prstGeom prst="rect">
            <a:avLst/>
          </a:prstGeom>
          <a:ln w="9360">
            <a:solidFill>
              <a:srgbClr val="ff6699"/>
            </a:solidFill>
            <a:miter/>
          </a:ln>
        </p:spPr>
      </p:pic>
      <p:pic>
        <p:nvPicPr>
          <p:cNvPr id="126" name="" descr="Route 374, Death Valley, California, USA"/>
          <p:cNvPicPr/>
          <p:nvPr/>
        </p:nvPicPr>
        <p:blipFill>
          <a:blip r:embed="rId2"/>
          <a:stretch/>
        </p:blipFill>
        <p:spPr>
          <a:xfrm>
            <a:off x="0" y="2971800"/>
            <a:ext cx="3962520" cy="3886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962520" y="4876920"/>
            <a:ext cx="5181480" cy="1981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443480" y="228600"/>
            <a:ext cx="4367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an, Mike, Warren &amp; Bra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omic Sans MS"/>
              </a:rPr>
              <a:t>EXCELL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omic Sans MS"/>
              </a:rPr>
              <a:t>ROAD ADVEN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18480" y="1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62520" y="2971800"/>
            <a:ext cx="5181480" cy="19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olution Methodology - 4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3290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6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6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0" y="563868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onverted distances between destinations into expected travel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6705720" cy="374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olution Methodology - 5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3290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6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6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548640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further defined utility as a function of our date constraints so that our travels did not take us to an event that had already passed or not yet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6648480" cy="348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olution Methodology - 6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del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04920" y="2324160"/>
            <a:ext cx="8610480" cy="2628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334120" y="4572000"/>
            <a:ext cx="356220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3520" y="228600"/>
            <a:ext cx="8076960" cy="914400"/>
          </a:xfrm>
          <a:prstGeom prst="roundRect">
            <a:avLst>
              <a:gd name="adj" fmla="val 16667"/>
            </a:avLst>
          </a:prstGeom>
          <a:solidFill>
            <a:srgbClr val="bbe0e3">
              <a:alpha val="50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1760" y="274680"/>
            <a:ext cx="6629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ur Excellent Road Adventur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52280" y="1604880"/>
            <a:ext cx="8762760" cy="5100120"/>
            <a:chOff x="152280" y="1604880"/>
            <a:chExt cx="8762760" cy="510012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rcRect l="3086" t="0" r="13637" b="15740"/>
            <a:stretch/>
          </p:blipFill>
          <p:spPr>
            <a:xfrm>
              <a:off x="152280" y="1604880"/>
              <a:ext cx="8762760" cy="5023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5" name=""/>
            <p:cNvGrpSpPr/>
            <p:nvPr/>
          </p:nvGrpSpPr>
          <p:grpSpPr>
            <a:xfrm>
              <a:off x="152280" y="1934280"/>
              <a:ext cx="7788960" cy="4770720"/>
              <a:chOff x="152280" y="1934280"/>
              <a:chExt cx="7788960" cy="4770720"/>
            </a:xfrm>
          </p:grpSpPr>
          <p:sp>
            <p:nvSpPr>
              <p:cNvPr id="186" name=""/>
              <p:cNvSpPr/>
              <p:nvPr/>
            </p:nvSpPr>
            <p:spPr>
              <a:xfrm>
                <a:off x="152280" y="5392440"/>
                <a:ext cx="1947240" cy="123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099520" y="6051600"/>
                <a:ext cx="1541520" cy="65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805440" y="1934280"/>
                <a:ext cx="1135800" cy="219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"/>
          <p:cNvSpPr/>
          <p:nvPr/>
        </p:nvSpPr>
        <p:spPr>
          <a:xfrm>
            <a:off x="7924680" y="3048120"/>
            <a:ext cx="304920" cy="30456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3886200"/>
            <a:ext cx="304920" cy="304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38880" y="3809880"/>
            <a:ext cx="304920" cy="304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62920" y="6324480"/>
            <a:ext cx="304560" cy="304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10080" y="5486400"/>
            <a:ext cx="304920" cy="304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3886200"/>
            <a:ext cx="304920" cy="304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05320" y="2743200"/>
            <a:ext cx="304560" cy="304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91120" y="5334120"/>
            <a:ext cx="304560" cy="30456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95680"/>
            <a:ext cx="304560" cy="304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1219320"/>
            <a:ext cx="304920" cy="30456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3276720"/>
            <a:ext cx="304920" cy="30456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3886200"/>
            <a:ext cx="304920" cy="304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62320" y="2514600"/>
            <a:ext cx="304560" cy="304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24480" y="3048120"/>
            <a:ext cx="304920" cy="30456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29400" y="3352680"/>
            <a:ext cx="304920" cy="304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>
            <a:hlinkClick r:id="rId2"/>
          </p:cNvPr>
          <p:cNvPicPr/>
          <p:nvPr/>
        </p:nvPicPr>
        <p:blipFill>
          <a:blip r:embed="rId3"/>
          <a:srcRect l="11914" t="41091" r="7228" b="0"/>
          <a:stretch/>
        </p:blipFill>
        <p:spPr>
          <a:xfrm>
            <a:off x="7772400" y="2971800"/>
            <a:ext cx="533520" cy="4046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rId4"/>
          </p:cNvPr>
          <p:cNvPicPr/>
          <p:nvPr/>
        </p:nvPicPr>
        <p:blipFill>
          <a:blip r:embed="rId5"/>
          <a:srcRect l="7228" t="41091" r="11914" b="0"/>
          <a:stretch/>
        </p:blipFill>
        <p:spPr>
          <a:xfrm>
            <a:off x="304920" y="3048120"/>
            <a:ext cx="533160" cy="404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5734080" y="2666880"/>
            <a:ext cx="1886040" cy="25146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5638680" y="259092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8"/>
          <a:stretch/>
        </p:blipFill>
        <p:spPr>
          <a:xfrm>
            <a:off x="5562720" y="445788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9"/>
          <a:stretch/>
        </p:blipFill>
        <p:spPr>
          <a:xfrm>
            <a:off x="4495680" y="3657600"/>
            <a:ext cx="2113200" cy="32004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0"/>
          <a:stretch/>
        </p:blipFill>
        <p:spPr>
          <a:xfrm>
            <a:off x="2971800" y="3352680"/>
            <a:ext cx="5000760" cy="13766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Mount Rushmore lit up at night. The mountain is lit-up everyday of the year with programs during the summer."/>
          <p:cNvPicPr/>
          <p:nvPr/>
        </p:nvPicPr>
        <p:blipFill>
          <a:blip r:embed="rId11"/>
          <a:stretch/>
        </p:blipFill>
        <p:spPr>
          <a:xfrm>
            <a:off x="2057400" y="1981080"/>
            <a:ext cx="3571920" cy="17146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2"/>
          <a:stretch/>
        </p:blipFill>
        <p:spPr>
          <a:xfrm>
            <a:off x="2057400" y="3962520"/>
            <a:ext cx="4170240" cy="26208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The shed."/>
          <p:cNvPicPr/>
          <p:nvPr/>
        </p:nvPicPr>
        <p:blipFill>
          <a:blip r:embed="rId13"/>
          <a:stretch/>
        </p:blipFill>
        <p:spPr>
          <a:xfrm>
            <a:off x="1676520" y="3809880"/>
            <a:ext cx="2666880" cy="1809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4"/>
          <a:stretch/>
        </p:blipFill>
        <p:spPr>
          <a:xfrm>
            <a:off x="0" y="3505320"/>
            <a:ext cx="5029200" cy="11667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5"/>
          <a:stretch/>
        </p:blipFill>
        <p:spPr>
          <a:xfrm>
            <a:off x="1066680" y="990720"/>
            <a:ext cx="3276720" cy="32702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6"/>
          <a:srcRect l="0" t="35562" r="0" b="11120"/>
          <a:stretch/>
        </p:blipFill>
        <p:spPr>
          <a:xfrm>
            <a:off x="4572000" y="2438280"/>
            <a:ext cx="3809880" cy="1143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7"/>
          <a:stretch/>
        </p:blipFill>
        <p:spPr>
          <a:xfrm>
            <a:off x="5562720" y="3124080"/>
            <a:ext cx="2361960" cy="16002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8"/>
          <a:stretch/>
        </p:blipFill>
        <p:spPr>
          <a:xfrm>
            <a:off x="7086600" y="1828800"/>
            <a:ext cx="1808280" cy="29718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Photo of Vineyard"/>
          <p:cNvPicPr/>
          <p:nvPr/>
        </p:nvPicPr>
        <p:blipFill>
          <a:blip r:embed="rId19"/>
          <a:stretch/>
        </p:blipFill>
        <p:spPr>
          <a:xfrm>
            <a:off x="0" y="2286000"/>
            <a:ext cx="2085840" cy="21146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Vancuver, the most beautiful city in Canada"/>
          <p:cNvPicPr/>
          <p:nvPr/>
        </p:nvPicPr>
        <p:blipFill>
          <a:blip r:embed="rId20"/>
          <a:stretch/>
        </p:blipFill>
        <p:spPr>
          <a:xfrm>
            <a:off x="0" y="685800"/>
            <a:ext cx="3886200" cy="25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81481E-006 C -0.02049 0.00463 -0.04358 -0.000699999999999999 -0.06163 0.01551 C -0.06424 0.02546 -0.07049 0.03333 -0.075 0.04213 C -0.08125 0.05463 -0.08247 0.07152 -0.08837 0.08449 C -0.09045 0.08912 -0.09115 0.09606 -0.09497 0.09768 C -0.09827 0.0993 -0.10174 0.10092 -0.10504 0.10231 C -0.10677 0.10301 -0.11007 0.10439 -0.11007 0.10439 C -0.11545 0.10902 -0.12847 0.11713 -0.13507 0.1199 C -0.14063 0.125 -0.1434 0.12662 -0.15 0.12662 E">
                                      <p:cBhvr>
                                        <p:cTn id="9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001 0.12662 C -0.13542 0.12847 -0.12119 0.13171 -0.10678 0.13542 C -0.09879 0.13472 -0.07674 0.13681 -0.06841 0.12662 E">
                                      <p:cBhvr>
                                        <p:cTn id="20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41 0.12662 C -0.06667 0.15023 -0.06285 0.17453 -0.05834 0.19768 C -0.05955 0.21504 -0.05938 0.23194 -0.07344 0.23773 C -0.07986 0.24629 -0.0875 0.25555 -0.09514 0.26227 C -0.09931 0.27083 -0.10087 0.28032 -0.10504 0.28889 C -0.10434 0.30671 -0.10625 0.32546 -0.10174 0.34213 C -0.10035 0.34722 -0.09271 0.36365 -0.09011 0.36898 C -0.0882 0.3787 -0.08594 0.38819 -0.08334 0.39768 C -0.08143 0.40463 -0.07414 0.40602 -0.07014 0.41111 C -0.06528 0.41736 -0.06754 0.41365 -0.06337 0.42222 C -0.05834 0.44375 -0.06615 0.41273 -0.05834 0.43564 C -0.05695 0.43981 -0.05504 0.44884 -0.05504 0.44884 C -0.05556 0.45625 -0.05591 0.46365 -0.05677 0.47106 C -0.05712 0.47338 -0.05712 0.47615 -0.05834 0.47777 C -0.06007 0.48009 -0.0632 0.47986 -0.06511 0.48217 E">
                                      <p:cBhvr>
                                        <p:cTn id="32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11 0.48217 C -0.05278 0.48796 -0.05295 0.47199 -0.05017 0.45995 C -0.05903 0.44213 -0.0474 0.46365 -0.05851 0.44884 C -0.06597 0.43889 -0.05712 0.44421 -0.06684 0.44004 C -0.08281 0.42615 -0.08438 0.39814 -0.09011 0.37546 C -0.09115 0.37106 -0.09167 0.3662 -0.0934 0.36227 C -0.1033 0.34027 -0.13941 0.33102 -0.15677 0.32893 C -0.16406 0.32801 -0.17118 0.32731 -0.17847 0.32662 C -0.20625 0.32801 -0.22396 0.32754 -0.24844 0.33773 C -0.2507 0.33981 -0.26042 0.34861 -0.26181 0.35115 C -0.2625 0.35231 -0.26181 0.35416 -0.26181 0.35555 E">
                                      <p:cBhvr>
                                        <p:cTn id="44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181 0.35555 C -0.26632 0.35486 -0.27101 0.35532 -0.27517 0.35324 C -0.27882 0.35139 -0.28507 0.34444 -0.28507 0.34444 C -0.28976 0.33542 -0.29149 0.32592 -0.2934 0.31551 C -0.29219 0.28611 -0.29063 0.25579 -0.28854 0.22662 C -0.28646 0.19745 -0.27847 0.16944 -0.27847 0.14004 E">
                                      <p:cBhvr>
                                        <p:cTn id="56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848 0.14005 C -0.28264 0.12385 -0.28455 0.10556 -0.29185 0.09121 C -0.29289 0.08542 -0.2941 0.07385 -0.29688 0.06899 C -0.30139 0.06112 -0.3073 0.05417 -0.31355 0.04885 C -0.31615 0.03843 -0.31841 0.03079 -0.32362 0.02223 C -0.32605 0.01806 -0.32987 0.01551 -0.33195 0.01112 C -0.33299 0.0088 -0.33369 0.00602 -0.33525 0.0044 C -0.34011 -0.00115 -0.3481 -0.00393 -0.35348 -0.00879 C -0.36268 -0.01712 -0.34896 -0.01134 -0.36528 -0.0155 C -0.38629 -0.0324 -0.4198 -0.03773 -0.44358 -0.04004 C -0.44966 -0.03888 -0.46667 -0.03333 -0.47518 -0.03333 E">
                                      <p:cBhvr>
                                        <p:cTn id="68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518 -0.03333 C -0.47379 0.01829 -0.47414 0.0706 -0.45678 0.11782 C -0.45522 0.12662 -0.45383 0.13241 -0.45018 0.14004 C -0.44619 0.16018 -0.43716 0.17824 -0.43178 0.19768 C -0.42779 0.2125 -0.4231 0.22917 -0.42015 0.24444 C -0.41806 0.25509 -0.4172 0.26342 -0.41355 0.27338 C -0.41129 0.28773 -0.40782 0.30139 -0.40522 0.31551 C -0.40313 0.33842 -0.40348 0.3287 -0.40348 0.34444 E">
                                      <p:cBhvr>
                                        <p:cTn id="80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348 0.34444 C -0.43265 0.3463 -0.42761 0.34838 -0.44844 0.34444 C -0.45174 0.34375 -0.45521 0.34329 -0.45851 0.34213 C -0.46199 0.34097 -0.46858 0.33773 -0.46858 0.33773 C -0.47188 0.33472 -0.47518 0.33171 -0.47848 0.3287 C -0.48021 0.32732 -0.48351 0.32431 -0.48351 0.32431 C -0.49202 0.29005 -0.48699 0.31574 -0.48525 0.24444 C -0.48785 0.23357 -0.49046 0.23588 -0.49844 0.23333 C -0.51216 0.2206 -0.53074 0.21991 -0.54688 0.21991 E">
                                      <p:cBhvr>
                                        <p:cTn id="92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4688 0.21991 C -0.57744 0.21667 -0.60799 0.21227 -0.63855 0.2088 C -0.654 0.2051 -0.65174 0.20209 -0.66181 0.18866 C -0.66424 0.17894 -0.66615 0.16945 -0.66841 0.15973 C -0.66963 0.14931 -0.67067 0.13913 -0.67188 0.12871 C -0.67431 0.10741 -0.66841 0.06436 -0.66841 0.06436 C -0.6691 0.04653 -0.66338 0.02477 -0.67188 0.01088 C -0.67848 0.000240000000000001 -0.68768 -0.00138 -0.69688 -0.00462 C -0.7047 -0.0074 -0.71008 -0.01157 -0.71841 -0.01342 C -0.72709 -0.01944 -0.73872 -0.02407 -0.74845 -0.02685 C -0.75504 -0.03124 -0.76181 -0.03171 -0.76841 -0.03564 C -0.77414 -0.03888 -0.77917 -0.04189 -0.78508 -0.04467 C -0.80174 -0.06574 -0.7941 -0.04074 -0.79185 -0.10462 C -0.79133 -0.11805 -0.79098 -0.13124 -0.79011 -0.14467 C -0.78924 -0.15925 -0.78438 -0.17499 -0.78178 -0.18912 C -0.77796 -0.21018 -0.77674 -0.23425 -0.77674 -0.25578 E">
                                      <p:cBhvr>
                                        <p:cTn id="104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7674 -0.25578 C -0.77935 -0.23148 -0.78091 -0.20625 -0.78508 -0.1824 C -0.78872 -0.1618 -0.79532 -0.1412 -0.80174 -0.12245 C -0.80626 -0.10902 -0.8073 -0.09467 -0.81355 -0.0824 C -0.81945 -0.05833 -0.82345 -0.0368 -0.82345 -0.01134 E">
                                      <p:cBhvr>
                                        <p:cTn id="116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C 0.00243 0.0331 0.00017 0.0875 0.03003 0.1 C 0.04131 0.11042 0.05677 0.11227 0.06996 0.11574 C 0.07222 0.11644 0.07447 0.1169 0.07673 0.11783 C 0.08003 0.11922 0.08663 0.12223 0.08663 0.12223 E">
                                      <p:cBhvr>
                                        <p:cTn id="132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63 0.12246 C 0.09045 0.10116 0.09132 0.07986 0.09323 0.0581 C 0.09514 0.03565 0.09826 0.01574 0.10156 -0.00625 C 0.10555 -0.03333 0.10625 -0.04792 0.12829 -0.05532 C 0.13889 -0.06458 0.15208 -0.06759 0.16319 -0.07523 C 0.16684 -0.07778 0.16892 -0.08171 0.17326 -0.08194 C 0.18159 -0.08264 0.18993 -0.08194 0.19826 -0.08194 E">
                                      <p:cBhvr>
                                        <p:cTn id="144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826 -0.08195 C 0.23281 -0.09838 0.20468 -0.08588 0.29826 -0.08195 C 0.30468 -0.08171 0.31024 -0.07871 0.31649 -0.07755 C 0.33836 -0.07338 0.36007 -0.0706 0.38159 -0.06435 C 0.40052 -0.0588 0.41927 -0.05255 0.43819 -0.04653 C 0.44479 -0.04445 0.45156 -0.04236 0.45816 -0.03982 C 0.46145 -0.03843 0.46822 -0.03542 0.46822 -0.03542 C 0.47239 -0.02709 0.47916 -0.02292 0.48645 -0.01991 C 0.49322 -0.01088 0.5026 0.00046 0.51145 0.00463 C 0.5276 0.02616 0.54739 0.03495 0.56979 0.04028 C 0.58732 0.03866 0.59791 0.03819 0.61319 0.03125 C 0.61423 0.02893 0.6151 0.02639 0.61649 0.02454 C 0.61788 0.02268 0.62013 0.02222 0.62152 0.02014 C 0.62413 0.0162 0.62812 0.00694 0.62812 0.00694 E">
                                      <p:cBhvr>
                                        <p:cTn id="156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2812 0.00718 C 0.63229 0.02801 0.63663 0.04908 0.64306 0.05602 C 0.64948 0.06297 0.65799 0.05602 0.66649 0.04931 E">
                                      <p:cBhvr>
                                        <p:cTn id="168" dur="1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6649 0.04931 C 0.67934 0.04491 0.69462 0.04723 0.70659 0.0382 C 0.71146 0.0345 0.71493 0.02825 0.71996 0.02477 C 0.73906 0.01181 0.76597 0.00718 0.78663 0.00487 C 0.80156 0.00741 0.79531 0.00718 0.80486 0.00718 E">
                                      <p:cBhvr>
                                        <p:cTn id="177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5" dur="1" fill="hold"/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086600" y="5181480"/>
            <a:ext cx="2057400" cy="16765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361960" y="1523880"/>
            <a:ext cx="6553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ptimal itinerary takes us to 14 of our 21 proposed locations and to each road trippers’ priority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rip will take 1073 hours, 7 hours under our allowable max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delight of loved ones, the Bunny Ranch did not make the 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oad tripper’s minimum satisfaction level is rea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learn a lot about someone after 45 straight days on the road…perhaps too m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191120" y="685800"/>
            <a:ext cx="4724280" cy="914400"/>
          </a:xfrm>
          <a:prstGeom prst="roundRect">
            <a:avLst>
              <a:gd name="adj" fmla="val 16667"/>
            </a:avLst>
          </a:prstGeom>
          <a:solidFill>
            <a:srgbClr val="bbe0e3">
              <a:alpha val="50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47960" y="457200"/>
            <a:ext cx="3809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3" name="" descr="The Dancing Fountains at Bellagio, Las Vegas at Night, Nevada, USA"/>
          <p:cNvPicPr/>
          <p:nvPr/>
        </p:nvPicPr>
        <p:blipFill>
          <a:blip r:embed="rId1"/>
          <a:stretch/>
        </p:blipFill>
        <p:spPr>
          <a:xfrm>
            <a:off x="0" y="0"/>
            <a:ext cx="4038480" cy="3429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Route 95, Nevada, USA"/>
          <p:cNvPicPr/>
          <p:nvPr/>
        </p:nvPicPr>
        <p:blipFill>
          <a:blip r:embed="rId2"/>
          <a:stretch/>
        </p:blipFill>
        <p:spPr>
          <a:xfrm>
            <a:off x="0" y="3429000"/>
            <a:ext cx="4038480" cy="3429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267080" y="1955880"/>
            <a:ext cx="462924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verview - Dest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nagerial Problem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or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del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87320" y="274320"/>
            <a:ext cx="64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14600" y="15998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ark on a 6 week road trip across the U.S. (June to mid-Ju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 from N.Y &amp; visit a select list of destinations individually ranked by 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 destinations are date constrained (e.g., MLB all-star game and Summer Redneck Ga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to N.Y. in time to begin life as corporate dr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4114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4114800"/>
            <a:ext cx="213372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14600" y="380880"/>
            <a:ext cx="3352680" cy="914400"/>
          </a:xfrm>
          <a:prstGeom prst="roundRect">
            <a:avLst>
              <a:gd name="adj" fmla="val 16667"/>
            </a:avLst>
          </a:prstGeom>
          <a:solidFill>
            <a:srgbClr val="bbe0e3">
              <a:alpha val="50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4038480"/>
            <a:ext cx="2362320" cy="1113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019920" y="0"/>
            <a:ext cx="3124080" cy="12193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0" y="5105520"/>
            <a:ext cx="2362320" cy="1752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696080" y="2666880"/>
            <a:ext cx="1447920" cy="2111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Photo of Vineyard"/>
          <p:cNvPicPr/>
          <p:nvPr/>
        </p:nvPicPr>
        <p:blipFill>
          <a:blip r:embed="rId5"/>
          <a:stretch/>
        </p:blipFill>
        <p:spPr>
          <a:xfrm>
            <a:off x="6019920" y="2666880"/>
            <a:ext cx="1704960" cy="2114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Vancuver, the most beautiful city in Canada"/>
          <p:cNvPicPr/>
          <p:nvPr/>
        </p:nvPicPr>
        <p:blipFill>
          <a:blip r:embed="rId6"/>
          <a:stretch/>
        </p:blipFill>
        <p:spPr>
          <a:xfrm>
            <a:off x="6019920" y="4724280"/>
            <a:ext cx="3124080" cy="2133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0" y="2590920"/>
            <a:ext cx="2362320" cy="1457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6019920" y="1143000"/>
            <a:ext cx="3124080" cy="1600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0" y="0"/>
            <a:ext cx="2362320" cy="1600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0" y="1371600"/>
            <a:ext cx="2381400" cy="1523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803680" y="1407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666880" y="1452600"/>
          <a:ext cx="3200400" cy="510048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Y Yankees @ St. Louis Cardinals (M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2005 Belmont Stakes (Elmont, N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er Redneck Games (East Dublin, G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 Series of Poker (Las Vegas, N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amhenge (Natural Bridge, Virgini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nt Rushmore (Keystone, S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rine of the Holy Tortilla (Roswell, N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Do Music Festival (Denver, Colorad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couver/Whistler British Columb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West, Flori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a Wine Tasting (Californi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Orleans, Louisi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erFest (Milwaukee, Wisconsi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in, Tex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juana, Mexic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LB All-Star Game (Detroit, MI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llowstone (Wyoming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uisville Slugger Plant (Kentuck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FL Hall of Fame (Canton, Ohi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bble Beach, Califor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ny Ranch (Puhrump, Nevad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2438280" y="5634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ctivity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2320" y="2743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anagerial Problem Definition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 a model in Solver that maximizes the total utility of team members destination preferences ranked by relativ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rip is completed in time for us all to begin our new jo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eam member achieves a minimum total ut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eam member gets to go to their top priority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ormulat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5640" y="1599840"/>
            <a:ext cx="6705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stinations/events, the sequencing, and the duration of each even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as a network with available crash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maximize the total utility of the team’s destination p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-week trip – begin and end in N.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choice of each team member must be gra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tain events have date constraints (e.g., MLB All-Star Game and Summer Redneck G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shing entails penalties to overall u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visit a particular location more than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olution Methodology - 1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190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09680" y="53784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erson ranked the 21 destinations using relative we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048120" y="1639800"/>
            <a:ext cx="502920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olution Methodology - 2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6108840" cy="3630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666880" y="5181480"/>
            <a:ext cx="6096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res were adjusted based on a standardized number of points and averaged to develop composite ut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site utility of each destination used to select the optimal destinations and route, given the constraints of driving time, various date constraints and return to 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olution Methodology - 3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3290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6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6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0" y="579132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defined date constraints and min/max lengths of stay for each destina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6629400" cy="4083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2T16:02:40Z</dcterms:created>
  <dc:creator>Warren</dc:creator>
  <dc:description/>
  <dc:language>en-US</dc:language>
  <cp:lastModifiedBy>Brian Bodendein</cp:lastModifiedBy>
  <dcterms:modified xsi:type="dcterms:W3CDTF">2005-04-24T23:24:16Z</dcterms:modified>
  <cp:revision>17</cp:revision>
  <dc:subject/>
  <dc:title>Slide 1</dc:title>
</cp:coreProperties>
</file>