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90BE-E5F2-4E49-911B-2693733E81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26996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DF2A-BB87-45AA-BCAC-A01F3F75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E9CB-9DEF-4AF0-A032-C228B3A8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BFA4-F43A-447D-BB13-B62066D22C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0978F-2E23-467F-AB1B-E392434F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D5630-C81A-456E-82F4-02289C8D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920FB-12DC-40DC-BCAB-35B40176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58763-C757-4277-B3F1-966E792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EB00F-D133-4FEB-828A-52687E06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853452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8BEE5-8699-4CB2-9CFB-45A99202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2E622-AD5B-44E8-88AC-223F1A0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8907-BE0E-4812-8B93-6FFF3709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256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79F2A-D5BC-4227-845F-526C28E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B375A-A62B-4848-BF02-2D3993CB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280" y="426996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14CC6-EB2E-424F-945C-A2EFC192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256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948D0-943C-41F3-BB3D-1C2D1247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50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7880" y="152352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2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50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7880" y="426996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F9B45-C81D-4222-A61C-68171C23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3CF1-5D01-4195-99BE-077E0203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5EA5-16A2-4C7E-9F57-D6A08242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CFBC-CC74-4E08-AB15-F4DACE3F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853452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E45B-E2D7-423E-A3AA-93A3CEB8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1922-2B25-4E60-8EAB-B80BA490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26996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0D31-4779-417D-B8C8-F76A576F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152352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26996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F039-1D36-4577-989C-C10560E5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16FA-124E-4942-9C24-C89607E17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585858">
                  <a:alpha val="0"/>
                </a:srgbClr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3429000"/>
            <a:ext cx="739152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60CC-756F-4440-B29D-35C9E3B6B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20011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0011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429000"/>
            <a:ext cx="739152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Second Avenue Subwa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much is your time worth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46479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lix Banuchi, Rodolfo Dieck, Paul Feehery, Sarah Ouslander</a:t>
            </a:r>
            <a:endParaRPr b="0" lang="en-US" sz="20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581280"/>
            <a:ext cx="380880" cy="381240"/>
          </a:xfrm>
          <a:prstGeom prst="ellipse">
            <a:avLst/>
          </a:pr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Scenario Comparis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971800"/>
            <a:ext cx="3352680" cy="380880"/>
          </a:xfrm>
          <a:prstGeom prst="rect">
            <a:avLst/>
          </a:prstGeom>
          <a:solidFill>
            <a:srgbClr val="93b9d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urs Wasted per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505320"/>
            <a:ext cx="3352680" cy="380880"/>
          </a:xfrm>
          <a:prstGeom prst="rect">
            <a:avLst/>
          </a:prstGeom>
          <a:solidFill>
            <a:srgbClr val="93b9d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urs Wasted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038480"/>
            <a:ext cx="3352680" cy="381240"/>
          </a:xfrm>
          <a:prstGeom prst="rect">
            <a:avLst/>
          </a:prstGeom>
          <a:solidFill>
            <a:srgbClr val="93b9d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otal Cost to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413080"/>
            <a:ext cx="1447560" cy="380880"/>
          </a:xfrm>
          <a:prstGeom prst="rect">
            <a:avLst/>
          </a:prstGeom>
          <a:gradFill rotWithShape="0">
            <a:gsLst>
              <a:gs pos="0">
                <a:srgbClr val="ad5b5b"/>
              </a:gs>
              <a:gs pos="50000">
                <a:srgbClr val="800000"/>
              </a:gs>
              <a:gs pos="100000">
                <a:srgbClr val="ad5b5b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Without 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971800"/>
            <a:ext cx="1447560" cy="380880"/>
          </a:xfrm>
          <a:prstGeom prst="rect">
            <a:avLst/>
          </a:prstGeom>
          <a:solidFill>
            <a:srgbClr val="93b9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3505320"/>
            <a:ext cx="1447560" cy="380880"/>
          </a:xfrm>
          <a:prstGeom prst="rect">
            <a:avLst/>
          </a:prstGeom>
          <a:solidFill>
            <a:srgbClr val="93b9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2,7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4038480"/>
            <a:ext cx="1447560" cy="381240"/>
          </a:xfrm>
          <a:prstGeom prst="rect">
            <a:avLst/>
          </a:prstGeom>
          <a:solidFill>
            <a:srgbClr val="93b9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683,3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48520" y="2413080"/>
            <a:ext cx="1447560" cy="2006640"/>
            <a:chOff x="6248520" y="2413080"/>
            <a:chExt cx="1447560" cy="2006640"/>
          </a:xfrm>
        </p:grpSpPr>
        <p:sp>
          <p:nvSpPr>
            <p:cNvPr id="124" name=""/>
            <p:cNvSpPr/>
            <p:nvPr/>
          </p:nvSpPr>
          <p:spPr>
            <a:xfrm>
              <a:off x="6248520" y="2413080"/>
              <a:ext cx="1447560" cy="380880"/>
            </a:xfrm>
            <a:prstGeom prst="rect">
              <a:avLst/>
            </a:prstGeom>
            <a:gradFill rotWithShape="0">
              <a:gsLst>
                <a:gs pos="0">
                  <a:srgbClr val="ad5b5b"/>
                </a:gs>
                <a:gs pos="50000">
                  <a:srgbClr val="800000"/>
                </a:gs>
                <a:gs pos="100000">
                  <a:srgbClr val="ad5b5b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Century Gothic"/>
                </a:rPr>
                <a:t>With 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48520" y="2971800"/>
              <a:ext cx="1447560" cy="380880"/>
            </a:xfrm>
            <a:prstGeom prst="rect">
              <a:avLst/>
            </a:prstGeom>
            <a:solidFill>
              <a:srgbClr val="93b9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4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8520" y="3505320"/>
              <a:ext cx="1447560" cy="380880"/>
            </a:xfrm>
            <a:prstGeom prst="rect">
              <a:avLst/>
            </a:prstGeom>
            <a:solidFill>
              <a:srgbClr val="93b9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0,62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8520" y="4038480"/>
              <a:ext cx="1447560" cy="381240"/>
            </a:xfrm>
            <a:prstGeom prst="rect">
              <a:avLst/>
            </a:prstGeom>
            <a:solidFill>
              <a:srgbClr val="93b9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$318,67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82760" y="5372280"/>
            <a:ext cx="8153280" cy="761760"/>
          </a:xfrm>
          <a:prstGeom prst="rect">
            <a:avLst/>
          </a:prstGeom>
          <a:noFill/>
          <a:ln cap="sq" w="2844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the SAS operational,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tal cost to society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duced by 53% approxim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Model Limitations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nly simulated one way trip during am peak hours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ther convenience factors not quantified by analysis (i.e. quality of the ride)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ther socio-economic benefits are not be represented in our model</a:t>
            </a:r>
            <a:r>
              <a:rPr b="0" lang="en-US" sz="2800" spc="-1" strike="noStrike">
                <a:solidFill>
                  <a:srgbClr val="220011"/>
                </a:solidFill>
                <a:latin typeface="Century Gothic"/>
              </a:rPr>
              <a:t> (i.e. transportation costs to the nearest subway station)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onclusions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Building the SAS line will…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educe delays to NYC subway riders by 50%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Improve overall travel experience &amp; flexibility on Manhattan’s East side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Encourage commercial investment in depressed areas in the lower east side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lleviate traffic congestion &amp; reduce pollution</a:t>
            </a:r>
            <a:endParaRPr b="0" lang="en-US" sz="30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Project Overview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The need for transit improvement on Manhattan’s east side is generally agreed upon</a:t>
            </a:r>
            <a:endParaRPr b="0" lang="en-US" sz="2200" spc="-1" strike="noStrike">
              <a:solidFill>
                <a:srgbClr val="220011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nly the Lexington Avenue subway line (No.s 4, 5 &amp; 6 lines) provides full north-south rapid transit service</a:t>
            </a:r>
            <a:endParaRPr b="0" lang="en-US" sz="1800" spc="-1" strike="noStrike">
              <a:solidFill>
                <a:srgbClr val="220011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ny NYC residents live East of Third Avenue and have around a 10-15 minute walk to the nearest subway</a:t>
            </a:r>
            <a:endParaRPr b="0" lang="en-US" sz="1800" spc="-1" strike="noStrike">
              <a:solidFill>
                <a:srgbClr val="220011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ack of local subway service to Lower Manhattan on the Lexington Ave line forces overcrowding on platforms thus leading to lengthier travel times</a:t>
            </a:r>
            <a:endParaRPr b="0" lang="en-US" sz="1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Many of the benefits of the Second Avenue Subway (SAS) line are socioeconomic and hard to quantify</a:t>
            </a:r>
            <a:endParaRPr b="0" lang="en-US" sz="2200" spc="-1" strike="noStrike">
              <a:solidFill>
                <a:srgbClr val="220011"/>
              </a:solidFill>
              <a:latin typeface="Century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638680"/>
            <a:ext cx="7772400" cy="762120"/>
          </a:xfrm>
          <a:prstGeom prst="rect">
            <a:avLst/>
          </a:prstGeom>
          <a:noFill/>
          <a:ln cap="sq" w="2844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can we quantify the benefit of time sav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ticipated by the S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Area of Study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22680" y="1447920"/>
            <a:ext cx="3601800" cy="5325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57400" y="1828800"/>
            <a:ext cx="380880" cy="380880"/>
          </a:xfrm>
          <a:prstGeom prst="ellipse">
            <a:avLst/>
          </a:pr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581280"/>
            <a:ext cx="380880" cy="381240"/>
          </a:xfrm>
          <a:prstGeom prst="ellipse">
            <a:avLst/>
          </a:prstGeom>
          <a:solidFill>
            <a:srgbClr val="3399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3048120"/>
            <a:ext cx="380880" cy="380880"/>
          </a:xfrm>
          <a:prstGeom prst="ellipse">
            <a:avLst/>
          </a:prstGeom>
          <a:solidFill>
            <a:srgbClr val="3399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438280"/>
            <a:ext cx="380880" cy="381240"/>
          </a:xfrm>
          <a:prstGeom prst="ellipse">
            <a:avLst/>
          </a:prstGeom>
          <a:solidFill>
            <a:srgbClr val="3399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2133720"/>
            <a:ext cx="761760" cy="4038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9800" y="1778040"/>
            <a:ext cx="18288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o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rcRect l="28480" t="13152" r="36617" b="2630"/>
          <a:stretch/>
        </p:blipFill>
        <p:spPr>
          <a:xfrm>
            <a:off x="6567480" y="1676520"/>
            <a:ext cx="1890720" cy="4879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4343400" y="1676520"/>
            <a:ext cx="2209680" cy="457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6172200"/>
            <a:ext cx="2209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anagerial Problem Definit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is the current state of the Lexington Avenue Subway line during the am peak period?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ing estimates based on MTA reports, how much can the Lexington Ave line be improved if the SAS project is implemented?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are the benefits to the average New York City Subway rider?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Model Formula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following data was gathered from MTA sources regarding the characteristics of the current Lexington Avenue line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50880" y="2895480"/>
            <a:ext cx="600552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System Model Formula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tend was used to simulate all 20 subway stops in Manhattan on the Lexington Avenue line during the am peak rush (Current State) &amp; during the am peak rush (Improved State w/SAS)</a:t>
            </a:r>
            <a:endParaRPr b="0" lang="en-US" sz="2800" spc="-1" strike="noStrike">
              <a:solidFill>
                <a:srgbClr val="220011"/>
              </a:solidFill>
              <a:latin typeface="Century Goth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98680" y="3809880"/>
            <a:ext cx="6114960" cy="2872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34960" y="3733920"/>
            <a:ext cx="6248520" cy="2971800"/>
          </a:xfrm>
          <a:prstGeom prst="rect">
            <a:avLst/>
          </a:prstGeom>
          <a:noFill/>
          <a:ln cap="sq" w="1260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Station Model Formula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280" y="2095560"/>
            <a:ext cx="8763120" cy="411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1981080"/>
            <a:ext cx="8648640" cy="4419720"/>
          </a:xfrm>
          <a:prstGeom prst="rect">
            <a:avLst/>
          </a:prstGeom>
          <a:noFill/>
          <a:ln cap="sq" w="1260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25760" y="28576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Solution Methodolog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Ran a simulation of 90 trains during am peak hours using MTA’s current and expected arrival &amp; exit times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Calculated average delay per station (under current &amp; improved scenarios)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Calculated average volume of people per day per station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3b9d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Century Gothic"/>
              </a:rPr>
              <a:t>Calculated benefit of minimizing wasted hours spent both on waiting for the train &amp; being delayed on board the train</a:t>
            </a:r>
            <a:endParaRPr b="0" lang="en-US" sz="2400" spc="-1" strike="noStrike">
              <a:solidFill>
                <a:srgbClr val="22001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2:25:53Z</dcterms:created>
  <dc:creator>Sarah Ouslander</dc:creator>
  <dc:description/>
  <dc:language>en-US</dc:language>
  <cp:lastModifiedBy>Felix Banuchi</cp:lastModifiedBy>
  <dcterms:modified xsi:type="dcterms:W3CDTF">2005-04-23T17:29:48Z</dcterms:modified>
  <cp:revision>61</cp:revision>
  <dc:subject/>
  <dc:title>Slide 1</dc:title>
</cp:coreProperties>
</file>