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B25C-01F6-4E3A-B30D-C4EE57340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26996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53D4-280E-4F2F-8B66-2460722E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FB13-CF4B-4D7C-9A91-A4DE3C25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4D1E-F69C-4D3D-B17B-B98CE8D65D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4B427-772F-490C-AF36-D43976F2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76871-BB18-491B-BD53-FF6DE0B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215D9-36CB-4B62-99EF-F2013B57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C0AB7-EE07-4047-A4A3-2BF24A2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7278-083D-4635-BE40-CEE95D77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53452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3A52-853F-4DD9-9789-1734112F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696CB-F55C-4483-ABF7-42E908A6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E25E-8601-4ACD-806C-0A2B7372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56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68E46-1117-4A05-9DC5-924C80F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18A9A-7223-4E02-91F3-399E88F6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426996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A5964-2AED-4E8F-8E78-F138AD47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56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71AA4-73C1-44A7-BE62-F065D191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50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78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50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78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F8711-2E84-402C-9DD7-F72326C2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8092-2419-4F17-B5BC-1264745F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A893-F1DC-4125-9B62-9CD69B58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FF7A-F90B-4159-AE44-9CF6E3CE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53452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A175-714C-461E-BDB4-48000053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D9F8-5651-497D-B070-A67CDA06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52AB-9916-4122-B7EC-4AA4C5F0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7BDE-41BE-4922-BDBF-0E5A000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D61-3F67-48E8-8F08-7509A5F36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585858">
                  <a:alpha val="0"/>
                </a:srgbClr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3429000"/>
            <a:ext cx="73915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53BF-AD47-48DF-B8B4-EE2805C12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0011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429000"/>
            <a:ext cx="73915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Second Avenue Subwa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much is your time worth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46479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lix Banuchi, Rodolfo Dieck, Paul Feehery, Sarah Ouslander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581280"/>
            <a:ext cx="380880" cy="381240"/>
          </a:xfrm>
          <a:prstGeom prst="ellipse">
            <a:avLst/>
          </a:pr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Scenario Comparis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971800"/>
            <a:ext cx="3352680" cy="380880"/>
          </a:xfrm>
          <a:prstGeom prst="rect">
            <a:avLst/>
          </a:prstGeom>
          <a:solidFill>
            <a:srgbClr val="93b9d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urs Wasted per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505320"/>
            <a:ext cx="3352680" cy="380880"/>
          </a:xfrm>
          <a:prstGeom prst="rect">
            <a:avLst/>
          </a:prstGeom>
          <a:solidFill>
            <a:srgbClr val="93b9d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urs Wasted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038480"/>
            <a:ext cx="3352680" cy="381240"/>
          </a:xfrm>
          <a:prstGeom prst="rect">
            <a:avLst/>
          </a:prstGeom>
          <a:solidFill>
            <a:srgbClr val="93b9d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otal Cost to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413080"/>
            <a:ext cx="1447560" cy="380880"/>
          </a:xfrm>
          <a:prstGeom prst="rect">
            <a:avLst/>
          </a:prstGeom>
          <a:gradFill rotWithShape="0">
            <a:gsLst>
              <a:gs pos="0">
                <a:srgbClr val="ad5b5b"/>
              </a:gs>
              <a:gs pos="50000">
                <a:srgbClr val="800000"/>
              </a:gs>
              <a:gs pos="100000">
                <a:srgbClr val="ad5b5b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Without 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971800"/>
            <a:ext cx="1447560" cy="380880"/>
          </a:xfrm>
          <a:prstGeom prst="rect">
            <a:avLst/>
          </a:prstGeom>
          <a:solidFill>
            <a:srgbClr val="93b9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3505320"/>
            <a:ext cx="1447560" cy="380880"/>
          </a:xfrm>
          <a:prstGeom prst="rect">
            <a:avLst/>
          </a:prstGeom>
          <a:solidFill>
            <a:srgbClr val="93b9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2,7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4038480"/>
            <a:ext cx="1447560" cy="381240"/>
          </a:xfrm>
          <a:prstGeom prst="rect">
            <a:avLst/>
          </a:prstGeom>
          <a:solidFill>
            <a:srgbClr val="93b9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683,3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48520" y="2413080"/>
            <a:ext cx="1447560" cy="2006640"/>
            <a:chOff x="6248520" y="2413080"/>
            <a:chExt cx="1447560" cy="2006640"/>
          </a:xfrm>
        </p:grpSpPr>
        <p:sp>
          <p:nvSpPr>
            <p:cNvPr id="124" name=""/>
            <p:cNvSpPr/>
            <p:nvPr/>
          </p:nvSpPr>
          <p:spPr>
            <a:xfrm>
              <a:off x="6248520" y="2413080"/>
              <a:ext cx="1447560" cy="380880"/>
            </a:xfrm>
            <a:prstGeom prst="rect">
              <a:avLst/>
            </a:prstGeom>
            <a:gradFill rotWithShape="0">
              <a:gsLst>
                <a:gs pos="0">
                  <a:srgbClr val="ad5b5b"/>
                </a:gs>
                <a:gs pos="50000">
                  <a:srgbClr val="800000"/>
                </a:gs>
                <a:gs pos="100000">
                  <a:srgbClr val="ad5b5b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Century Gothic"/>
                </a:rPr>
                <a:t>With 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48520" y="2971800"/>
              <a:ext cx="1447560" cy="380880"/>
            </a:xfrm>
            <a:prstGeom prst="rect">
              <a:avLst/>
            </a:prstGeom>
            <a:solidFill>
              <a:srgbClr val="93b9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4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520" y="3505320"/>
              <a:ext cx="1447560" cy="380880"/>
            </a:xfrm>
            <a:prstGeom prst="rect">
              <a:avLst/>
            </a:prstGeom>
            <a:solidFill>
              <a:srgbClr val="93b9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0,62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8520" y="4038480"/>
              <a:ext cx="1447560" cy="381240"/>
            </a:xfrm>
            <a:prstGeom prst="rect">
              <a:avLst/>
            </a:prstGeom>
            <a:solidFill>
              <a:srgbClr val="93b9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$318,67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82760" y="5372280"/>
            <a:ext cx="8153280" cy="761760"/>
          </a:xfrm>
          <a:prstGeom prst="rect">
            <a:avLst/>
          </a:prstGeom>
          <a:noFill/>
          <a:ln cap="sq" w="2844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the SAS operational,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tal cost to society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duced by 53% approxim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Model Limitation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nly simulated one way trip during am peak hours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ther convenience factors not quantified by analysis (i.e. quality of the ride)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ther socio-economic benefits are not be represented in our model</a:t>
            </a:r>
            <a:r>
              <a:rPr b="0" lang="en-US" sz="2800" spc="-1" strike="noStrike">
                <a:solidFill>
                  <a:srgbClr val="220011"/>
                </a:solidFill>
                <a:latin typeface="Century Gothic"/>
              </a:rPr>
              <a:t> (i.e. transportation costs to the nearest subway station)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onclusion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Building the SAS line will…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educe delays to NYC subway riders by 50%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Improve overall travel experience &amp; flexibility on Manhattan’s East side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ncourage commercial investment in depressed areas in the lower east side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lleviate traffic congestion &amp; reduce pollution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Project Overview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The need for transit improvement on Manhattan’s east side is generally agreed upon</a:t>
            </a:r>
            <a:endParaRPr b="0" lang="en-US" sz="2200" spc="-1" strike="noStrike">
              <a:solidFill>
                <a:srgbClr val="220011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nly the Lexington Avenue subway line (No.s 4, 5 &amp; 6 lines) provides full north-south rapid transit service</a:t>
            </a:r>
            <a:endParaRPr b="0" lang="en-US" sz="1800" spc="-1" strike="noStrike">
              <a:solidFill>
                <a:srgbClr val="220011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ny NYC residents live East of Third Avenue and have around a 10-15 minute walk to the nearest subway</a:t>
            </a:r>
            <a:endParaRPr b="0" lang="en-US" sz="1800" spc="-1" strike="noStrike">
              <a:solidFill>
                <a:srgbClr val="220011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ack of local subway service to Lower Manhattan on the Lexington Ave line forces overcrowding on platforms thus leading to lengthier travel times</a:t>
            </a:r>
            <a:endParaRPr b="0" lang="en-US" sz="1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Many of the benefits of the Second Avenue Subway (SAS) line are socioeconomic and hard to quantify</a:t>
            </a:r>
            <a:endParaRPr b="0" lang="en-US" sz="2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638680"/>
            <a:ext cx="7772400" cy="762120"/>
          </a:xfrm>
          <a:prstGeom prst="rect">
            <a:avLst/>
          </a:prstGeom>
          <a:noFill/>
          <a:ln cap="sq" w="2844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quantify the benefit of time sav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ticipated by the S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Area of Study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22680" y="1447920"/>
            <a:ext cx="3601800" cy="5325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57400" y="1828800"/>
            <a:ext cx="380880" cy="380880"/>
          </a:xfrm>
          <a:prstGeom prst="ellipse">
            <a:avLst/>
          </a:pr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581280"/>
            <a:ext cx="380880" cy="381240"/>
          </a:xfrm>
          <a:prstGeom prst="ellipse">
            <a:avLst/>
          </a:prstGeom>
          <a:solidFill>
            <a:srgbClr val="3399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3048120"/>
            <a:ext cx="380880" cy="380880"/>
          </a:xfrm>
          <a:prstGeom prst="ellipse">
            <a:avLst/>
          </a:prstGeom>
          <a:solidFill>
            <a:srgbClr val="3399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438280"/>
            <a:ext cx="380880" cy="381240"/>
          </a:xfrm>
          <a:prstGeom prst="ellipse">
            <a:avLst/>
          </a:prstGeom>
          <a:solidFill>
            <a:srgbClr val="3399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2133720"/>
            <a:ext cx="761760" cy="4038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800" y="1778040"/>
            <a:ext cx="18288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rcRect l="28480" t="13152" r="36617" b="2630"/>
          <a:stretch/>
        </p:blipFill>
        <p:spPr>
          <a:xfrm>
            <a:off x="6567480" y="1676520"/>
            <a:ext cx="1890720" cy="4879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4343400" y="1676520"/>
            <a:ext cx="2209680" cy="457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6172200"/>
            <a:ext cx="2209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anagerial Problem Definit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current state of the Lexington Avenue Subway line during the am peak period?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ing estimates based on MTA reports, how much can the Lexington Ave line be improved if the SAS project is implemented?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are the benefits to the average New York City Subway rider?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Model Formula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following data was gathered from MTA sources regarding the characteristics of the current Lexington Avenue line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50880" y="2895480"/>
            <a:ext cx="600552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System Model Formula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tend was used to simulate all 20 subway stops in Manhattan on the Lexington Avenue line during the am peak rush (Current State) &amp; during the am peak rush (Improved State w/SAS)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98680" y="3809880"/>
            <a:ext cx="6114960" cy="2872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34960" y="3733920"/>
            <a:ext cx="6248520" cy="2971800"/>
          </a:xfrm>
          <a:prstGeom prst="rect">
            <a:avLst/>
          </a:prstGeom>
          <a:noFill/>
          <a:ln cap="sq" w="1260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Station Model Formula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280" y="2095560"/>
            <a:ext cx="8763120" cy="411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1981080"/>
            <a:ext cx="8648640" cy="4419720"/>
          </a:xfrm>
          <a:prstGeom prst="rect">
            <a:avLst/>
          </a:prstGeom>
          <a:noFill/>
          <a:ln cap="sq" w="1260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25760" y="28576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Solution Methodolog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Ran a simulation of 90 trains during am peak hours using MTA’s current and expected arrival &amp; exit times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Calculated average delay per station (under current &amp; improved scenarios)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Calculated average volume of people per day per station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Calculated benefit of minimizing wasted hours spent both on waiting for the train &amp; being delayed on board the train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2:25:53Z</dcterms:created>
  <dc:creator>Sarah Ouslander</dc:creator>
  <dc:description/>
  <dc:language>en-US</dc:language>
  <cp:lastModifiedBy>Felix Banuchi</cp:lastModifiedBy>
  <dcterms:modified xsi:type="dcterms:W3CDTF">2005-04-23T17:29:48Z</dcterms:modified>
  <cp:revision>61</cp:revision>
  <dc:subject/>
  <dc:title>Slide 1</dc:title>
</cp:coreProperties>
</file>