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11C-1C10-4B14-A843-11438E2C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DFD-4D66-4D81-AD59-327F9173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160-FCE0-4D9F-A6CC-94A1E539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C43-7EBD-46B2-A737-3B7A0C00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966B-93AE-4ED3-9206-BD26B49F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C8DA-3B9E-4A2F-B9E5-CD25A5C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4951-0916-4202-9F21-4FB502D7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264D-B58C-4FCE-8A33-427C5C96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1B33-8ABF-4B4F-BE22-AB4649AE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24400" y="748440"/>
            <a:ext cx="77994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0F0-EB7B-47A8-A05B-40EA37BB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32C9-CBD2-4EC0-A2B2-9713F583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9BF-165A-49E9-BC4F-555E1E7B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5D2F-BD67-497C-8ED2-A759AC8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1E3F-DAF5-4FCC-AEA8-955B141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BCD7-124E-436E-80EE-62381F27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8CC6-51B5-4559-AA2F-3BEEFE9E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792A-3C8D-419E-BD39-73F572A7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808-EF2A-4B9F-AA0E-96D84BC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619-2354-4314-BD53-FFB20B1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492-4B98-434C-8B3C-99D8646B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4400" y="748440"/>
            <a:ext cx="77994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D34-CB03-41C0-AF72-88A9AADD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856-E599-466D-8CD9-D2CB9CB3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B07-607B-4661-984A-A26A9DC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A51-472A-424E-8AAC-2AF7EA15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acclaimimages.com/usepolicy.htm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inmagine.com/q0017356/c0014718-photo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4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The Elaborate Ski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8011-F44C-4AF1-A63B-8B5C338AE6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Winter Sports Clipart Image Of A Downhill Snow Ski Racer Jump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486400"/>
            <a:ext cx="1244520" cy="13716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Stock Photography - A young adult male snow skiing downhill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077320" y="5334120"/>
            <a:ext cx="86652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4B92-E46D-4495-930D-21437A4808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ctsd.com/images/f-puerto-rico.gif&amp;imgrefurl=http://www.fctsd.com/&amp;h=50&amp;w=75&amp;sz=3&amp;tbnid=fgSoNqcu0MEJ:&amp;tbnh=45&amp;tbnw=68&amp;start=14&amp;prev=/images%3Fq%3Dpuerto%2Brico%2Bnational%2Bflag%26hl%3Den%26lr%3D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tv-spring-break.springbreaktravel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 “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ELABORATE”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DECISION MODEL OPTIMIZING A SPRING BREAK VACATION</a:t>
            </a:r>
            <a:br>
              <a:rPr sz="2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**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ISION MODELS 4/25/05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724280" y="32767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6666"/>
                </a:solidFill>
                <a:uFillTx/>
                <a:latin typeface="Arial"/>
              </a:rPr>
              <a:t>Created by: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Jose Arroyo-Pont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Brian Becker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Brian Rowley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Dean Schaffer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Alexander Tisch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5120" y="2286000"/>
            <a:ext cx="685800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e evaluated each mountain based on 14 criteria to help define the quality of a skiing experienc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r each criteria rankings were assigned from 1 to 10 (10 being the best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he total score for each mountain was tabulated and used as a quality indicato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Valu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one of our variable, is a result of dividing total price by the quality indicato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685800"/>
            <a:ext cx="63244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e created a Value Variable based on ratings from Ski Magaz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196200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3016080"/>
            <a:ext cx="54100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762120"/>
            <a:ext cx="723924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inal Output - Combined total of all 6 variables to determine optimal res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01840" y="2362320"/>
            <a:ext cx="5851440" cy="438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-13680" y="824400"/>
            <a:ext cx="7799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 #1: A cheap Stern Graduate Puerto Rican Ski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438280"/>
            <a:ext cx="60199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Variables the cheap Puerto Rican will selec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kiing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If he breaks one of the skis he still has another left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xperience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Advanced, like anybody coming from the Caribbea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ximum amount to spend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Hmmm!!! Did we mention CHEAP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ccommodations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ne Star – Just like the national flag. Even though the least possible is two stars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ength of Trip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using the random function in Excel or Crystal Ball we can come up with a “random” length of the trip. 6 day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stination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East Coast Baby –                                                                                 far from the Mexica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191120"/>
            <a:ext cx="647640" cy="42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5638680"/>
            <a:ext cx="685800" cy="962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696080" y="228600"/>
            <a:ext cx="1255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228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Beware he comes the Rican!!!!!!!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5105520"/>
            <a:ext cx="550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Note: These costs do not include alcohol he may consume or any other discretionary spending.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864560" y="228600"/>
            <a:ext cx="1279440" cy="170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-13680" y="748440"/>
            <a:ext cx="779976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 #1: A cheap Stern Graduate Puerto Rican Ski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56498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90880" y="8244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#2: Premium Jur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28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How a high-roller like Professor Juran would travel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13976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00200" y="2671920"/>
            <a:ext cx="60199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Variables Professor Juran would choos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nowboarding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Definitely, we know he carves with the best of the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Sexual) Experience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Undoubtedly Advanc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ximum amount to spend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Unlimited, Juran is a professor at three schools and moonlights as a brew mast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ccommodations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A man who played Joe I-Banker would not stay in anything less than 4 sta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ength of Trip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7 Day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stination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Colorado, because he prefers the ‘Rocky mountain high’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2280" y="90072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#2: Premium Jur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082520" cy="1447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228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here Professor Juran would go in Colorado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563868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0200" y="5105520"/>
            <a:ext cx="550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Note: These costs do not include alcohol he may consume or any other discretionary spend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ence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514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at would you like to do??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kiing Memories…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5146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photo"/>
          <p:cNvPicPr/>
          <p:nvPr/>
        </p:nvPicPr>
        <p:blipFill>
          <a:blip r:embed="rId1"/>
          <a:stretch/>
        </p:blipFill>
        <p:spPr>
          <a:xfrm>
            <a:off x="914400" y="2362320"/>
            <a:ext cx="7238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ation 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362320"/>
            <a:ext cx="52578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roduction of Spring Break Deci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thodology of Mod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derlying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ion of Mod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actical Model Examp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#1:  Typical Stern Student low-cost, east-coast 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#2:  Premium spare no expense Juran 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dience 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troduction of Spring Break Probl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514600"/>
            <a:ext cx="6858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istorically, one of the most important decisions for a second year Stern student is picking an appropriate spring break trip.  A very unscientific poll taken by our group yielded the fact that last year alone, the average Stern student took 40% of his/her time pondering how to best spend this week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e first chose between two alternatives, a ski trip or a beach trip and came up with the following research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mtv-spring-break.springbreaktravel.com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tetongravity.com/intro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tetongravity.com/tgrclips/sptrailerfast.wmv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1680" y="-156600"/>
            <a:ext cx="5570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367320"/>
            <a:ext cx="6858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tv-spring-break.springbreaktravel.com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934320" cy="50846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52280" y="152280"/>
            <a:ext cx="3200400" cy="6858000"/>
            <a:chOff x="152280" y="152280"/>
            <a:chExt cx="3200400" cy="6858000"/>
          </a:xfrm>
        </p:grpSpPr>
        <p:sp>
          <p:nvSpPr>
            <p:cNvPr id="107" name=""/>
            <p:cNvSpPr/>
            <p:nvPr/>
          </p:nvSpPr>
          <p:spPr>
            <a:xfrm>
              <a:off x="152280" y="15228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15228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590920" y="640080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640080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629400" y="457200"/>
            <a:ext cx="2514240" cy="304920"/>
            <a:chOff x="6629400" y="457200"/>
            <a:chExt cx="2514240" cy="304920"/>
          </a:xfrm>
        </p:grpSpPr>
        <p:sp>
          <p:nvSpPr>
            <p:cNvPr id="112" name=""/>
            <p:cNvSpPr/>
            <p:nvPr/>
          </p:nvSpPr>
          <p:spPr>
            <a:xfrm>
              <a:off x="6758640" y="457200"/>
              <a:ext cx="238500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29400" y="457200"/>
              <a:ext cx="13392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281680" y="-156600"/>
            <a:ext cx="5570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6367320"/>
            <a:ext cx="762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www.tetongravity.com/intro.ht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www.tetongravity.com/tgrclips/sptrailerfast.wmv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52280" y="152280"/>
            <a:ext cx="3200400" cy="6858000"/>
            <a:chOff x="152280" y="152280"/>
            <a:chExt cx="3200400" cy="6858000"/>
          </a:xfrm>
        </p:grpSpPr>
        <p:sp>
          <p:nvSpPr>
            <p:cNvPr id="117" name=""/>
            <p:cNvSpPr/>
            <p:nvPr/>
          </p:nvSpPr>
          <p:spPr>
            <a:xfrm>
              <a:off x="152280" y="15228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15228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90920" y="638316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640080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629400" y="457200"/>
            <a:ext cx="2514240" cy="304920"/>
            <a:chOff x="6629400" y="457200"/>
            <a:chExt cx="2514240" cy="304920"/>
          </a:xfrm>
        </p:grpSpPr>
        <p:sp>
          <p:nvSpPr>
            <p:cNvPr id="122" name=""/>
            <p:cNvSpPr/>
            <p:nvPr/>
          </p:nvSpPr>
          <p:spPr>
            <a:xfrm>
              <a:off x="6758640" y="457200"/>
              <a:ext cx="238500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629400" y="457200"/>
              <a:ext cx="13392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4400" y="7484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on of Ski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514600"/>
            <a:ext cx="685800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e obviously chose to go skiing after seeing that low budget movie.  Our ski model optimizes the decision of where to go skiing based on specific preferences of the user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puts user makes that influence decision (constraints) includ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now boarders on tri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nimum level of difficul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cation around the count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otel class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x amount of spend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05880" y="972360"/>
            <a:ext cx="62085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e Used six Variables in Deciding Where to Ski for Spring Break 06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590920"/>
            <a:ext cx="6873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ether you are a Skier or a Snowboar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ome Mountains Still only Allow Ski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type of Skier you 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eginner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De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mediate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Rest of 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pert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Jur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. Ideal amount of Moo-Lah you are willing to Spe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eneric Stern Student = X, Professor Juran = 1,000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35080" y="2743200"/>
            <a:ext cx="6873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. What Type of Accommodations you would like                   to u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-Star Hotel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-Star Hotel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TA’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-Star Hotel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Generic Prof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-Star Hotel </a:t>
            </a:r>
            <a:r>
              <a:rPr b="1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Jur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. Length You would like to be on Vacation for (in Day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. Where you would like to travel to in North America (Colorado, Utah, East Coast, etc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914400"/>
            <a:ext cx="632484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e Used 6 Variables in Deciding Where to Ski for Spring Break ’06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00200" y="762120"/>
            <a:ext cx="632448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e made the Model Flexibl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447920" y="2514600"/>
            <a:ext cx="61149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0:12:18Z</dcterms:created>
  <dc:creator>STRATTECH</dc:creator>
  <dc:description/>
  <dc:language>en-US</dc:language>
  <cp:lastModifiedBy>lluser</cp:lastModifiedBy>
  <dcterms:modified xsi:type="dcterms:W3CDTF">2005-05-02T18:03:44Z</dcterms:modified>
  <cp:revision>18</cp:revision>
  <dc:subject/>
  <dc:title>INTEL/AMD CASE ANALYSIS BUSINESS STRATEGY</dc:title>
</cp:coreProperties>
</file>