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7B2-20FA-46CD-B534-0F62EC9B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F50-8627-479B-899A-7E758E42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73F-993A-408C-95B5-EABA2C25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9AF-F3AC-46BF-BD5A-1A772E80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B080-F90B-4DC8-9A13-3AD6E522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403C-30BC-4425-84C0-DB2C9ED4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3A81-252B-4119-9981-1C24D23B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3676-4227-4429-80F9-B045516E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8657-0B95-4CDB-8FF5-189255D1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24400" y="748440"/>
            <a:ext cx="77994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F98D-B648-4C26-B2EC-988194A3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AA8D-B091-4271-AAD1-8842AD56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07D-CFEC-42E4-BD1E-8A07B70F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0AEE-89B1-4DF7-82FE-BA07890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A14E-C879-4922-8C7B-EE9F36F5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1F08-1B21-4F73-A700-1D169F6F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C8BB-8D8F-4AC4-8545-17482225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CBC9-85AA-4BE5-95E3-536A5F64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F7F-3861-4CB8-880E-01FCA1AE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B3C-34A1-47F4-B99F-45D9D2FA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B9B-5C9F-45BF-BD03-D1124119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24400" y="748440"/>
            <a:ext cx="77994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C2D-D8E2-400A-8584-EE720A14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57D-FB80-4BA1-BAA1-EF9481F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361-52E7-4A5D-82AD-F37F7BB0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713-2C6C-4818-A147-DDF77943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acclaimimages.com/usepolicy.htm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inmagine.com/q0017356/c0014718-photo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4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The Elaborate Ski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EE06-C332-420A-89BB-413399E464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Winter Sports Clipart Image Of A Downhill Snow Ski Racer Jump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486400"/>
            <a:ext cx="1244520" cy="13716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Stock Photography - A young adult male snow skiing downhill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077320" y="5334120"/>
            <a:ext cx="86652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2729-4ABE-4F36-A5C3-FF4164E455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ctsd.com/images/f-puerto-rico.gif&amp;imgrefurl=http://www.fctsd.com/&amp;h=50&amp;w=75&amp;sz=3&amp;tbnid=fgSoNqcu0MEJ:&amp;tbnh=45&amp;tbnw=68&amp;start=14&amp;prev=/images%3Fq%3Dpuerto%2Brico%2Bnational%2Bflag%26hl%3Den%26lr%3D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tv-spring-break.springbreaktravel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 “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ELABORATE”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DECISION MODEL OPTIMIZING A SPRING BREAK VACATION</a:t>
            </a:r>
            <a:br>
              <a:rPr sz="2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**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CISION MODELS 4/25/05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724280" y="32767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6666"/>
                </a:solidFill>
                <a:uFillTx/>
                <a:latin typeface="Arial"/>
              </a:rPr>
              <a:t>Created by: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Jose Arroyo-Pont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Brian Becker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Brian Rowley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Dean Schaffer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Alexander Tisch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5120" y="2286000"/>
            <a:ext cx="685800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e evaluated each mountain based on 14 criteria to help define the quality of a skiing experienc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r each criteria rankings were assigned from 1 to 10 (10 being the best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he total score for each mountain was tabulated and used as a quality indicato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Valu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one of our variable, is a result of dividing total price by the quality indicato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685800"/>
            <a:ext cx="63244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e created a Value Variable based on ratings from Ski Magaz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196200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3720" y="3016080"/>
            <a:ext cx="54100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762120"/>
            <a:ext cx="723924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inal Output - Combined total of all 6 variables to determine optimal res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01840" y="2362320"/>
            <a:ext cx="5851440" cy="438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-13680" y="824400"/>
            <a:ext cx="7799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 #1: A cheap Stern Graduate Puerto Rican Ski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438280"/>
            <a:ext cx="60199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Variables the cheap Puerto Rican will selec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kiing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If he breaks one of the skis he still has another left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xperience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Advanced, like anybody coming from the Caribbea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ximum amount to spend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Hmmm!!! Did we mention CHEAP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ccommodations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ne Star – Just like the national flag. Even though the least possible is two stars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Length of Trip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using the random function in Excel or Crystal Ball we can come up with a “random” length of the trip. 6 day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stination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East Coast Baby –                                                                                 far from the Mexica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191120"/>
            <a:ext cx="647640" cy="428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5638680"/>
            <a:ext cx="685800" cy="962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696080" y="228600"/>
            <a:ext cx="1255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2286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Beware he comes the Rican!!!!!!!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5105520"/>
            <a:ext cx="550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Note: These costs do not include alcohol he may consume or any other discretionary spending.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864560" y="228600"/>
            <a:ext cx="1279440" cy="170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-13680" y="748440"/>
            <a:ext cx="779976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 #1: A cheap Stern Graduate Puerto Rican Ski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56498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90880" y="824400"/>
            <a:ext cx="7799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#2: Premium Jur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286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How a high-roller like Professor Juran would travel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13976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00200" y="2671920"/>
            <a:ext cx="60199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Variables Professor Juran would choos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nowboarding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Definitely, we know he carves with the best of the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Sexual) Experience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Undoubtedly Advanc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ximum amount to spend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Unlimited, Juran is a professor at three schools and moonlights as a brew mast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ccommodations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A man who played Joe I-Banker would not stay in anything less than 4 sta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Length of Trip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7 Day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stination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Colorado, because he prefers the ‘Rocky mountain high’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2280" y="90072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#2: Premium Jur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082520" cy="1447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2286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here Professor Juran would go in Colorado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563868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0200" y="5105520"/>
            <a:ext cx="550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Note: These costs do not include alcohol he may consume or any other discretionary spend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ence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514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at would you like to do??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kiing Memories…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5146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photo"/>
          <p:cNvPicPr/>
          <p:nvPr/>
        </p:nvPicPr>
        <p:blipFill>
          <a:blip r:embed="rId1"/>
          <a:stretch/>
        </p:blipFill>
        <p:spPr>
          <a:xfrm>
            <a:off x="914400" y="2362320"/>
            <a:ext cx="7238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ation 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362320"/>
            <a:ext cx="52578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roduction of Spring Break Deci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thodology of Mod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derlying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ion of Mod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actical Model Examp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#1:  Typical Stern Student low-cost, east-coast examp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#2:  Premium spare no expense Juran examp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dience Examp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troduction of Spring Break Proble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514600"/>
            <a:ext cx="6858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istorically, one of the most important decisions for a second year Stern student is picking an appropriate spring break trip.  A very unscientific poll taken by our group yielded the fact that last year alone, the average Stern student took 40% of his/her time pondering how to best spend this week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e first chose between two alternatives, a ski trip or a beach trip and came up with the following research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mtv-spring-break.springbreaktravel.com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tetongravity.com/intro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tetongravity.com/tgrclips/sptrailerfast.wm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1680" y="-156600"/>
            <a:ext cx="5570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367320"/>
            <a:ext cx="6858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tv-spring-break.springbreaktravel.com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934320" cy="50846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52280" y="152280"/>
            <a:ext cx="3200400" cy="6858000"/>
            <a:chOff x="152280" y="152280"/>
            <a:chExt cx="3200400" cy="6858000"/>
          </a:xfrm>
        </p:grpSpPr>
        <p:sp>
          <p:nvSpPr>
            <p:cNvPr id="107" name=""/>
            <p:cNvSpPr/>
            <p:nvPr/>
          </p:nvSpPr>
          <p:spPr>
            <a:xfrm>
              <a:off x="152280" y="15228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15228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590920" y="640080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640080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629400" y="457200"/>
            <a:ext cx="2514240" cy="304920"/>
            <a:chOff x="6629400" y="457200"/>
            <a:chExt cx="2514240" cy="304920"/>
          </a:xfrm>
        </p:grpSpPr>
        <p:sp>
          <p:nvSpPr>
            <p:cNvPr id="112" name=""/>
            <p:cNvSpPr/>
            <p:nvPr/>
          </p:nvSpPr>
          <p:spPr>
            <a:xfrm>
              <a:off x="6758640" y="457200"/>
              <a:ext cx="238500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629400" y="457200"/>
              <a:ext cx="13392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281680" y="-156600"/>
            <a:ext cx="5570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6367320"/>
            <a:ext cx="762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www.tetongravity.com/intro.ht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www.tetongravity.com/tgrclips/sptrailerfast.wmv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52280" y="152280"/>
            <a:ext cx="3200400" cy="6858000"/>
            <a:chOff x="152280" y="152280"/>
            <a:chExt cx="3200400" cy="6858000"/>
          </a:xfrm>
        </p:grpSpPr>
        <p:sp>
          <p:nvSpPr>
            <p:cNvPr id="117" name=""/>
            <p:cNvSpPr/>
            <p:nvPr/>
          </p:nvSpPr>
          <p:spPr>
            <a:xfrm>
              <a:off x="152280" y="15228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480" y="15228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90920" y="638316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640080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629400" y="457200"/>
            <a:ext cx="2514240" cy="304920"/>
            <a:chOff x="6629400" y="457200"/>
            <a:chExt cx="2514240" cy="304920"/>
          </a:xfrm>
        </p:grpSpPr>
        <p:sp>
          <p:nvSpPr>
            <p:cNvPr id="122" name=""/>
            <p:cNvSpPr/>
            <p:nvPr/>
          </p:nvSpPr>
          <p:spPr>
            <a:xfrm>
              <a:off x="6758640" y="457200"/>
              <a:ext cx="238500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629400" y="457200"/>
              <a:ext cx="13392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on of Ski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514600"/>
            <a:ext cx="685800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e obviously chose to go skiing after seeing that low budget movie.  Our ski model optimizes the decision of where to go skiing based on specific preferences of the user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puts user makes that influence decision (constraints) includ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now boarders on tri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nimum level of difficul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cation around the count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otel class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x amount of spend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05880" y="972360"/>
            <a:ext cx="62085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e Used six Variables in Deciding Where to Ski for Spring Break 06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2590920"/>
            <a:ext cx="6873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ether you are a Skier or a Snowboar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ome Mountains Still only Allow Ski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type of Skier you 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eginner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De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mediate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Rest of 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pert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Jur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. Ideal amount of Moo-Lah you are willing to Spe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eneric Stern Student = X, Professor Juran = 1,000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35080" y="2743200"/>
            <a:ext cx="6873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. What Type of Accommodations you would like                   to u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-Star Hotel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-Star Hotel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TA’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-Star Hotel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Generic Prof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-Star Hotel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Jur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. Length You would like to be on Vacation for (in Day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. Where you would like to travel to in North America (Colorado, Utah, East Coast, etc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914400"/>
            <a:ext cx="632484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e Used 6 Variables in Deciding Where to Ski for Spring Break ’06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00200" y="762120"/>
            <a:ext cx="632448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e made the Model Flexible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447920" y="2514600"/>
            <a:ext cx="61149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0:12:18Z</dcterms:created>
  <dc:creator>STRATTECH</dc:creator>
  <dc:description/>
  <dc:language>en-US</dc:language>
  <cp:lastModifiedBy>lluser</cp:lastModifiedBy>
  <dcterms:modified xsi:type="dcterms:W3CDTF">2005-05-02T18:03:44Z</dcterms:modified>
  <cp:revision>18</cp:revision>
  <dc:subject/>
  <dc:title>INTEL/AMD CASE ANALYSIS BUSINESS STRATEGY</dc:title>
</cp:coreProperties>
</file>