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5.pct" ContentType="image/x-pict"/>
  <Override PartName="/ppt/media/image6.jpeg" ContentType="image/jpeg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3DF6-E53D-4EDB-9B1C-C39AA2CB7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day classes model…represents subset of all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nalty to enrollment because most inflexible “constrai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alty for 9am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izing pen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33808-F726-406C-9E4A-06FB69136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678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0160" y="3799800"/>
            <a:ext cx="678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33DCB-2B13-497B-9C80-7625EFBCA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0160" y="37998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45240" y="37998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E0F3-47E5-4FE2-B3AB-68E80AFF6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3000" y="13716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6200" y="13716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0160" y="37998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3000" y="37998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56200" y="37998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74B7-92C3-4829-B47E-B20FCDF17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57970-6C39-4982-94F4-C7231534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D9FEB-5A98-4263-B150-23BC9D42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37FD2-9284-4490-952A-7EC3A0F3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39DA6-BBAF-488F-BD7F-5C58E7D0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F11CD-10BE-498B-BF8B-5771D14A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0160" y="410760"/>
            <a:ext cx="73152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7A55F-126F-43BB-853B-6D42683D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0160" y="37998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90B84-7F14-4B1A-9A57-83F1AF92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4A7A-6C52-46F6-B8A8-0844F4886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45240" y="37998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6A2A1-ECFF-45E8-ADF6-72109C8A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799800"/>
            <a:ext cx="678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4B068-82DF-4DDA-A5EA-942E2E18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678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0160" y="3799800"/>
            <a:ext cx="678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EEDC2-27A8-48FC-8516-4895B95B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0160" y="37998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45240" y="37998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19039-CFAD-4541-9BA0-8AAFFAF6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63000" y="13716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56200" y="13716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0160" y="37998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63000" y="37998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56200" y="3799800"/>
            <a:ext cx="218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7DD08-E222-4919-B860-5DDD0203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619CB-38DE-45AA-970C-42F6D2E11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A038-B361-4668-AD27-E8BD30A39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BC28C-BA5D-4C5A-A38D-C4A7FB63B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0160" y="410760"/>
            <a:ext cx="73152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2CED-2D92-40C2-898B-5D7C6A2E1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0160" y="37998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DADD1-5F00-46D7-8E58-A696F6E78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45240" y="37998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9989-817C-4822-A50E-7F0E9065A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945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5240" y="1371600"/>
            <a:ext cx="3309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0160" y="3799800"/>
            <a:ext cx="6781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CD8A4-E196-45C6-A615-523DD4248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0160" y="13716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5760" indent="-275760">
              <a:spcBef>
                <a:spcPts val="2276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56640" indent="-164520">
              <a:spcBef>
                <a:spcPts val="2276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-219240">
              <a:spcBef>
                <a:spcPts val="22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36120" indent="-219240">
              <a:spcBef>
                <a:spcPts val="2276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74960" indent="-219240">
              <a:spcBef>
                <a:spcPts val="2276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74960" indent="-219240">
              <a:spcBef>
                <a:spcPts val="2276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74960" indent="-219240">
              <a:spcBef>
                <a:spcPts val="2276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38480" y="6244920"/>
            <a:ext cx="40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27520" y="6244920"/>
            <a:ext cx="2158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F671-64D3-41F1-9676-ADD0E3C8E480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73040" y="1143000"/>
            <a:ext cx="6858000" cy="0"/>
          </a:xfrm>
          <a:prstGeom prst="line">
            <a:avLst/>
          </a:prstGeom>
          <a:ln w="57240">
            <a:solidFill>
              <a:srgbClr val="762c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38040" y="415800"/>
            <a:ext cx="927360" cy="75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7184-606A-48CF-A656-8A04C6942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0" y="0"/>
            <a:ext cx="9296280" cy="7558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2590920"/>
            <a:ext cx="7772400" cy="914400"/>
          </a:xfrm>
          <a:prstGeom prst="rect">
            <a:avLst/>
          </a:prstGeom>
          <a:solidFill>
            <a:srgbClr val="0000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5680" y="6472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d1d1"/>
                </a:solidFill>
                <a:latin typeface="Verdana"/>
              </a:rPr>
              <a:t>Spring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51480" y="5465880"/>
            <a:ext cx="3581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5319"/>
                </a:solidFill>
                <a:latin typeface="Arial"/>
              </a:rPr>
              <a:t>Maria Pil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5319"/>
                </a:solidFill>
                <a:latin typeface="Arial"/>
              </a:rPr>
              <a:t>Sharon Miz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5319"/>
                </a:solidFill>
                <a:latin typeface="Arial"/>
              </a:rPr>
              <a:t>Lori Matsuk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5319"/>
                </a:solidFill>
                <a:latin typeface="Verdana"/>
              </a:rPr>
              <a:t>Tamara</a:t>
            </a:r>
            <a:r>
              <a:rPr b="0" lang="en-US" sz="1600" spc="-1" strike="noStrike">
                <a:solidFill>
                  <a:srgbClr val="da5319"/>
                </a:solidFill>
                <a:latin typeface="Arial"/>
              </a:rPr>
              <a:t> Solo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5319"/>
                </a:solidFill>
                <a:latin typeface="Arial"/>
              </a:rPr>
              <a:t>Michael Kirshba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4200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62c0d"/>
                </a:solidFill>
                <a:latin typeface="Arial"/>
              </a:rPr>
              <a:t>A Decision Model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6216480"/>
            <a:ext cx="1141560" cy="274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496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7abfc3"/>
                </a:solidFill>
                <a:latin typeface="Verdana"/>
              </a:rPr>
              <a:t>Classroom Scheduler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del: Outp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0160" y="1371240"/>
            <a:ext cx="7277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Aft>
                <a:spcPts val="901"/>
              </a:spcAft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model successfully assigns each class to a time slo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81240" y="2076480"/>
            <a:ext cx="6967440" cy="2959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829480" y="1841400"/>
            <a:ext cx="2654280" cy="3606840"/>
          </a:xfrm>
          <a:prstGeom prst="ellipse">
            <a:avLst/>
          </a:prstGeom>
          <a:noFill/>
          <a:ln w="38160">
            <a:solidFill>
              <a:srgbClr val="da5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371600"/>
            <a:ext cx="6870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Aft>
                <a:spcPts val="1199"/>
              </a:spcAft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total penalty is now 17,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Aft>
                <a:spcPts val="1199"/>
              </a:spcAft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existing scheduling system has a penalty of 30,0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587600" y="2844720"/>
            <a:ext cx="666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da5319"/>
                </a:solidFill>
                <a:latin typeface="Arial"/>
              </a:rPr>
              <a:t>42% Improvemen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63560" y="4319640"/>
          <a:ext cx="5332680" cy="2009880"/>
        </p:xfrm>
        <a:graphic>
          <a:graphicData uri="http://schemas.openxmlformats.org/drawingml/2006/table">
            <a:tbl>
              <a:tblPr/>
              <a:tblGrid>
                <a:gridCol w="2666880"/>
                <a:gridCol w="266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tructu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W 3-4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lobal Ban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W 10:30-11: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undations of Entrepreneu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 1:30-2: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zing Financial Institu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4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 3-4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689120" y="3848040"/>
            <a:ext cx="70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a2c8"/>
                </a:solidFill>
                <a:latin typeface="Arial"/>
              </a:rPr>
              <a:t>And those four overlapping classes mentioned earli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uture Improvemen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count for half-semester classes and full-semester half-credit cla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ditional professor preferenc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cheduling fin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count for specializations rather than subj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sign specific classrooms by matching classroom layout with class format (lecture, group discussion, etc.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96560" y="1904760"/>
            <a:ext cx="6156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900" spc="-1" strike="noStrike">
                <a:solidFill>
                  <a:srgbClr val="da5319"/>
                </a:solidFill>
                <a:latin typeface="Verdana"/>
              </a:rPr>
              <a:t>The End</a:t>
            </a:r>
            <a:endParaRPr b="0" lang="en-US" sz="9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581280"/>
            <a:ext cx="5791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 algn="ctr">
              <a:lnSpc>
                <a:spcPct val="100000"/>
              </a:lnSpc>
              <a:spcBef>
                <a:spcPts val="5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62c0d"/>
                </a:solidFill>
                <a:latin typeface="Verdana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304920"/>
            <a:ext cx="83818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3557520"/>
            <a:ext cx="5029200" cy="0"/>
          </a:xfrm>
          <a:prstGeom prst="line">
            <a:avLst/>
          </a:prstGeom>
          <a:ln w="57240">
            <a:solidFill>
              <a:srgbClr val="82a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0640" y="140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xecutive Summa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31840" y="1447920"/>
            <a:ext cx="7097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2276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y of the most popular classes at Stern are scheduled for the same time slo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2276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a decision model that schedules courses t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spcBef>
                <a:spcPts val="601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nimize the number of 6 and 7 rated classes offered at the same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spcBef>
                <a:spcPts val="601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nimize classes within the same subject area offered at the same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oblem Defini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14440" y="1352520"/>
            <a:ext cx="7500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1624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ny Stern students every year miss out on taking classes they want to take because of scheduling confli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624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of these conflicts exist because the current scheduling system does NOT appear to optimize with consideration f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spcBef>
                <a:spcPts val="451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pularity of a class (from CF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spcBef>
                <a:spcPts val="451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ubject area (e.g. Finance, Marketing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624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 example, this spring, a student interested in finance would have to choose between these classes offered at the same time: Restructuring, Global Banking, Foundations of Entrepreneurship, and Analyzing Financial Institu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520" y="1316160"/>
            <a:ext cx="579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y(s) of the week, time slo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09440" y="203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2a2c8"/>
                </a:solidFill>
                <a:latin typeface="Verdana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760" y="4208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2a2c8"/>
                </a:solidFill>
                <a:latin typeface="Verdana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2044800"/>
            <a:ext cx="579096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1463"/>
              </a:spcBef>
              <a:buClr>
                <a:srgbClr val="b7a27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nimize no. of popular classes during the same time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1463"/>
              </a:spcBef>
              <a:buClr>
                <a:srgbClr val="b7a27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nimize no. of same-subject classes during the same time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1463"/>
              </a:spcBef>
              <a:buClr>
                <a:srgbClr val="b7a27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nimize number of electives given before 10:30 and Thursday n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5920" y="13240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2a2c8"/>
                </a:solidFill>
                <a:latin typeface="Verdana"/>
              </a:rPr>
              <a:t>Decisio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4237200"/>
            <a:ext cx="65534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0484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9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Professor can only teach one class in a particular time sl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9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Classroom must have capacity &gt;= enroll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9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No over-booking of classroo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9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ame class should be taught in different time slo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720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9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Night classes stay night classes, day stay da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ata Used by Mode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678168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2a2c8"/>
                </a:solidFill>
                <a:latin typeface="Verdana"/>
              </a:rPr>
              <a:t>Inpu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049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rse lis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spcBef>
                <a:spcPts val="499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numb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spcBef>
                <a:spcPts val="499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fess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spcBef>
                <a:spcPts val="499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recent CFE ratings for overall course and profess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spcBef>
                <a:spcPts val="499"/>
              </a:spcBef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st enroll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950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assroom capacity d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2a2c8"/>
                </a:solidFill>
                <a:latin typeface="Verdana"/>
              </a:rPr>
              <a:t>Data Proces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624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tegorized CFE satisfaction as low, medium, high or new class (if there was no previous dat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624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uped classrooms based on capac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allenges of the Dat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9400" y="1371600"/>
            <a:ext cx="6705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1463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same course can be taught by multiple professors—we treated each class-professor combo as a distinct cl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463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ral classes are anomalies, starting/ending at odd times (e.g. 9:30-10:50)—these were assumed to be locked in to these time slo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463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me professors can dictate when their classes are offered—these were assumed to be locked in to these time slo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463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ight and day classes—we assumed each class needed to remain in the day or night and therefore ran the model on each (day and night) as its own data s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del: Generating Schedu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70992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2a2c8"/>
                </a:solidFill>
                <a:latin typeface="Verdana"/>
              </a:rPr>
              <a:t>Each elective class is assigned to a time slot using evolutionary solver</a:t>
            </a:r>
            <a:r>
              <a:rPr b="0" lang="en-US" sz="2400" spc="-1" strike="noStrike">
                <a:solidFill>
                  <a:srgbClr val="82a2c8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5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blue cells are populated with a number between 1 and 8 corresponding to a class schedule time slot                 (e.g. 1 = MW 9:00-10:2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57200" y="3193920"/>
            <a:ext cx="71406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del: Penal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333440"/>
            <a:ext cx="7251480" cy="27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nalties are calculated and summed in the red cell based 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than one high or five medium rated classes in a time slo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eduling over building’s capa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than one class in each subject matter in a time slo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84360" indent="-171720">
              <a:buClr>
                <a:srgbClr val="ff0000"/>
              </a:buClr>
              <a:buSzPct val="95000"/>
              <a:buFont typeface="Time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umber of 9am clas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6080" y="3792600"/>
            <a:ext cx="8543880" cy="2905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11760" y="5918040"/>
            <a:ext cx="1841400" cy="939960"/>
          </a:xfrm>
          <a:prstGeom prst="ellipse">
            <a:avLst/>
          </a:prstGeom>
          <a:noFill/>
          <a:ln w="38160">
            <a:solidFill>
              <a:srgbClr val="da5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4107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del: Use of Sol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0160" y="1371600"/>
            <a:ext cx="692136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1950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olutionary solver was used to minimize the “penalty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1950"/>
              </a:spcBef>
              <a:buClr>
                <a:srgbClr val="b7a2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lver runs quickly with most of the constraints moved in to the objective fun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51040" y="3738600"/>
            <a:ext cx="506736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8:18:17Z</dcterms:created>
  <dc:creator>Jake</dc:creator>
  <dc:description/>
  <dc:language>en-US</dc:language>
  <cp:lastModifiedBy>Michael Kirshbaum</cp:lastModifiedBy>
  <dcterms:modified xsi:type="dcterms:W3CDTF">2005-04-25T15:32:44Z</dcterms:modified>
  <cp:revision>48</cp:revision>
  <dc:subject/>
  <dc:title>Slide 1</dc:title>
</cp:coreProperties>
</file>