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D69-EF1F-4A73-85B0-95A1AC5A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day classes model…represents subset of all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nalty to enrollment because most inflexible “constrai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alty for 9am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ing pen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9D43-077A-4592-824E-107AC4E05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288B-5F40-48AF-93F1-1478B2DF2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6432-60E8-4509-93F7-B783A53CE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30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62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016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30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62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D67E-4BF3-42ED-BE25-67EAA9C03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14717-31A6-48BA-91A3-61ED2C29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D77B4-35BF-437F-9C00-7692D45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2E60-4A77-4DDD-9A1C-00576FA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1FB8-6631-4C30-8BFD-C562A4C7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1708-9D6E-4AE0-915D-099CB2B0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410760"/>
            <a:ext cx="73152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BEBAD-2AA9-45ED-9B3C-158E4CAB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FE41-F802-4095-8CD8-5931A13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941B-9DEA-4C95-A040-EC93CE443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CC42-3E1B-4DA0-9972-E8AE9F7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793B1-6F66-4A39-818E-472D2A7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698A-BC3F-4918-AECA-26D36648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4809-A846-4741-B9B5-24964166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30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62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016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30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62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10196-6CD0-4A69-ACD5-F0ECF41E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A90A-1D3F-4CB7-83CE-27A20B728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0798-CA38-4835-9788-C5183BE8E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DDD9-13DA-4108-A9F9-AD8AA9702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410760"/>
            <a:ext cx="73152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4864-AB7B-4FC5-96E9-46D95E436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C823-B5B4-4B9B-9926-CD45A700C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B7AA-40FF-4098-B038-6D7497C2D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B93E-4FEC-4AE2-B200-9883C1B26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5760" indent="-27576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56640" indent="-164520">
              <a:spcBef>
                <a:spcPts val="2276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spcBef>
                <a:spcPts val="2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36120" indent="-219240">
              <a:spcBef>
                <a:spcPts val="2276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74960" indent="-219240">
              <a:spcBef>
                <a:spcPts val="2276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74960" indent="-219240">
              <a:spcBef>
                <a:spcPts val="2276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74960" indent="-219240">
              <a:spcBef>
                <a:spcPts val="2276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8480" y="6244920"/>
            <a:ext cx="40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27520" y="6244920"/>
            <a:ext cx="2158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36C-FC3B-4E3C-8FD8-D69DBCC5086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3040" y="1143000"/>
            <a:ext cx="6858000" cy="0"/>
          </a:xfrm>
          <a:prstGeom prst="line">
            <a:avLst/>
          </a:prstGeom>
          <a:ln w="57240">
            <a:solidFill>
              <a:srgbClr val="762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38040" y="415800"/>
            <a:ext cx="927360" cy="75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757-0D64-4153-B673-CBEC44D0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0" y="0"/>
            <a:ext cx="9296280" cy="7558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590920"/>
            <a:ext cx="7772400" cy="914400"/>
          </a:xfrm>
          <a:prstGeom prst="rect">
            <a:avLst/>
          </a:prstGeom>
          <a:solidFill>
            <a:srgbClr val="00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680" y="6472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</a:rPr>
              <a:t>Spring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51480" y="5465880"/>
            <a:ext cx="3581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Maria Pil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Sharon Miz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Lori Matsuk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Verdana"/>
              </a:rPr>
              <a:t>Tamara</a:t>
            </a: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 Solo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Michael Kirshba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420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2c0d"/>
                </a:solidFill>
                <a:latin typeface="Arial"/>
              </a:rPr>
              <a:t>A Decision Mode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6216480"/>
            <a:ext cx="1141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496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7abfc3"/>
                </a:solidFill>
                <a:latin typeface="Verdana"/>
              </a:rPr>
              <a:t>Classroom Scheduler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Outp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371240"/>
            <a:ext cx="7277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901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model successfully assigns each class to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81240" y="2076480"/>
            <a:ext cx="6967440" cy="295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29480" y="1841400"/>
            <a:ext cx="2654280" cy="3606840"/>
          </a:xfrm>
          <a:prstGeom prst="ellipse">
            <a:avLst/>
          </a:prstGeom>
          <a:noFill/>
          <a:ln w="38160">
            <a:solidFill>
              <a:srgbClr val="da5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371600"/>
            <a:ext cx="6870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199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otal penalty is now 17,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Aft>
                <a:spcPts val="1199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existing scheduling system has a penalty of 30,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0" y="2844720"/>
            <a:ext cx="666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a5319"/>
                </a:solidFill>
                <a:latin typeface="Arial"/>
              </a:rPr>
              <a:t>42% Improvemen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63560" y="4319640"/>
          <a:ext cx="5332680" cy="2009880"/>
        </p:xfrm>
        <a:graphic>
          <a:graphicData uri="http://schemas.openxmlformats.org/drawingml/2006/table">
            <a:tbl>
              <a:tblPr/>
              <a:tblGrid>
                <a:gridCol w="2666880"/>
                <a:gridCol w="266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tru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W 3-4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obal B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W 10:30-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undations of Entrepreneu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 1:30-2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ing Financial Institu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 3-4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689120" y="3848040"/>
            <a:ext cx="70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a2c8"/>
                </a:solidFill>
                <a:latin typeface="Arial"/>
              </a:rPr>
              <a:t>And those four overlapping classes mentioned earl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uture Improvemen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unt for half-semester classes and full-semester half-credit c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itional professor preferenc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heduling fi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unt for specializations rather than sub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ign specific classrooms by matching classroom layout with class format (lecture, group discussion, etc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96560" y="1904760"/>
            <a:ext cx="6156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da5319"/>
                </a:solidFill>
                <a:latin typeface="Verdana"/>
              </a:rPr>
              <a:t>The End</a:t>
            </a:r>
            <a:endParaRPr b="0" lang="en-US" sz="9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58128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5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62c0d"/>
                </a:solidFill>
                <a:latin typeface="Verdana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04920"/>
            <a:ext cx="83818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557520"/>
            <a:ext cx="5029200" cy="0"/>
          </a:xfrm>
          <a:prstGeom prst="line">
            <a:avLst/>
          </a:prstGeom>
          <a:ln w="57240">
            <a:solidFill>
              <a:srgbClr val="82a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0640" y="140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xecutive Summa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1840" y="1447920"/>
            <a:ext cx="7097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of the most popular classes at Stern are scheduled for the same time sl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decision model that schedules courses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60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ze the number of 6 and 7 rated classes offered at the sam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60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ze classes within the same subject area offered at the sam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14440" y="1352520"/>
            <a:ext cx="750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y Stern students every year miss out on taking classes they want to take because of scheduling confli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of these conflicts exist because the current scheduling system does NOT appear to optimize with consideration 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5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rity of a class (from CF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5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bject area (e.g. Finance, Marketin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this spring, a student interested in finance would have to choose between these classes offered at the same time: Restructuring, Global Banking, Foundations of Entrepreneurship, and Analyzing Financial Institu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520" y="131616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y(s) of the week,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09440" y="203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760" y="4208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044800"/>
            <a:ext cx="57909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o. of popular classes during the same time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o. of same-subject classes during the same time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umber of electives given before 10:30 and Thursday 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5920" y="13240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237200"/>
            <a:ext cx="65534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ofessor can only teach one class in a particular time s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lassroom must have capacity &gt;= enroll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o over-booking of classr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ame class should be taught in different time s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ight classes stay night classes, day stay d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a Used by Mod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a2c8"/>
                </a:solidFill>
                <a:latin typeface="Verdana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049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se lis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num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recent CFE ratings for overall course and 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st enroll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sroom capacity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a2c8"/>
                </a:solidFill>
                <a:latin typeface="Verdana"/>
              </a:rPr>
              <a:t>Data Proce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gorized CFE satisfaction as low, medium, high or new class (if there was no previous dat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uped classrooms based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llenges of the Da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9400" y="13716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ame course can be taught by multiple professors—we treated each class-professor combo as a distinct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ral classes are anomalies, starting/ending at odd times (e.g. 9:30-10:50)—these were assumed to be locked in to these time slo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professors can dictate when their classes are offered—these were assumed to be locked in to these time slo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ght and day classes—we assumed each class needed to remain in the day or night and therefore ran the model on each (day and night) as its own data s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Generating Sched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70992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2a2c8"/>
                </a:solidFill>
                <a:latin typeface="Verdana"/>
              </a:rPr>
              <a:t>Each elective class is assigned to a time slot using evolutionary solver</a:t>
            </a:r>
            <a:r>
              <a:rPr b="0" lang="en-US" sz="2400" spc="-1" strike="noStrike">
                <a:solidFill>
                  <a:srgbClr val="82a2c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5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blue cells are populated with a number between 1 and 8 corresponding to a class schedule time slot                 (e.g. 1 = MW 9:00-10:2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57200" y="3193920"/>
            <a:ext cx="71406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Penal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333440"/>
            <a:ext cx="725148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nalties are calculated and summed in the red cell based 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one high or five medium rated classes in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eduling over building’s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one class in each subject matter in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mber of 9am cla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6080" y="3792600"/>
            <a:ext cx="854388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11760" y="5918040"/>
            <a:ext cx="1841400" cy="939960"/>
          </a:xfrm>
          <a:prstGeom prst="ellipse">
            <a:avLst/>
          </a:prstGeom>
          <a:noFill/>
          <a:ln w="38160">
            <a:solidFill>
              <a:srgbClr val="da5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Use of Sol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92136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olutionary solver was used to minimize the “penalty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r runs quickly with most of the constraints moved in to the objective fun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1040" y="3738600"/>
            <a:ext cx="50673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18:17Z</dcterms:created>
  <dc:creator>Jake</dc:creator>
  <dc:description/>
  <dc:language>en-US</dc:language>
  <cp:lastModifiedBy>Michael Kirshbaum</cp:lastModifiedBy>
  <dcterms:modified xsi:type="dcterms:W3CDTF">2005-04-25T15:32:44Z</dcterms:modified>
  <cp:revision>48</cp:revision>
  <dc:subject/>
  <dc:title>Slide 1</dc:title>
</cp:coreProperties>
</file>