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372-D661-4C15-8890-B5C3621F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D51-BBF3-4EA8-9B27-5738B80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D67C-03A4-431A-B571-E7865721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278-7B9E-4251-AAC4-97E48BD9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C4E-337F-4202-B55D-269B38C6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918-CAD5-43F3-BC3F-64AC554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1DA-6CE8-4745-B177-41331F6C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FAF-679C-4155-B2E2-ABBDF441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039-A287-4F5D-83DD-B74D748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BBC-58DD-4F26-9EC8-552AE870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F29-EA4B-47D1-93B7-9C87653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7CA-4B55-4F5E-8825-31EC91C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D9C2-5B61-4D46-973D-70C8EC4A046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78160"/>
            <a:ext cx="9144000" cy="1871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993240" y="2670120"/>
            <a:ext cx="66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ISION MODEL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- MEDIA BUDGETTING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895440" y="4724280"/>
            <a:ext cx="170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ncent Cha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haron 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an Peir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n Poehl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ujin Soh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217520"/>
            <a:ext cx="8642160" cy="12196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enefits of the Mod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more scientific approach to budget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les/Lifetime Value ROI maxim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longer advertise with publishers that will deliver negative ROI’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79280" y="2556000"/>
            <a:ext cx="878544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ture Improveme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34960" y="1773360"/>
            <a:ext cx="8110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and model to determine whether overall advertising budge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$55,000) should be higher or lower than current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uld require knowledge of ROI’s of other business un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ilize demographic information of publisher websites to better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publishers that cater to our desired customers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Fully incorporate the sub-models used to calculate inputs in th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master model, so that all the inputs are linked to each other, and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o the decision in “an organic way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2378160"/>
            <a:ext cx="9144000" cy="187164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730600" y="2852640"/>
            <a:ext cx="399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88000" y="1628640"/>
            <a:ext cx="4105080" cy="2590920"/>
          </a:xfrm>
          <a:prstGeom prst="wedgeEllipseCallout">
            <a:avLst>
              <a:gd name="adj1" fmla="val 23509"/>
              <a:gd name="adj2" fmla="val 59925"/>
            </a:avLst>
          </a:prstGeom>
          <a:solidFill>
            <a:srgbClr val="eaeaea">
              <a:alpha val="48000"/>
            </a:srgbClr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216360" y="2602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2228760"/>
            <a:ext cx="376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whatever you want with the budget. Just show m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st ROI!!!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32720" y="4508640"/>
          <a:ext cx="1882800" cy="208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4508640"/>
                    <a:ext cx="1882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40360" y="623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822400"/>
            <a:ext cx="4176720" cy="327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666360" y="3152880"/>
            <a:ext cx="366120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ine Technological Company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t -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cription-based soft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onthly, Annual, 3-yea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rce of Sales Breakdow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5% Online adverti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0% Renewal of custom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% oth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774800"/>
            <a:ext cx="403236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any Backgrou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-47160" y="49798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5800" y="26028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rial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2031840"/>
            <a:ext cx="3600720" cy="93528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ine advertising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: $55,000 / Mon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821120" y="2031840"/>
            <a:ext cx="3600720" cy="93528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ilable # of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ine Publishers :2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888840" y="4233960"/>
            <a:ext cx="732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ould you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the mone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each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r to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ximize the overall ROI?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280760" y="511560"/>
            <a:ext cx="432000" cy="6408720"/>
          </a:xfrm>
          <a:custGeom>
            <a:avLst/>
            <a:gdLst>
              <a:gd name="textAreaLeft" fmla="*/ 0 w 432000"/>
              <a:gd name="textAreaRight" fmla="*/ 155880 w 432000"/>
              <a:gd name="textAreaTop" fmla="*/ 167040 h 6408720"/>
              <a:gd name="textAreaBottom" fmla="*/ 6241680 h 64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16200" y="11009"/>
                  <a:pt x="21600" y="11009"/>
                </a:cubicBezTo>
                <a:cubicBezTo>
                  <a:pt x="162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260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4145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Verdana"/>
              </a:rPr>
              <a:t>Current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157640" y="2976480"/>
            <a:ext cx="990720" cy="1676520"/>
          </a:xfrm>
          <a:custGeom>
            <a:avLst/>
            <a:gdLst>
              <a:gd name="textAreaLeft" fmla="*/ 154800 w 990720"/>
              <a:gd name="textAreaRight" fmla="*/ 802800 w 990720"/>
              <a:gd name="textAreaTop" fmla="*/ 406440 h 1676520"/>
              <a:gd name="textAreaBottom" fmla="*/ 1270080 h 1676520"/>
            </a:gdLst>
            <a:ahLst/>
            <a:rect l="textAreaLeft" t="textAreaTop" r="textAreaRight" b="textAreaBottom"/>
            <a:pathLst>
              <a:path w="21600" h="21600">
                <a:moveTo>
                  <a:pt x="3375" y="5236"/>
                </a:moveTo>
                <a:lnTo>
                  <a:pt x="13638" y="5236"/>
                </a:lnTo>
                <a:lnTo>
                  <a:pt x="13638" y="0"/>
                </a:lnTo>
                <a:lnTo>
                  <a:pt x="21600" y="10800"/>
                </a:lnTo>
                <a:lnTo>
                  <a:pt x="13638" y="21600"/>
                </a:lnTo>
                <a:lnTo>
                  <a:pt x="13638" y="16364"/>
                </a:lnTo>
                <a:lnTo>
                  <a:pt x="3375" y="16364"/>
                </a:lnTo>
                <a:close/>
              </a:path>
              <a:path w="21600" h="21600">
                <a:moveTo>
                  <a:pt x="0" y="5236"/>
                </a:moveTo>
                <a:lnTo>
                  <a:pt x="675" y="5236"/>
                </a:lnTo>
                <a:lnTo>
                  <a:pt x="675" y="16364"/>
                </a:lnTo>
                <a:lnTo>
                  <a:pt x="0" y="16364"/>
                </a:lnTo>
                <a:close/>
              </a:path>
              <a:path w="21600" h="21600">
                <a:moveTo>
                  <a:pt x="1350" y="5236"/>
                </a:moveTo>
                <a:lnTo>
                  <a:pt x="2700" y="5236"/>
                </a:lnTo>
                <a:lnTo>
                  <a:pt x="2700" y="16364"/>
                </a:lnTo>
                <a:lnTo>
                  <a:pt x="1350" y="16364"/>
                </a:lnTo>
                <a:close/>
              </a:path>
            </a:pathLst>
          </a:custGeom>
          <a:gradFill rotWithShape="0">
            <a:gsLst>
              <a:gs pos="0">
                <a:srgbClr val="8b8b8b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364000" y="24145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33"/>
                </a:solidFill>
                <a:uFillTx/>
                <a:latin typeface="Verdana"/>
              </a:rPr>
              <a:t>Recommended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274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current methodology for allocating the advertising budget is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based on ‘gut feeling’ and may not be optim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118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Our goal is to crea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scientific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del that would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allow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 optimal </a:t>
            </a: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budge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ocation to maximize the ROI for our fir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3052800"/>
            <a:ext cx="3743280" cy="25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‘gut feel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al allocation unknow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No lifetime value taken into    accou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006720"/>
            <a:ext cx="3456000" cy="20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s scientific method to allocate budge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izes ROI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ore accurate inputs influencing ROI are reflected in the calcul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2247840"/>
            <a:ext cx="3527280" cy="3270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319480"/>
            <a:ext cx="3527280" cy="3270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ision Variables and Constrain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1484280"/>
            <a:ext cx="5327640" cy="8658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derstand publisher mix more clearly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dentify publishers with higher ROI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484280"/>
            <a:ext cx="295272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argeted Publish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2637000"/>
            <a:ext cx="2952720" cy="934920"/>
          </a:xfrm>
          <a:prstGeom prst="rect">
            <a:avLst/>
          </a:prstGeom>
          <a:solidFill>
            <a:srgbClr val="dddddd"/>
          </a:solidFill>
          <a:ln w="31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 Allo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294080"/>
            <a:ext cx="2952720" cy="935280"/>
          </a:xfrm>
          <a:prstGeom prst="rect">
            <a:avLst/>
          </a:prstGeom>
          <a:solidFill>
            <a:srgbClr val="99ffcc">
              <a:alpha val="71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udget constrai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446800"/>
            <a:ext cx="2952720" cy="934920"/>
          </a:xfrm>
          <a:prstGeom prst="rect">
            <a:avLst/>
          </a:prstGeom>
          <a:solidFill>
            <a:srgbClr val="99ffcc">
              <a:alpha val="71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minishing ROI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2544840"/>
            <a:ext cx="5327640" cy="110916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llocate budget to obtain highest ROI for each publisher, and as a portfolio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Work with constraints of non-linear ROI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4319640"/>
            <a:ext cx="5327640" cy="8658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Overall budget is fixed ($55,00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Each publisher has their own budget ran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567400"/>
            <a:ext cx="5327640" cy="5806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ROI for each publisher is not linear. ROI is flattening and diminishing after a certain point.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26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OI Inputs –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ine advertis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82120" y="270828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turn from a publis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351240"/>
            <a:ext cx="820908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1) Calculate # of new subscripti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Impression * CTR % * Conversion %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 2) Calculate average $ of purchas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calculate # of each account type * different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ep 3) Calculate Lifetime value per accou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Churn rate  (% of people to renew their subscription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7000" y="1413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st of a publis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83080" y="205416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PM ($ charged based on impression #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6240" y="2637000"/>
            <a:ext cx="7151760" cy="398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Inpu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157720"/>
            <a:ext cx="72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1222200"/>
            <a:ext cx="8713800" cy="107820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s provi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istorical metrics based on number of impression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hich we use to forecast future sa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allocates the budget to obtain th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ighest ROI based upon historical metri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Diminishing retur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2519280"/>
            <a:ext cx="352764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The return is not linear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saturatio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Fewer CTR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- Frequency of advertiseme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s increasing above optim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There also exists max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Verdana"/>
              </a:rPr>
              <a:t>budget a publisher set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81240" y="2377800"/>
            <a:ext cx="5276880" cy="3225960"/>
            <a:chOff x="381240" y="2377800"/>
            <a:chExt cx="5276880" cy="3225960"/>
          </a:xfrm>
        </p:grpSpPr>
        <p:sp>
          <p:nvSpPr>
            <p:cNvPr id="104" name=""/>
            <p:cNvSpPr/>
            <p:nvPr/>
          </p:nvSpPr>
          <p:spPr>
            <a:xfrm>
              <a:off x="381240" y="2377800"/>
              <a:ext cx="5276880" cy="322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2920" y="2619360"/>
              <a:ext cx="3965760" cy="2455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2920" y="507492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2920" y="480060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12920" y="452412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2920" y="4260600"/>
              <a:ext cx="3965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12920" y="39844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2920" y="34336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12920" y="317016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12920" y="289548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12920" y="261936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2920" y="2619360"/>
              <a:ext cx="3965760" cy="245556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2920" y="2619360"/>
              <a:ext cx="1800" cy="24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6840" y="50749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66840" y="48006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66840" y="452412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6840" y="4260600"/>
              <a:ext cx="4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6840" y="3984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66840" y="370980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66840" y="34336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66840" y="31701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6840" y="289548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6840" y="2619360"/>
              <a:ext cx="46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12920" y="3709800"/>
              <a:ext cx="3965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31292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7964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63376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0048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956040" y="3709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623120" y="3709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278680" y="3709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12920" y="2768400"/>
              <a:ext cx="3632400" cy="1951200"/>
            </a:xfrm>
            <a:custGeom>
              <a:avLst/>
              <a:gdLst/>
              <a:ahLst/>
              <a:rect l="l" t="t" r="r" b="b"/>
              <a:pathLst>
                <a:path w="316" h="170">
                  <a:moveTo>
                    <a:pt x="0" y="82"/>
                  </a:moveTo>
                  <a:lnTo>
                    <a:pt x="14" y="68"/>
                  </a:lnTo>
                  <a:lnTo>
                    <a:pt x="29" y="56"/>
                  </a:lnTo>
                  <a:lnTo>
                    <a:pt x="43" y="45"/>
                  </a:lnTo>
                  <a:lnTo>
                    <a:pt x="58" y="33"/>
                  </a:lnTo>
                  <a:lnTo>
                    <a:pt x="72" y="23"/>
                  </a:lnTo>
                  <a:lnTo>
                    <a:pt x="86" y="14"/>
                  </a:lnTo>
                  <a:lnTo>
                    <a:pt x="101" y="6"/>
                  </a:lnTo>
                  <a:lnTo>
                    <a:pt x="115" y="1"/>
                  </a:lnTo>
                  <a:lnTo>
                    <a:pt x="129" y="0"/>
                  </a:lnTo>
                  <a:lnTo>
                    <a:pt x="144" y="8"/>
                  </a:lnTo>
                  <a:lnTo>
                    <a:pt x="158" y="16"/>
                  </a:lnTo>
                  <a:lnTo>
                    <a:pt x="173" y="25"/>
                  </a:lnTo>
                  <a:lnTo>
                    <a:pt x="187" y="36"/>
                  </a:lnTo>
                  <a:lnTo>
                    <a:pt x="201" y="47"/>
                  </a:lnTo>
                  <a:lnTo>
                    <a:pt x="216" y="59"/>
                  </a:lnTo>
                  <a:lnTo>
                    <a:pt x="230" y="72"/>
                  </a:lnTo>
                  <a:lnTo>
                    <a:pt x="244" y="86"/>
                  </a:lnTo>
                  <a:lnTo>
                    <a:pt x="259" y="101"/>
                  </a:lnTo>
                  <a:lnTo>
                    <a:pt x="273" y="117"/>
                  </a:lnTo>
                  <a:lnTo>
                    <a:pt x="288" y="134"/>
                  </a:lnTo>
                  <a:lnTo>
                    <a:pt x="302" y="152"/>
                  </a:lnTo>
                  <a:lnTo>
                    <a:pt x="316" y="170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8000" y="36748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8560" y="351468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1360" y="33764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71920" y="32511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4720" y="31129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5280" y="299880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66920" y="289548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640" y="28033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00640" y="274608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1"/>
                  </a:lnTo>
                  <a:lnTo>
                    <a:pt x="21" y="43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60840" y="273348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34000" y="28256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94200" y="291780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67360" y="302076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7560" y="314784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7760" y="3273120"/>
              <a:ext cx="69840" cy="6840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60920" y="341136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2" y="0"/>
                  </a:moveTo>
                  <a:lnTo>
                    <a:pt x="43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21120" y="356076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2"/>
                  </a:lnTo>
                  <a:lnTo>
                    <a:pt x="22" y="43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3120" y="372096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0"/>
                  </a:moveTo>
                  <a:lnTo>
                    <a:pt x="43" y="22"/>
                  </a:lnTo>
                  <a:lnTo>
                    <a:pt x="21" y="43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54480" y="389412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2" y="0"/>
                  </a:moveTo>
                  <a:lnTo>
                    <a:pt x="44" y="21"/>
                  </a:lnTo>
                  <a:lnTo>
                    <a:pt x="22" y="43"/>
                  </a:lnTo>
                  <a:lnTo>
                    <a:pt x="0" y="2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6480" y="40766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87840" y="4271760"/>
              <a:ext cx="7020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0"/>
                  </a:moveTo>
                  <a:lnTo>
                    <a:pt x="44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49840" y="44780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1" y="0"/>
                  </a:moveTo>
                  <a:lnTo>
                    <a:pt x="43" y="22"/>
                  </a:lnTo>
                  <a:lnTo>
                    <a:pt x="21" y="44"/>
                  </a:lnTo>
                  <a:lnTo>
                    <a:pt x="0" y="2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10400" y="468468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22" y="0"/>
                  </a:moveTo>
                  <a:lnTo>
                    <a:pt x="43" y="22"/>
                  </a:lnTo>
                  <a:lnTo>
                    <a:pt x="22" y="44"/>
                  </a:lnTo>
                  <a:lnTo>
                    <a:pt x="0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3440" y="49831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5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3440" y="4708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4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3440" y="44323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3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440" y="4168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2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3440" y="389412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00440" y="36176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9160" y="33415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9160" y="30780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160" y="280332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9160" y="252720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08520" y="3835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3520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8932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2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604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3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160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4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7832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880" y="383508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6,000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09640" y="5235480"/>
              <a:ext cx="140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rtising Dollar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498600" y="37551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OI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1240" y="2377800"/>
              <a:ext cx="5276880" cy="3225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4920" y="1413000"/>
            <a:ext cx="889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Why not allocate majority of budget to higher ROI sites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Example: SiteReferral.com (ROI 334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1120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5508720" cy="1125360"/>
          </a:xfrm>
          <a:prstGeom prst="rect">
            <a:avLst/>
          </a:prstGeom>
          <a:solidFill>
            <a:srgbClr val="ddddd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260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hodology – Lifetime Valu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34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ecause the product is subscription-based, one-time sales price i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t an accurate input to influence the retur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133720"/>
          <a:ext cx="6372000" cy="3929040"/>
        </p:xfrm>
        <a:graphic>
          <a:graphicData uri="http://schemas.openxmlformats.org/drawingml/2006/table">
            <a:tbl>
              <a:tblPr/>
              <a:tblGrid>
                <a:gridCol w="1888920"/>
                <a:gridCol w="1339920"/>
                <a:gridCol w="1414440"/>
                <a:gridCol w="17287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Month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An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3-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   24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  29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$  499.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Extens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6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2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15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Convertion to 1 degree hig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2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Conversion to 2-degree hig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돋움"/>
                        </a:rPr>
                        <a:t>Lifetime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   76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  391.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  <a:ea typeface="돋움"/>
                        </a:rPr>
                        <a:t>$  578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6804000" y="2997360"/>
            <a:ext cx="432000" cy="2952720"/>
          </a:xfrm>
          <a:custGeom>
            <a:avLst/>
            <a:gdLst>
              <a:gd name="textAreaLeft" fmla="*/ 0 w 432000"/>
              <a:gd name="textAreaRight" fmla="*/ 155880 w 4320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7226280" y="3500280"/>
            <a:ext cx="192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fetime Value is more accurate parameter of return than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9:55:56Z</dcterms:created>
  <dc:creator>손유진</dc:creator>
  <dc:description/>
  <dc:language>en-US</dc:language>
  <cp:lastModifiedBy> </cp:lastModifiedBy>
  <dcterms:modified xsi:type="dcterms:W3CDTF">2005-05-02T01:57:49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441856</vt:r8>
  </property>
  <property fmtid="{D5CDD505-2E9C-101B-9397-08002B2CF9AE}" pid="3" name="_AuthorEmail">
    <vt:lpwstr>dpp215@stern.nyu.edu</vt:lpwstr>
  </property>
  <property fmtid="{D5CDD505-2E9C-101B-9397-08002B2CF9AE}" pid="4" name="_AuthorEmailDisplayName">
    <vt:lpwstr>Dan Poehling</vt:lpwstr>
  </property>
  <property fmtid="{D5CDD505-2E9C-101B-9397-08002B2CF9AE}" pid="5" name="_EmailSubject">
    <vt:lpwstr>RE: RE: RE: RE: RE: Re: Decision Models</vt:lpwstr>
  </property>
  <property fmtid="{D5CDD505-2E9C-101B-9397-08002B2CF9AE}" pid="6" name="_ReviewingToolsShownOnce">
    <vt:lpwstr/>
  </property>
</Properties>
</file>