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6E37-BBA5-4B5D-8A03-5ED81ADAF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C820-4C5A-4F19-98BD-1257CE9E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279E-FDCD-4B43-9231-71E9D374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2BD8-98DB-4DEB-A795-4C9138B21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A7A9-15B6-4A24-A968-76E5C8656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9C6C-09E4-49D2-95CB-B2EF92AC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B5C2-9C83-49C8-BB0B-5545FB7F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4F0C-D4CD-44D8-8561-D6277F94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54F0-0B6D-4DF5-90B0-F6E1696C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2304-EAC7-4B4B-8FE8-580C4AAD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11DE-26A4-4DA5-A105-3D3D96F8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F849-EAFB-420F-836D-4ECB7E1D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34C8-7BE3-4772-9F48-F9E0F15E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E6DB-84BE-46F0-94D5-EABCBCD8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F300-0D50-43B6-99F2-844D21D9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37EC-26CF-4E05-8133-5A7ED4E91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733B-B5DD-4871-BB9A-CAAB3C2E7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9FFA-3141-4393-8D56-6423C4B7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A029-23C4-4D4E-8491-EDE27D41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918B-DF71-4ED1-AFA1-C8AF4768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8592-6706-4AEB-BE33-AE915F74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A3FE-821C-4EE2-AD0E-B64F814B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007F-2509-4372-ABBF-415915E4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67BF-670F-465A-A28E-9A1CC00C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en.wikipedia.org/wiki/Image:Restaurant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32448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27E8-28E4-4AAD-8904-2C3F4D8341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0" b="19989"/>
          <a:stretch/>
        </p:blipFill>
        <p:spPr>
          <a:xfrm>
            <a:off x="0" y="6248520"/>
            <a:ext cx="4086360" cy="5331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A typical restaurant in uptown Manhattan - 's hangou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81680" y="0"/>
            <a:ext cx="2362320" cy="159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53452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73DC-1316-432A-9DB2-D2B7C43BCF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en.wikipedia.org/wiki/Image:Restaurant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781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Manhattan Restaurant  Selection Optimization </a:t>
            </a:r>
            <a:r>
              <a:rPr b="1" i="1" lang="en-US" sz="2000" spc="-1" strike="noStrike">
                <a:solidFill>
                  <a:srgbClr val="330066"/>
                </a:solidFill>
                <a:latin typeface="Arial"/>
              </a:rPr>
              <a:t>(my, don’t we sound fancy…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952880" y="3047760"/>
            <a:ext cx="3516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cision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y 2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ris Ire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ichael McKe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ri Os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dd Re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Jelena Strelc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58104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A typical restaurant in uptown Manhattan - 's hangou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2259000"/>
            <a:ext cx="502920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32448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stacles: Loc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0773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location is not most important criterion, model should favor similar restaurants in proximate neighborh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rix of taxi cab fares used as a proxy for raw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 allows the model to return an ideal restaurant in SoHo, when Lower East Side is a weak p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772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32448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stacles: Solv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ously reordering the 300+ restaurants to get the maximum utility for the top ten restaurants took Solver an extremely long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RGE function was more effici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ooses the 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largest number in an array, with the “n” being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vorite Function” of Professor Jur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32448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 Dem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66680" y="1638360"/>
            <a:ext cx="647712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32448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mit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ll data not represen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 featured approximately 320 restaur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neighborhoods grouped by proximity (i.e. West 60s – 100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net links to full reviews could be added at a later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itional criteria could be inclu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 could indicate preference for romantic setting, kid-friendly atmosphere, great bathroom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tensions to Business Environ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ious applications of model to managerial decision-making if data set and interface is modifi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decision that requires ranked/rated preferences coupled with quantitative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ographic location se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ansion consider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ent location sele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rcing of talent (recruit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ndor/sales selection (i.e. technolog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810400"/>
            <a:ext cx="9144000" cy="112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1143000" y="152280"/>
          <a:ext cx="7086600" cy="558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52280"/>
                    <a:ext cx="7086600" cy="55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9880" y="1066320"/>
            <a:ext cx="4267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Questions?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32448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 Ov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ulating Our Sol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stac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el Dem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tensions to the Business Environ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32448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blem 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876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ousands of restaurants in Manhattan, over 25 different neighborhood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Manhattan Map 20K"/>
          <p:cNvPicPr/>
          <p:nvPr/>
        </p:nvPicPr>
        <p:blipFill>
          <a:blip r:embed="rId1"/>
          <a:stretch/>
        </p:blipFill>
        <p:spPr>
          <a:xfrm>
            <a:off x="5343480" y="0"/>
            <a:ext cx="38005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880" y="3962520"/>
            <a:ext cx="51055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urrent guides are inadequate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dexed by several criteria, but rarely cross-index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sider all factors to be equally important in decision mak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e cuisine or location at a time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895480"/>
            <a:ext cx="4876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cccc00"/>
                </a:solidFill>
                <a:latin typeface="Arial"/>
              </a:rPr>
              <a:t>“</a:t>
            </a:r>
            <a:r>
              <a:rPr b="0" i="1" lang="en-US" sz="2900" spc="-1" strike="noStrike">
                <a:solidFill>
                  <a:srgbClr val="cccc00"/>
                </a:solidFill>
                <a:latin typeface="Arial"/>
              </a:rPr>
              <a:t>Where the hell do we eat tonight?”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32448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ulating Our Solu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1600200"/>
            <a:ext cx="86104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164520" indent="-16452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2280" indent="-16668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Manhattan restaura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73760" indent="-140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y recent ratings dat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473760" indent="-140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st da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473760" indent="-140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32280" indent="-16668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2280" indent="-16668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ximize utility of dining ou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 an ongoing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2280" indent="-16668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32448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ulating Our Solu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600200"/>
            <a:ext cx="86104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ratings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7600" indent="-284760"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16 restaurants with Zagat scores (food, décor, service and cos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7600" indent="-284760"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Fields for cuisine type and Manhattan neighborho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3886200"/>
            <a:ext cx="8305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inputs page for user to rank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258480"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oose up to three cuisines and lo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258480"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your price r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258480"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ight each criterion based on personal import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32448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Model: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lution Methodolog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600200"/>
            <a:ext cx="83059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Principle: SOLVER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9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restaurant utility scores and use solver to maxim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Reorganize restaurant list until some sum of ten restaurants yields the highest overall u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9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 and cuisine pena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Penalties weighted based on the relative importance of each criterion, as indicated by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9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restaurant information with INDEX and VLOOKUP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32448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Model: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put P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086600" cy="4362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H="1">
            <a:off x="2895120" y="2666880"/>
            <a:ext cx="114300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24829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More than on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895480" y="4495680"/>
            <a:ext cx="1371600" cy="565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48769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More than one cuis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2895120" y="5409720"/>
            <a:ext cx="22860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56833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User defined price 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190760" y="2819520"/>
            <a:ext cx="53316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19720" y="2406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riteria weigh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190760" y="2819520"/>
            <a:ext cx="1066680" cy="1676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86400" y="2819520"/>
            <a:ext cx="15228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2819520"/>
            <a:ext cx="76320" cy="12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2819520"/>
            <a:ext cx="228600" cy="1904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534160" cy="30830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32448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Model: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put P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7391520" cy="4060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581280" y="1676520"/>
            <a:ext cx="36813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620120" cy="52164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32448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he Model: “Bang For Your Buck” Graph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1981080"/>
            <a:ext cx="2362320" cy="17528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FY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6400" y="2033640"/>
            <a:ext cx="685800" cy="1066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0111400">
            <a:off x="5181840" y="2276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s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01:55:01Z</dcterms:created>
  <dc:creator> </dc:creator>
  <dc:description/>
  <dc:language>en-US</dc:language>
  <cp:lastModifiedBy>Todd Rendle</cp:lastModifiedBy>
  <dcterms:modified xsi:type="dcterms:W3CDTF">2005-05-02T14:00:01Z</dcterms:modified>
  <cp:revision>79</cp:revision>
  <dc:subject/>
  <dc:title>Brand Planning</dc:title>
</cp:coreProperties>
</file>