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56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55.wmf" ContentType="image/x-wmf"/>
  <Override PartName="/ppt/media/image3.jpeg" ContentType="image/jpeg"/>
  <Override PartName="/ppt/media/image30.png" ContentType="image/png"/>
  <Override PartName="/ppt/media/image25.png" ContentType="image/png"/>
  <Override PartName="/ppt/media/image42.jpeg" ContentType="image/jpeg"/>
  <Override PartName="/ppt/media/image4.jpeg" ContentType="image/jpeg"/>
  <Override PartName="/ppt/media/image40.png" ContentType="image/png"/>
  <Override PartName="/ppt/media/image5.jpeg" ContentType="image/jpeg"/>
  <Override PartName="/ppt/media/image14.jpeg" ContentType="image/jpeg"/>
  <Override PartName="/ppt/media/image41.jpeg" ContentType="image/jpeg"/>
  <Override PartName="/ppt/media/image43.wmf" ContentType="image/x-wmf"/>
  <Override PartName="/ppt/media/image13.jpeg" ContentType="image/jpeg"/>
  <Override PartName="/ppt/media/image23.png" ContentType="image/png"/>
  <Override PartName="/ppt/media/image33.png" ContentType="image/png"/>
  <Override PartName="/ppt/media/image53.wmf" ContentType="image/x-wmf"/>
  <Override PartName="/ppt/media/image44.wmf" ContentType="image/x-wmf"/>
  <Override PartName="/ppt/media/image34.png" ContentType="image/png"/>
  <Override PartName="/ppt/media/image54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36.png" ContentType="image/png"/>
  <Override PartName="/ppt/media/image47.wmf" ContentType="image/x-wmf"/>
  <Override PartName="/ppt/media/image27.png" ContentType="image/png"/>
  <Override PartName="/ppt/media/image12.wmf" ContentType="image/x-wmf"/>
  <Override PartName="/ppt/media/image51.png" ContentType="image/png"/>
  <Override PartName="/ppt/media/image49.png" ContentType="image/png"/>
  <Override PartName="/ppt/media/image52.wmf" ContentType="image/x-wmf"/>
  <Override PartName="/ppt/media/image32.png" ContentType="image/png"/>
  <Override PartName="/ppt/media/image48.png" ContentType="image/png"/>
  <Override PartName="/ppt/media/image11.png" ContentType="image/png"/>
  <Override PartName="/ppt/media/image50.wmf" ContentType="image/x-wmf"/>
  <Override PartName="/ppt/media/image10.png" ContentType="image/pn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193-781A-40B7-B7C6-2FEFF056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B07-6FB5-47F0-B8D1-DE04339C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712-5B7D-4E13-ADDA-A2F47333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E719-4CB8-448D-A006-2C702138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FAED-CDBE-48B3-9A06-55E12938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84D-5899-414C-9DC1-70F54C8F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D73-CA91-4ECE-911A-84E198B1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916-6584-4CDC-A4EC-D53950A1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A2D-DB88-42E6-A94A-194B283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224-242A-4F8F-B2B4-BE01ECBD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7F2-ADE5-4652-A606-E4B006EB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4F5-DB26-4EE0-978A-8BFF072F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839960" y="2139840"/>
            <a:ext cx="5703840" cy="334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C9A7-2E03-4348-A44B-F39A84BC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jpeg"/><Relationship Id="rId30" Type="http://schemas.openxmlformats.org/officeDocument/2006/relationships/image" Target="../media/image42.jpeg"/><Relationship Id="rId31" Type="http://schemas.openxmlformats.org/officeDocument/2006/relationships/image" Target="../media/image43.wmf"/><Relationship Id="rId32" Type="http://schemas.openxmlformats.org/officeDocument/2006/relationships/image" Target="../media/image44.wmf"/><Relationship Id="rId33" Type="http://schemas.openxmlformats.org/officeDocument/2006/relationships/image" Target="../media/image45.wmf"/><Relationship Id="rId34" Type="http://schemas.openxmlformats.org/officeDocument/2006/relationships/image" Target="../media/image46.wmf"/><Relationship Id="rId35" Type="http://schemas.openxmlformats.org/officeDocument/2006/relationships/image" Target="../media/image47.wmf"/><Relationship Id="rId3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8.png"/><Relationship Id="rId3" Type="http://schemas.openxmlformats.org/officeDocument/2006/relationships/image" Target="../media/image42.jpeg"/><Relationship Id="rId4" Type="http://schemas.openxmlformats.org/officeDocument/2006/relationships/image" Target="../media/image3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33.png"/><Relationship Id="rId9" Type="http://schemas.openxmlformats.org/officeDocument/2006/relationships/image" Target="../media/image26.png"/><Relationship Id="rId10" Type="http://schemas.openxmlformats.org/officeDocument/2006/relationships/image" Target="../media/image37.png"/><Relationship Id="rId11" Type="http://schemas.openxmlformats.org/officeDocument/2006/relationships/image" Target="../media/image19.png"/><Relationship Id="rId12" Type="http://schemas.openxmlformats.org/officeDocument/2006/relationships/image" Target="../media/image13.jpeg"/><Relationship Id="rId13" Type="http://schemas.openxmlformats.org/officeDocument/2006/relationships/image" Target="../media/image20.png"/><Relationship Id="rId14" Type="http://schemas.openxmlformats.org/officeDocument/2006/relationships/image" Target="../media/image14.jpeg"/><Relationship Id="rId15" Type="http://schemas.openxmlformats.org/officeDocument/2006/relationships/image" Target="../media/image31.png"/><Relationship Id="rId16" Type="http://schemas.openxmlformats.org/officeDocument/2006/relationships/image" Target="../media/image21.png"/><Relationship Id="rId17" Type="http://schemas.openxmlformats.org/officeDocument/2006/relationships/image" Target="../media/image32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39.png"/><Relationship Id="rId21" Type="http://schemas.openxmlformats.org/officeDocument/2006/relationships/image" Target="../media/image27.png"/><Relationship Id="rId22" Type="http://schemas.openxmlformats.org/officeDocument/2006/relationships/image" Target="../media/image17.png"/><Relationship Id="rId23" Type="http://schemas.openxmlformats.org/officeDocument/2006/relationships/image" Target="../media/image35.png"/><Relationship Id="rId24" Type="http://schemas.openxmlformats.org/officeDocument/2006/relationships/image" Target="../media/image38.png"/><Relationship Id="rId25" Type="http://schemas.openxmlformats.org/officeDocument/2006/relationships/image" Target="../media/image36.png"/><Relationship Id="rId26" Type="http://schemas.openxmlformats.org/officeDocument/2006/relationships/image" Target="../media/image40.png"/><Relationship Id="rId27" Type="http://schemas.openxmlformats.org/officeDocument/2006/relationships/image" Target="../media/image34.png"/><Relationship Id="rId28" Type="http://schemas.openxmlformats.org/officeDocument/2006/relationships/image" Target="../media/image41.jpeg"/><Relationship Id="rId29" Type="http://schemas.openxmlformats.org/officeDocument/2006/relationships/image" Target="../media/image24.png"/><Relationship Id="rId30" Type="http://schemas.openxmlformats.org/officeDocument/2006/relationships/image" Target="../media/image29.png"/><Relationship Id="rId31" Type="http://schemas.openxmlformats.org/officeDocument/2006/relationships/image" Target="../media/image25.png"/><Relationship Id="rId3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42.jpeg"/><Relationship Id="rId7" Type="http://schemas.openxmlformats.org/officeDocument/2006/relationships/image" Target="../media/image30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8.png"/><Relationship Id="rId11" Type="http://schemas.openxmlformats.org/officeDocument/2006/relationships/image" Target="../media/image33.png"/><Relationship Id="rId12" Type="http://schemas.openxmlformats.org/officeDocument/2006/relationships/image" Target="../media/image26.png"/><Relationship Id="rId13" Type="http://schemas.openxmlformats.org/officeDocument/2006/relationships/image" Target="../media/image37.png"/><Relationship Id="rId14" Type="http://schemas.openxmlformats.org/officeDocument/2006/relationships/image" Target="../media/image19.png"/><Relationship Id="rId15" Type="http://schemas.openxmlformats.org/officeDocument/2006/relationships/image" Target="../media/image13.jpeg"/><Relationship Id="rId16" Type="http://schemas.openxmlformats.org/officeDocument/2006/relationships/image" Target="../media/image20.png"/><Relationship Id="rId17" Type="http://schemas.openxmlformats.org/officeDocument/2006/relationships/image" Target="../media/image14.jpeg"/><Relationship Id="rId18" Type="http://schemas.openxmlformats.org/officeDocument/2006/relationships/image" Target="../media/image31.png"/><Relationship Id="rId19" Type="http://schemas.openxmlformats.org/officeDocument/2006/relationships/image" Target="../media/image21.png"/><Relationship Id="rId20" Type="http://schemas.openxmlformats.org/officeDocument/2006/relationships/image" Target="../media/image32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39.png"/><Relationship Id="rId24" Type="http://schemas.openxmlformats.org/officeDocument/2006/relationships/image" Target="../media/image27.png"/><Relationship Id="rId25" Type="http://schemas.openxmlformats.org/officeDocument/2006/relationships/image" Target="../media/image17.png"/><Relationship Id="rId26" Type="http://schemas.openxmlformats.org/officeDocument/2006/relationships/image" Target="../media/image35.png"/><Relationship Id="rId27" Type="http://schemas.openxmlformats.org/officeDocument/2006/relationships/image" Target="../media/image38.png"/><Relationship Id="rId28" Type="http://schemas.openxmlformats.org/officeDocument/2006/relationships/image" Target="../media/image36.png"/><Relationship Id="rId29" Type="http://schemas.openxmlformats.org/officeDocument/2006/relationships/image" Target="../media/image28.png"/><Relationship Id="rId30" Type="http://schemas.openxmlformats.org/officeDocument/2006/relationships/image" Target="../media/image40.png"/><Relationship Id="rId31" Type="http://schemas.openxmlformats.org/officeDocument/2006/relationships/image" Target="../media/image34.png"/><Relationship Id="rId32" Type="http://schemas.openxmlformats.org/officeDocument/2006/relationships/image" Target="../media/image41.jpeg"/><Relationship Id="rId33" Type="http://schemas.openxmlformats.org/officeDocument/2006/relationships/image" Target="../media/image24.png"/><Relationship Id="rId34" Type="http://schemas.openxmlformats.org/officeDocument/2006/relationships/image" Target="../media/image29.png"/><Relationship Id="rId35" Type="http://schemas.openxmlformats.org/officeDocument/2006/relationships/image" Target="../media/image25.png"/><Relationship Id="rId36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8.png"/><Relationship Id="rId3" Type="http://schemas.openxmlformats.org/officeDocument/2006/relationships/image" Target="../media/image42.jpeg"/><Relationship Id="rId4" Type="http://schemas.openxmlformats.org/officeDocument/2006/relationships/image" Target="../media/image3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33.png"/><Relationship Id="rId9" Type="http://schemas.openxmlformats.org/officeDocument/2006/relationships/image" Target="../media/image26.png"/><Relationship Id="rId10" Type="http://schemas.openxmlformats.org/officeDocument/2006/relationships/image" Target="../media/image37.png"/><Relationship Id="rId11" Type="http://schemas.openxmlformats.org/officeDocument/2006/relationships/image" Target="../media/image19.png"/><Relationship Id="rId12" Type="http://schemas.openxmlformats.org/officeDocument/2006/relationships/image" Target="../media/image13.jpeg"/><Relationship Id="rId13" Type="http://schemas.openxmlformats.org/officeDocument/2006/relationships/image" Target="../media/image20.png"/><Relationship Id="rId14" Type="http://schemas.openxmlformats.org/officeDocument/2006/relationships/image" Target="../media/image14.jpeg"/><Relationship Id="rId15" Type="http://schemas.openxmlformats.org/officeDocument/2006/relationships/image" Target="../media/image31.png"/><Relationship Id="rId16" Type="http://schemas.openxmlformats.org/officeDocument/2006/relationships/image" Target="../media/image21.png"/><Relationship Id="rId17" Type="http://schemas.openxmlformats.org/officeDocument/2006/relationships/image" Target="../media/image32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39.png"/><Relationship Id="rId21" Type="http://schemas.openxmlformats.org/officeDocument/2006/relationships/image" Target="../media/image27.png"/><Relationship Id="rId22" Type="http://schemas.openxmlformats.org/officeDocument/2006/relationships/image" Target="../media/image17.png"/><Relationship Id="rId23" Type="http://schemas.openxmlformats.org/officeDocument/2006/relationships/image" Target="../media/image35.png"/><Relationship Id="rId24" Type="http://schemas.openxmlformats.org/officeDocument/2006/relationships/image" Target="../media/image38.png"/><Relationship Id="rId25" Type="http://schemas.openxmlformats.org/officeDocument/2006/relationships/image" Target="../media/image36.png"/><Relationship Id="rId26" Type="http://schemas.openxmlformats.org/officeDocument/2006/relationships/image" Target="../media/image34.png"/><Relationship Id="rId27" Type="http://schemas.openxmlformats.org/officeDocument/2006/relationships/image" Target="../media/image41.jpeg"/><Relationship Id="rId28" Type="http://schemas.openxmlformats.org/officeDocument/2006/relationships/image" Target="../media/image24.png"/><Relationship Id="rId29" Type="http://schemas.openxmlformats.org/officeDocument/2006/relationships/image" Target="../media/image29.png"/><Relationship Id="rId30" Type="http://schemas.openxmlformats.org/officeDocument/2006/relationships/image" Target="../media/image25.png"/><Relationship Id="rId31" Type="http://schemas.openxmlformats.org/officeDocument/2006/relationships/image" Target="../media/image2.jpe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Model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 Road Trip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anna Butkiewi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 Hy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ff Kater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el Micha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g Silver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819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split into five “geographical”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r optimized the grouping of the teams in order to minimize the total mile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5181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s were divided up in the following 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81480" y="5181480"/>
            <a:ext cx="384120" cy="301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2743200"/>
            <a:ext cx="306360" cy="352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743200" y="2743200"/>
            <a:ext cx="345960" cy="318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429000" y="297180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391520" y="54100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77320" y="5638680"/>
            <a:ext cx="322200" cy="319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362320" y="6095880"/>
            <a:ext cx="245880" cy="320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1752480" y="5867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4495680" y="5410080"/>
            <a:ext cx="266760" cy="320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1676520" y="495288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4495680" y="58672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2"/>
          <a:stretch/>
        </p:blipFill>
        <p:spPr>
          <a:xfrm>
            <a:off x="5181480" y="5638680"/>
            <a:ext cx="322560" cy="319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3429000" y="3886200"/>
            <a:ext cx="325440" cy="320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4"/>
          <a:stretch/>
        </p:blipFill>
        <p:spPr>
          <a:xfrm>
            <a:off x="2362320" y="5638680"/>
            <a:ext cx="226800" cy="32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5"/>
          <a:stretch/>
        </p:blipFill>
        <p:spPr>
          <a:xfrm>
            <a:off x="3429000" y="3429000"/>
            <a:ext cx="287280" cy="31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6"/>
          <a:stretch/>
        </p:blipFill>
        <p:spPr>
          <a:xfrm>
            <a:off x="7391520" y="4952880"/>
            <a:ext cx="271440" cy="319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7"/>
          <a:stretch/>
        </p:blipFill>
        <p:spPr>
          <a:xfrm>
            <a:off x="2286000" y="5181480"/>
            <a:ext cx="388800" cy="319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8"/>
          <a:stretch/>
        </p:blipFill>
        <p:spPr>
          <a:xfrm>
            <a:off x="6172200" y="3200400"/>
            <a:ext cx="609480" cy="24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9"/>
          <a:stretch/>
        </p:blipFill>
        <p:spPr>
          <a:xfrm>
            <a:off x="5181480" y="6095880"/>
            <a:ext cx="395280" cy="320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0"/>
          <a:stretch/>
        </p:blipFill>
        <p:spPr>
          <a:xfrm>
            <a:off x="7391520" y="5867280"/>
            <a:ext cx="317520" cy="320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1752480" y="541008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2"/>
          <a:stretch/>
        </p:blipFill>
        <p:spPr>
          <a:xfrm>
            <a:off x="7086600" y="3886200"/>
            <a:ext cx="320760" cy="32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3"/>
          <a:stretch/>
        </p:blipFill>
        <p:spPr>
          <a:xfrm>
            <a:off x="2819520" y="3657600"/>
            <a:ext cx="255600" cy="3189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4"/>
          <a:stretch/>
        </p:blipFill>
        <p:spPr>
          <a:xfrm>
            <a:off x="7924680" y="6095880"/>
            <a:ext cx="604800" cy="31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5"/>
          <a:stretch/>
        </p:blipFill>
        <p:spPr>
          <a:xfrm>
            <a:off x="7086600" y="3429000"/>
            <a:ext cx="266760" cy="320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6"/>
          <a:stretch/>
        </p:blipFill>
        <p:spPr>
          <a:xfrm>
            <a:off x="6400800" y="3657600"/>
            <a:ext cx="330120" cy="31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7"/>
          <a:stretch/>
        </p:blipFill>
        <p:spPr>
          <a:xfrm>
            <a:off x="2819520" y="3200400"/>
            <a:ext cx="320400" cy="320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8"/>
          <a:stretch/>
        </p:blipFill>
        <p:spPr>
          <a:xfrm>
            <a:off x="7924680" y="5181480"/>
            <a:ext cx="596880" cy="31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9"/>
          <a:stretch/>
        </p:blipFill>
        <p:spPr>
          <a:xfrm>
            <a:off x="7010280" y="2971800"/>
            <a:ext cx="387360" cy="28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0"/>
          <a:stretch/>
        </p:blipFill>
        <p:spPr>
          <a:xfrm>
            <a:off x="4419720" y="4952880"/>
            <a:ext cx="533160" cy="409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1"/>
          <a:stretch/>
        </p:blipFill>
        <p:spPr>
          <a:xfrm>
            <a:off x="1828800" y="25146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2"/>
          <a:stretch/>
        </p:blipFill>
        <p:spPr>
          <a:xfrm>
            <a:off x="5486400" y="25146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3"/>
          <a:stretch/>
        </p:blipFill>
        <p:spPr>
          <a:xfrm>
            <a:off x="685800" y="472428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4"/>
          <a:stretch/>
        </p:blipFill>
        <p:spPr>
          <a:xfrm>
            <a:off x="3581280" y="472428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5"/>
          <a:stretch/>
        </p:blipFill>
        <p:spPr>
          <a:xfrm>
            <a:off x="6400800" y="472428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1295280"/>
            <a:ext cx="7848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eparate sheets for each cluster to minimize mileage within each clu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19112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609480" y="1295280"/>
            <a:ext cx="8153640" cy="5145120"/>
            <a:chOff x="609480" y="1295280"/>
            <a:chExt cx="8153640" cy="514512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609480" y="2209680"/>
              <a:ext cx="784872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62120" y="1295280"/>
              <a:ext cx="800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sed solver to minimize mileage traveled within each clus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d all five clusters and obtained a total mileage of 15,3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tour schedule wa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343400" y="5867280"/>
            <a:ext cx="1219320" cy="6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950" y="3812"/>
                </a:moveTo>
                <a:lnTo>
                  <a:pt x="60891" y="3812"/>
                </a:lnTo>
                <a:lnTo>
                  <a:pt x="60891" y="-20329"/>
                </a:lnTo>
                <a:lnTo>
                  <a:pt x="59400" y="-4447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-Star 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5200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58000" y="990720"/>
            <a:ext cx="6094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8916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057400" y="4495680"/>
            <a:ext cx="533520" cy="40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019920" y="4572000"/>
            <a:ext cx="838080" cy="330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7391520" y="3429000"/>
            <a:ext cx="457200" cy="422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83059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1295280" y="4346640"/>
            <a:ext cx="381240" cy="377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556272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5924520" y="3200400"/>
            <a:ext cx="324000" cy="457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6324480" y="3733920"/>
            <a:ext cx="444600" cy="533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6888240" y="2819520"/>
            <a:ext cx="350640" cy="457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3048120" y="3505320"/>
            <a:ext cx="533160" cy="419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6324480" y="28195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6858000" y="6019920"/>
            <a:ext cx="39672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4572000" y="5334120"/>
            <a:ext cx="457200" cy="371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4572000" y="3733920"/>
            <a:ext cx="380880" cy="457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993600" y="4267080"/>
            <a:ext cx="378000" cy="381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5562720" y="2666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4876920" y="2514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800100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7543800" y="2971800"/>
            <a:ext cx="41112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2"/>
          <a:stretch/>
        </p:blipFill>
        <p:spPr>
          <a:xfrm>
            <a:off x="914400" y="3809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3"/>
          <a:stretch/>
        </p:blipFill>
        <p:spPr>
          <a:xfrm>
            <a:off x="7772400" y="3429000"/>
            <a:ext cx="36504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4"/>
          <a:stretch/>
        </p:blipFill>
        <p:spPr>
          <a:xfrm>
            <a:off x="7010280" y="32767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5"/>
          <a:stretch/>
        </p:blipFill>
        <p:spPr>
          <a:xfrm>
            <a:off x="1295280" y="4724280"/>
            <a:ext cx="533520" cy="28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6"/>
          <a:stretch/>
        </p:blipFill>
        <p:spPr>
          <a:xfrm>
            <a:off x="304920" y="3733920"/>
            <a:ext cx="609480" cy="326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7"/>
          <a:stretch/>
        </p:blipFill>
        <p:spPr>
          <a:xfrm>
            <a:off x="510552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8"/>
          <a:stretch/>
        </p:blipFill>
        <p:spPr>
          <a:xfrm>
            <a:off x="6400800" y="5638680"/>
            <a:ext cx="533520" cy="387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9"/>
          <a:stretch/>
        </p:blipFill>
        <p:spPr>
          <a:xfrm>
            <a:off x="4267080" y="4724280"/>
            <a:ext cx="457200" cy="4543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0"/>
          <a:stretch/>
        </p:blipFill>
        <p:spPr>
          <a:xfrm>
            <a:off x="6934320" y="2209680"/>
            <a:ext cx="457200" cy="376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1"/>
          <a:stretch/>
        </p:blipFill>
        <p:spPr>
          <a:xfrm>
            <a:off x="7315200" y="3809880"/>
            <a:ext cx="380880" cy="374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486400" y="3808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Y COU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9907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0" y="990720"/>
            <a:ext cx="6094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990720"/>
            <a:ext cx="6094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990720"/>
            <a:ext cx="6094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990720"/>
            <a:ext cx="6094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990720"/>
            <a:ext cx="838080" cy="70344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1040" y="2249640"/>
            <a:ext cx="7896240" cy="4151160"/>
          </a:xfrm>
          <a:custGeom>
            <a:avLst/>
            <a:gdLst/>
            <a:ahLst/>
            <a:rect l="l" t="t" r="r" b="b"/>
            <a:pathLst>
              <a:path w="4974" h="2615">
                <a:moveTo>
                  <a:pt x="4772" y="686"/>
                </a:moveTo>
                <a:cubicBezTo>
                  <a:pt x="4717" y="704"/>
                  <a:pt x="4699" y="757"/>
                  <a:pt x="4653" y="786"/>
                </a:cubicBezTo>
                <a:cubicBezTo>
                  <a:pt x="4622" y="834"/>
                  <a:pt x="4601" y="864"/>
                  <a:pt x="4553" y="896"/>
                </a:cubicBezTo>
                <a:cubicBezTo>
                  <a:pt x="4530" y="932"/>
                  <a:pt x="4503" y="941"/>
                  <a:pt x="4471" y="969"/>
                </a:cubicBezTo>
                <a:cubicBezTo>
                  <a:pt x="4430" y="1006"/>
                  <a:pt x="4398" y="1049"/>
                  <a:pt x="4352" y="1079"/>
                </a:cubicBezTo>
                <a:cubicBezTo>
                  <a:pt x="4360" y="1006"/>
                  <a:pt x="4362" y="947"/>
                  <a:pt x="4416" y="896"/>
                </a:cubicBezTo>
                <a:cubicBezTo>
                  <a:pt x="4433" y="845"/>
                  <a:pt x="4476" y="821"/>
                  <a:pt x="4525" y="805"/>
                </a:cubicBezTo>
                <a:cubicBezTo>
                  <a:pt x="4562" y="768"/>
                  <a:pt x="4591" y="724"/>
                  <a:pt x="4635" y="695"/>
                </a:cubicBezTo>
                <a:cubicBezTo>
                  <a:pt x="4642" y="674"/>
                  <a:pt x="4662" y="635"/>
                  <a:pt x="4681" y="622"/>
                </a:cubicBezTo>
                <a:cubicBezTo>
                  <a:pt x="4705" y="606"/>
                  <a:pt x="4737" y="607"/>
                  <a:pt x="4763" y="594"/>
                </a:cubicBezTo>
                <a:cubicBezTo>
                  <a:pt x="4807" y="572"/>
                  <a:pt x="4854" y="547"/>
                  <a:pt x="4900" y="530"/>
                </a:cubicBezTo>
                <a:cubicBezTo>
                  <a:pt x="4974" y="460"/>
                  <a:pt x="4862" y="440"/>
                  <a:pt x="4809" y="430"/>
                </a:cubicBezTo>
                <a:cubicBezTo>
                  <a:pt x="4731" y="435"/>
                  <a:pt x="4684" y="435"/>
                  <a:pt x="4617" y="457"/>
                </a:cubicBezTo>
                <a:cubicBezTo>
                  <a:pt x="4579" y="497"/>
                  <a:pt x="4543" y="540"/>
                  <a:pt x="4489" y="558"/>
                </a:cubicBezTo>
                <a:cubicBezTo>
                  <a:pt x="4442" y="621"/>
                  <a:pt x="4379" y="680"/>
                  <a:pt x="4343" y="750"/>
                </a:cubicBezTo>
                <a:cubicBezTo>
                  <a:pt x="4334" y="769"/>
                  <a:pt x="4302" y="832"/>
                  <a:pt x="4288" y="860"/>
                </a:cubicBezTo>
                <a:cubicBezTo>
                  <a:pt x="4282" y="872"/>
                  <a:pt x="4269" y="896"/>
                  <a:pt x="4269" y="896"/>
                </a:cubicBezTo>
                <a:cubicBezTo>
                  <a:pt x="4243" y="1004"/>
                  <a:pt x="4285" y="847"/>
                  <a:pt x="4233" y="978"/>
                </a:cubicBezTo>
                <a:cubicBezTo>
                  <a:pt x="4227" y="993"/>
                  <a:pt x="4229" y="1009"/>
                  <a:pt x="4224" y="1024"/>
                </a:cubicBezTo>
                <a:cubicBezTo>
                  <a:pt x="4220" y="1037"/>
                  <a:pt x="4211" y="1048"/>
                  <a:pt x="4205" y="1061"/>
                </a:cubicBezTo>
                <a:cubicBezTo>
                  <a:pt x="4184" y="1109"/>
                  <a:pt x="4183" y="1159"/>
                  <a:pt x="4160" y="1207"/>
                </a:cubicBezTo>
                <a:cubicBezTo>
                  <a:pt x="4157" y="1222"/>
                  <a:pt x="4157" y="1238"/>
                  <a:pt x="4151" y="1253"/>
                </a:cubicBezTo>
                <a:cubicBezTo>
                  <a:pt x="4147" y="1263"/>
                  <a:pt x="4135" y="1269"/>
                  <a:pt x="4132" y="1280"/>
                </a:cubicBezTo>
                <a:cubicBezTo>
                  <a:pt x="4123" y="1310"/>
                  <a:pt x="4124" y="1342"/>
                  <a:pt x="4114" y="1372"/>
                </a:cubicBezTo>
                <a:cubicBezTo>
                  <a:pt x="4089" y="1448"/>
                  <a:pt x="4069" y="1522"/>
                  <a:pt x="4050" y="1600"/>
                </a:cubicBezTo>
                <a:cubicBezTo>
                  <a:pt x="4045" y="1620"/>
                  <a:pt x="4029" y="1635"/>
                  <a:pt x="4023" y="1655"/>
                </a:cubicBezTo>
                <a:cubicBezTo>
                  <a:pt x="4006" y="1711"/>
                  <a:pt x="3991" y="1787"/>
                  <a:pt x="3949" y="1829"/>
                </a:cubicBezTo>
                <a:cubicBezTo>
                  <a:pt x="3940" y="1866"/>
                  <a:pt x="3927" y="1894"/>
                  <a:pt x="3913" y="1929"/>
                </a:cubicBezTo>
                <a:cubicBezTo>
                  <a:pt x="3885" y="1999"/>
                  <a:pt x="3912" y="1968"/>
                  <a:pt x="3876" y="2002"/>
                </a:cubicBezTo>
                <a:cubicBezTo>
                  <a:pt x="3863" y="2041"/>
                  <a:pt x="3844" y="2072"/>
                  <a:pt x="3831" y="2112"/>
                </a:cubicBezTo>
                <a:cubicBezTo>
                  <a:pt x="3828" y="2121"/>
                  <a:pt x="3821" y="2140"/>
                  <a:pt x="3821" y="2140"/>
                </a:cubicBezTo>
                <a:cubicBezTo>
                  <a:pt x="3824" y="2161"/>
                  <a:pt x="3823" y="2184"/>
                  <a:pt x="3831" y="2204"/>
                </a:cubicBezTo>
                <a:cubicBezTo>
                  <a:pt x="3836" y="2216"/>
                  <a:pt x="3850" y="2221"/>
                  <a:pt x="3858" y="2231"/>
                </a:cubicBezTo>
                <a:cubicBezTo>
                  <a:pt x="3906" y="2289"/>
                  <a:pt x="3959" y="2332"/>
                  <a:pt x="4013" y="2386"/>
                </a:cubicBezTo>
                <a:cubicBezTo>
                  <a:pt x="4042" y="2415"/>
                  <a:pt x="4076" y="2430"/>
                  <a:pt x="4105" y="2460"/>
                </a:cubicBezTo>
                <a:cubicBezTo>
                  <a:pt x="4102" y="2481"/>
                  <a:pt x="4104" y="2504"/>
                  <a:pt x="4096" y="2524"/>
                </a:cubicBezTo>
                <a:cubicBezTo>
                  <a:pt x="4072" y="2585"/>
                  <a:pt x="4034" y="2601"/>
                  <a:pt x="3977" y="2615"/>
                </a:cubicBezTo>
                <a:cubicBezTo>
                  <a:pt x="3937" y="2612"/>
                  <a:pt x="3897" y="2612"/>
                  <a:pt x="3858" y="2606"/>
                </a:cubicBezTo>
                <a:cubicBezTo>
                  <a:pt x="3839" y="2603"/>
                  <a:pt x="3803" y="2588"/>
                  <a:pt x="3803" y="2588"/>
                </a:cubicBezTo>
                <a:cubicBezTo>
                  <a:pt x="3789" y="2574"/>
                  <a:pt x="3770" y="2566"/>
                  <a:pt x="3757" y="2551"/>
                </a:cubicBezTo>
                <a:cubicBezTo>
                  <a:pt x="3741" y="2532"/>
                  <a:pt x="3735" y="2507"/>
                  <a:pt x="3721" y="2487"/>
                </a:cubicBezTo>
                <a:cubicBezTo>
                  <a:pt x="3709" y="2438"/>
                  <a:pt x="3685" y="2402"/>
                  <a:pt x="3675" y="2350"/>
                </a:cubicBezTo>
                <a:cubicBezTo>
                  <a:pt x="3680" y="2014"/>
                  <a:pt x="3667" y="1719"/>
                  <a:pt x="3730" y="1399"/>
                </a:cubicBezTo>
                <a:cubicBezTo>
                  <a:pt x="3727" y="1350"/>
                  <a:pt x="3726" y="1302"/>
                  <a:pt x="3721" y="1253"/>
                </a:cubicBezTo>
                <a:cubicBezTo>
                  <a:pt x="3709" y="1130"/>
                  <a:pt x="3572" y="1132"/>
                  <a:pt x="3474" y="1116"/>
                </a:cubicBezTo>
                <a:cubicBezTo>
                  <a:pt x="3362" y="1074"/>
                  <a:pt x="3246" y="1076"/>
                  <a:pt x="3127" y="1070"/>
                </a:cubicBezTo>
                <a:cubicBezTo>
                  <a:pt x="3116" y="1067"/>
                  <a:pt x="3083" y="1061"/>
                  <a:pt x="3081" y="1042"/>
                </a:cubicBezTo>
                <a:cubicBezTo>
                  <a:pt x="3073" y="973"/>
                  <a:pt x="3128" y="895"/>
                  <a:pt x="3163" y="841"/>
                </a:cubicBezTo>
                <a:cubicBezTo>
                  <a:pt x="3169" y="832"/>
                  <a:pt x="3177" y="824"/>
                  <a:pt x="3181" y="814"/>
                </a:cubicBezTo>
                <a:cubicBezTo>
                  <a:pt x="3184" y="805"/>
                  <a:pt x="3183" y="792"/>
                  <a:pt x="3191" y="786"/>
                </a:cubicBezTo>
                <a:cubicBezTo>
                  <a:pt x="3234" y="755"/>
                  <a:pt x="3316" y="753"/>
                  <a:pt x="3364" y="741"/>
                </a:cubicBezTo>
                <a:cubicBezTo>
                  <a:pt x="3470" y="775"/>
                  <a:pt x="3501" y="708"/>
                  <a:pt x="3556" y="640"/>
                </a:cubicBezTo>
                <a:cubicBezTo>
                  <a:pt x="3597" y="590"/>
                  <a:pt x="3657" y="548"/>
                  <a:pt x="3693" y="494"/>
                </a:cubicBezTo>
                <a:cubicBezTo>
                  <a:pt x="3712" y="465"/>
                  <a:pt x="3733" y="418"/>
                  <a:pt x="3757" y="393"/>
                </a:cubicBezTo>
                <a:cubicBezTo>
                  <a:pt x="3776" y="342"/>
                  <a:pt x="3798" y="315"/>
                  <a:pt x="3840" y="284"/>
                </a:cubicBezTo>
                <a:cubicBezTo>
                  <a:pt x="3861" y="252"/>
                  <a:pt x="3881" y="232"/>
                  <a:pt x="3913" y="210"/>
                </a:cubicBezTo>
                <a:cubicBezTo>
                  <a:pt x="3946" y="160"/>
                  <a:pt x="3921" y="188"/>
                  <a:pt x="4004" y="146"/>
                </a:cubicBezTo>
                <a:cubicBezTo>
                  <a:pt x="4021" y="137"/>
                  <a:pt x="4041" y="134"/>
                  <a:pt x="4059" y="128"/>
                </a:cubicBezTo>
                <a:cubicBezTo>
                  <a:pt x="4068" y="125"/>
                  <a:pt x="4087" y="119"/>
                  <a:pt x="4087" y="119"/>
                </a:cubicBezTo>
                <a:cubicBezTo>
                  <a:pt x="4130" y="91"/>
                  <a:pt x="4138" y="101"/>
                  <a:pt x="4178" y="128"/>
                </a:cubicBezTo>
                <a:cubicBezTo>
                  <a:pt x="4185" y="156"/>
                  <a:pt x="4204" y="181"/>
                  <a:pt x="4205" y="210"/>
                </a:cubicBezTo>
                <a:cubicBezTo>
                  <a:pt x="4208" y="280"/>
                  <a:pt x="4206" y="398"/>
                  <a:pt x="4160" y="466"/>
                </a:cubicBezTo>
                <a:cubicBezTo>
                  <a:pt x="4155" y="473"/>
                  <a:pt x="4146" y="478"/>
                  <a:pt x="4141" y="485"/>
                </a:cubicBezTo>
                <a:cubicBezTo>
                  <a:pt x="4128" y="503"/>
                  <a:pt x="4117" y="522"/>
                  <a:pt x="4105" y="540"/>
                </a:cubicBezTo>
                <a:cubicBezTo>
                  <a:pt x="4071" y="592"/>
                  <a:pt x="4088" y="619"/>
                  <a:pt x="4041" y="668"/>
                </a:cubicBezTo>
                <a:cubicBezTo>
                  <a:pt x="3982" y="664"/>
                  <a:pt x="3888" y="662"/>
                  <a:pt x="3821" y="649"/>
                </a:cubicBezTo>
                <a:cubicBezTo>
                  <a:pt x="3796" y="644"/>
                  <a:pt x="3748" y="631"/>
                  <a:pt x="3748" y="631"/>
                </a:cubicBezTo>
                <a:cubicBezTo>
                  <a:pt x="3708" y="604"/>
                  <a:pt x="3666" y="582"/>
                  <a:pt x="3620" y="567"/>
                </a:cubicBezTo>
                <a:cubicBezTo>
                  <a:pt x="3534" y="510"/>
                  <a:pt x="3424" y="508"/>
                  <a:pt x="3328" y="476"/>
                </a:cubicBezTo>
                <a:cubicBezTo>
                  <a:pt x="3314" y="462"/>
                  <a:pt x="3294" y="454"/>
                  <a:pt x="3282" y="439"/>
                </a:cubicBezTo>
                <a:cubicBezTo>
                  <a:pt x="3276" y="432"/>
                  <a:pt x="3278" y="420"/>
                  <a:pt x="3273" y="412"/>
                </a:cubicBezTo>
                <a:cubicBezTo>
                  <a:pt x="3253" y="383"/>
                  <a:pt x="3223" y="368"/>
                  <a:pt x="3191" y="357"/>
                </a:cubicBezTo>
                <a:cubicBezTo>
                  <a:pt x="3142" y="308"/>
                  <a:pt x="3032" y="316"/>
                  <a:pt x="2971" y="311"/>
                </a:cubicBezTo>
                <a:cubicBezTo>
                  <a:pt x="2894" y="285"/>
                  <a:pt x="2877" y="274"/>
                  <a:pt x="2834" y="338"/>
                </a:cubicBezTo>
                <a:cubicBezTo>
                  <a:pt x="2831" y="347"/>
                  <a:pt x="2829" y="357"/>
                  <a:pt x="2825" y="366"/>
                </a:cubicBezTo>
                <a:cubicBezTo>
                  <a:pt x="2820" y="376"/>
                  <a:pt x="2811" y="383"/>
                  <a:pt x="2807" y="393"/>
                </a:cubicBezTo>
                <a:cubicBezTo>
                  <a:pt x="2791" y="435"/>
                  <a:pt x="2779" y="495"/>
                  <a:pt x="2770" y="540"/>
                </a:cubicBezTo>
                <a:cubicBezTo>
                  <a:pt x="2767" y="790"/>
                  <a:pt x="2766" y="1039"/>
                  <a:pt x="2761" y="1289"/>
                </a:cubicBezTo>
                <a:cubicBezTo>
                  <a:pt x="2759" y="1394"/>
                  <a:pt x="2729" y="1497"/>
                  <a:pt x="2715" y="1600"/>
                </a:cubicBezTo>
                <a:cubicBezTo>
                  <a:pt x="2691" y="1786"/>
                  <a:pt x="2664" y="1971"/>
                  <a:pt x="2651" y="2158"/>
                </a:cubicBezTo>
                <a:cubicBezTo>
                  <a:pt x="2639" y="2155"/>
                  <a:pt x="2624" y="2158"/>
                  <a:pt x="2615" y="2149"/>
                </a:cubicBezTo>
                <a:cubicBezTo>
                  <a:pt x="2606" y="2140"/>
                  <a:pt x="2609" y="2124"/>
                  <a:pt x="2605" y="2112"/>
                </a:cubicBezTo>
                <a:cubicBezTo>
                  <a:pt x="2589" y="2065"/>
                  <a:pt x="2592" y="2074"/>
                  <a:pt x="2569" y="2039"/>
                </a:cubicBezTo>
                <a:cubicBezTo>
                  <a:pt x="2550" y="1962"/>
                  <a:pt x="2522" y="1888"/>
                  <a:pt x="2505" y="1810"/>
                </a:cubicBezTo>
                <a:cubicBezTo>
                  <a:pt x="2503" y="1800"/>
                  <a:pt x="2490" y="1748"/>
                  <a:pt x="2487" y="1746"/>
                </a:cubicBezTo>
                <a:cubicBezTo>
                  <a:pt x="2462" y="1731"/>
                  <a:pt x="2404" y="1719"/>
                  <a:pt x="2404" y="1719"/>
                </a:cubicBezTo>
                <a:cubicBezTo>
                  <a:pt x="2342" y="1677"/>
                  <a:pt x="2257" y="1681"/>
                  <a:pt x="2185" y="1673"/>
                </a:cubicBezTo>
                <a:cubicBezTo>
                  <a:pt x="2125" y="1654"/>
                  <a:pt x="2144" y="1657"/>
                  <a:pt x="2039" y="1655"/>
                </a:cubicBezTo>
                <a:cubicBezTo>
                  <a:pt x="1822" y="1650"/>
                  <a:pt x="1606" y="1649"/>
                  <a:pt x="1389" y="1646"/>
                </a:cubicBezTo>
                <a:cubicBezTo>
                  <a:pt x="1314" y="1631"/>
                  <a:pt x="1233" y="1624"/>
                  <a:pt x="1161" y="1600"/>
                </a:cubicBezTo>
                <a:cubicBezTo>
                  <a:pt x="1155" y="1585"/>
                  <a:pt x="1145" y="1570"/>
                  <a:pt x="1143" y="1554"/>
                </a:cubicBezTo>
                <a:cubicBezTo>
                  <a:pt x="1139" y="1519"/>
                  <a:pt x="1185" y="1443"/>
                  <a:pt x="1207" y="1417"/>
                </a:cubicBezTo>
                <a:cubicBezTo>
                  <a:pt x="1235" y="1384"/>
                  <a:pt x="1257" y="1336"/>
                  <a:pt x="1289" y="1308"/>
                </a:cubicBezTo>
                <a:cubicBezTo>
                  <a:pt x="1306" y="1293"/>
                  <a:pt x="1326" y="1283"/>
                  <a:pt x="1344" y="1271"/>
                </a:cubicBezTo>
                <a:cubicBezTo>
                  <a:pt x="1362" y="1259"/>
                  <a:pt x="1374" y="1240"/>
                  <a:pt x="1389" y="1225"/>
                </a:cubicBezTo>
                <a:cubicBezTo>
                  <a:pt x="1429" y="1185"/>
                  <a:pt x="1468" y="1146"/>
                  <a:pt x="1508" y="1106"/>
                </a:cubicBezTo>
                <a:cubicBezTo>
                  <a:pt x="1528" y="1086"/>
                  <a:pt x="1552" y="1072"/>
                  <a:pt x="1572" y="1052"/>
                </a:cubicBezTo>
                <a:cubicBezTo>
                  <a:pt x="1614" y="1010"/>
                  <a:pt x="1584" y="1022"/>
                  <a:pt x="1627" y="988"/>
                </a:cubicBezTo>
                <a:cubicBezTo>
                  <a:pt x="1644" y="974"/>
                  <a:pt x="1682" y="951"/>
                  <a:pt x="1682" y="951"/>
                </a:cubicBezTo>
                <a:cubicBezTo>
                  <a:pt x="1840" y="961"/>
                  <a:pt x="1993" y="984"/>
                  <a:pt x="2148" y="1015"/>
                </a:cubicBezTo>
                <a:cubicBezTo>
                  <a:pt x="2195" y="1024"/>
                  <a:pt x="2239" y="1049"/>
                  <a:pt x="2285" y="1061"/>
                </a:cubicBezTo>
                <a:cubicBezTo>
                  <a:pt x="2378" y="1085"/>
                  <a:pt x="2484" y="1091"/>
                  <a:pt x="2578" y="1097"/>
                </a:cubicBezTo>
                <a:cubicBezTo>
                  <a:pt x="2535" y="1142"/>
                  <a:pt x="2454" y="1162"/>
                  <a:pt x="2395" y="1180"/>
                </a:cubicBezTo>
                <a:cubicBezTo>
                  <a:pt x="2284" y="1213"/>
                  <a:pt x="2176" y="1252"/>
                  <a:pt x="2066" y="1289"/>
                </a:cubicBezTo>
                <a:cubicBezTo>
                  <a:pt x="2046" y="1303"/>
                  <a:pt x="2031" y="1322"/>
                  <a:pt x="2011" y="1335"/>
                </a:cubicBezTo>
                <a:cubicBezTo>
                  <a:pt x="2003" y="1340"/>
                  <a:pt x="1992" y="1339"/>
                  <a:pt x="1984" y="1344"/>
                </a:cubicBezTo>
                <a:cubicBezTo>
                  <a:pt x="1947" y="1365"/>
                  <a:pt x="1910" y="1393"/>
                  <a:pt x="1874" y="1417"/>
                </a:cubicBezTo>
                <a:cubicBezTo>
                  <a:pt x="1828" y="1448"/>
                  <a:pt x="1771" y="1464"/>
                  <a:pt x="1719" y="1481"/>
                </a:cubicBezTo>
                <a:cubicBezTo>
                  <a:pt x="1626" y="1544"/>
                  <a:pt x="1762" y="1456"/>
                  <a:pt x="1655" y="1509"/>
                </a:cubicBezTo>
                <a:cubicBezTo>
                  <a:pt x="1647" y="1513"/>
                  <a:pt x="1644" y="1523"/>
                  <a:pt x="1636" y="1527"/>
                </a:cubicBezTo>
                <a:cubicBezTo>
                  <a:pt x="1608" y="1541"/>
                  <a:pt x="1575" y="1544"/>
                  <a:pt x="1545" y="1554"/>
                </a:cubicBezTo>
                <a:cubicBezTo>
                  <a:pt x="1518" y="1563"/>
                  <a:pt x="1490" y="1573"/>
                  <a:pt x="1463" y="1582"/>
                </a:cubicBezTo>
                <a:cubicBezTo>
                  <a:pt x="1454" y="1585"/>
                  <a:pt x="1435" y="1591"/>
                  <a:pt x="1435" y="1591"/>
                </a:cubicBezTo>
                <a:cubicBezTo>
                  <a:pt x="1393" y="1619"/>
                  <a:pt x="1354" y="1631"/>
                  <a:pt x="1307" y="1646"/>
                </a:cubicBezTo>
                <a:cubicBezTo>
                  <a:pt x="1231" y="1634"/>
                  <a:pt x="1237" y="1630"/>
                  <a:pt x="1170" y="1600"/>
                </a:cubicBezTo>
                <a:cubicBezTo>
                  <a:pt x="1109" y="1573"/>
                  <a:pt x="1034" y="1556"/>
                  <a:pt x="969" y="1545"/>
                </a:cubicBezTo>
                <a:cubicBezTo>
                  <a:pt x="923" y="1515"/>
                  <a:pt x="858" y="1491"/>
                  <a:pt x="804" y="1481"/>
                </a:cubicBezTo>
                <a:cubicBezTo>
                  <a:pt x="701" y="1413"/>
                  <a:pt x="565" y="1414"/>
                  <a:pt x="448" y="1408"/>
                </a:cubicBezTo>
                <a:cubicBezTo>
                  <a:pt x="433" y="1405"/>
                  <a:pt x="391" y="1388"/>
                  <a:pt x="402" y="1399"/>
                </a:cubicBezTo>
                <a:cubicBezTo>
                  <a:pt x="416" y="1413"/>
                  <a:pt x="439" y="1411"/>
                  <a:pt x="457" y="1417"/>
                </a:cubicBezTo>
                <a:cubicBezTo>
                  <a:pt x="466" y="1420"/>
                  <a:pt x="484" y="1426"/>
                  <a:pt x="484" y="1426"/>
                </a:cubicBezTo>
                <a:cubicBezTo>
                  <a:pt x="490" y="1432"/>
                  <a:pt x="498" y="1438"/>
                  <a:pt x="503" y="1445"/>
                </a:cubicBezTo>
                <a:cubicBezTo>
                  <a:pt x="565" y="1528"/>
                  <a:pt x="539" y="1502"/>
                  <a:pt x="475" y="1481"/>
                </a:cubicBezTo>
                <a:cubicBezTo>
                  <a:pt x="436" y="1456"/>
                  <a:pt x="409" y="1428"/>
                  <a:pt x="365" y="1417"/>
                </a:cubicBezTo>
                <a:cubicBezTo>
                  <a:pt x="291" y="1343"/>
                  <a:pt x="389" y="1436"/>
                  <a:pt x="301" y="1372"/>
                </a:cubicBezTo>
                <a:cubicBezTo>
                  <a:pt x="240" y="1328"/>
                  <a:pt x="307" y="1355"/>
                  <a:pt x="247" y="1335"/>
                </a:cubicBezTo>
                <a:cubicBezTo>
                  <a:pt x="210" y="1308"/>
                  <a:pt x="136" y="1252"/>
                  <a:pt x="109" y="1225"/>
                </a:cubicBezTo>
                <a:cubicBezTo>
                  <a:pt x="82" y="1198"/>
                  <a:pt x="68" y="1172"/>
                  <a:pt x="36" y="1152"/>
                </a:cubicBezTo>
                <a:cubicBezTo>
                  <a:pt x="30" y="1137"/>
                  <a:pt x="24" y="1121"/>
                  <a:pt x="18" y="1106"/>
                </a:cubicBezTo>
                <a:cubicBezTo>
                  <a:pt x="12" y="1088"/>
                  <a:pt x="0" y="1052"/>
                  <a:pt x="0" y="1052"/>
                </a:cubicBezTo>
                <a:cubicBezTo>
                  <a:pt x="70" y="1037"/>
                  <a:pt x="122" y="1058"/>
                  <a:pt x="183" y="1088"/>
                </a:cubicBezTo>
                <a:cubicBezTo>
                  <a:pt x="211" y="1102"/>
                  <a:pt x="245" y="1105"/>
                  <a:pt x="274" y="1116"/>
                </a:cubicBezTo>
                <a:cubicBezTo>
                  <a:pt x="285" y="1148"/>
                  <a:pt x="295" y="1174"/>
                  <a:pt x="320" y="1198"/>
                </a:cubicBezTo>
                <a:cubicBezTo>
                  <a:pt x="331" y="1231"/>
                  <a:pt x="336" y="1259"/>
                  <a:pt x="356" y="1289"/>
                </a:cubicBezTo>
                <a:cubicBezTo>
                  <a:pt x="366" y="1321"/>
                  <a:pt x="369" y="1347"/>
                  <a:pt x="393" y="1372"/>
                </a:cubicBezTo>
                <a:cubicBezTo>
                  <a:pt x="412" y="1428"/>
                  <a:pt x="435" y="1507"/>
                  <a:pt x="466" y="1554"/>
                </a:cubicBezTo>
                <a:cubicBezTo>
                  <a:pt x="480" y="1596"/>
                  <a:pt x="496" y="1623"/>
                  <a:pt x="539" y="1637"/>
                </a:cubicBezTo>
                <a:cubicBezTo>
                  <a:pt x="635" y="1625"/>
                  <a:pt x="590" y="1642"/>
                  <a:pt x="667" y="1591"/>
                </a:cubicBezTo>
                <a:cubicBezTo>
                  <a:pt x="676" y="1585"/>
                  <a:pt x="695" y="1573"/>
                  <a:pt x="695" y="1573"/>
                </a:cubicBezTo>
                <a:cubicBezTo>
                  <a:pt x="721" y="1467"/>
                  <a:pt x="679" y="1356"/>
                  <a:pt x="631" y="1262"/>
                </a:cubicBezTo>
                <a:cubicBezTo>
                  <a:pt x="610" y="1222"/>
                  <a:pt x="590" y="1174"/>
                  <a:pt x="557" y="1143"/>
                </a:cubicBezTo>
                <a:cubicBezTo>
                  <a:pt x="533" y="1044"/>
                  <a:pt x="569" y="1164"/>
                  <a:pt x="521" y="1079"/>
                </a:cubicBezTo>
                <a:cubicBezTo>
                  <a:pt x="515" y="1068"/>
                  <a:pt x="517" y="1054"/>
                  <a:pt x="512" y="1042"/>
                </a:cubicBezTo>
                <a:cubicBezTo>
                  <a:pt x="483" y="976"/>
                  <a:pt x="434" y="922"/>
                  <a:pt x="420" y="850"/>
                </a:cubicBezTo>
                <a:cubicBezTo>
                  <a:pt x="396" y="729"/>
                  <a:pt x="385" y="606"/>
                  <a:pt x="365" y="485"/>
                </a:cubicBezTo>
                <a:cubicBezTo>
                  <a:pt x="354" y="415"/>
                  <a:pt x="341" y="334"/>
                  <a:pt x="301" y="274"/>
                </a:cubicBezTo>
                <a:cubicBezTo>
                  <a:pt x="290" y="240"/>
                  <a:pt x="272" y="214"/>
                  <a:pt x="256" y="183"/>
                </a:cubicBezTo>
                <a:cubicBezTo>
                  <a:pt x="252" y="175"/>
                  <a:pt x="252" y="164"/>
                  <a:pt x="247" y="156"/>
                </a:cubicBezTo>
                <a:cubicBezTo>
                  <a:pt x="214" y="102"/>
                  <a:pt x="155" y="70"/>
                  <a:pt x="155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800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600"/>
                            </p:stCondLst>
                            <p:childTnLst>
                              <p:par>
                                <p:cTn id="316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400"/>
                            </p:stCondLst>
                            <p:childTnLst>
                              <p:par>
                                <p:cTn id="321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200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800"/>
                            </p:stCondLst>
                            <p:childTnLst>
                              <p:par>
                                <p:cTn id="336" nodeType="after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6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4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82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9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8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6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22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46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6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4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62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78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6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94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2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18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26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 repeatCount="100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 Mileage from New York to Seattle – 15,374 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1455840" cy="3048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5480" y="3581280"/>
            <a:ext cx="1436760" cy="3048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952880" y="4191120"/>
            <a:ext cx="1462320" cy="1828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781680" y="3429000"/>
            <a:ext cx="2133720" cy="809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6781680" y="5591160"/>
            <a:ext cx="2133720" cy="809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7620120" y="4976640"/>
            <a:ext cx="761760" cy="5860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tretch/>
        </p:blipFill>
        <p:spPr>
          <a:xfrm>
            <a:off x="4343400" y="4419720"/>
            <a:ext cx="457200" cy="180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2514600" y="3886200"/>
            <a:ext cx="339840" cy="3128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9"/>
          <a:stretch/>
        </p:blipFill>
        <p:spPr>
          <a:xfrm>
            <a:off x="4572000" y="4648320"/>
            <a:ext cx="339840" cy="339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7010280" y="4343400"/>
            <a:ext cx="609840" cy="603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1"/>
          <a:stretch/>
        </p:blipFill>
        <p:spPr>
          <a:xfrm>
            <a:off x="2209680" y="403848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2"/>
          <a:stretch/>
        </p:blipFill>
        <p:spPr>
          <a:xfrm>
            <a:off x="380880" y="3809880"/>
            <a:ext cx="222480" cy="312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3"/>
          <a:stretch/>
        </p:blipFill>
        <p:spPr>
          <a:xfrm>
            <a:off x="4419720" y="4952880"/>
            <a:ext cx="260280" cy="3114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4"/>
          <a:stretch/>
        </p:blipFill>
        <p:spPr>
          <a:xfrm>
            <a:off x="76320" y="4114800"/>
            <a:ext cx="239760" cy="312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5"/>
          <a:stretch/>
        </p:blipFill>
        <p:spPr>
          <a:xfrm>
            <a:off x="304920" y="4343400"/>
            <a:ext cx="376200" cy="297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6"/>
          <a:stretch/>
        </p:blipFill>
        <p:spPr>
          <a:xfrm>
            <a:off x="4648320" y="5181480"/>
            <a:ext cx="312480" cy="312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7"/>
          <a:stretch/>
        </p:blipFill>
        <p:spPr>
          <a:xfrm>
            <a:off x="76320" y="4572000"/>
            <a:ext cx="298440" cy="343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8"/>
          <a:stretch/>
        </p:blipFill>
        <p:spPr>
          <a:xfrm>
            <a:off x="2509920" y="4343400"/>
            <a:ext cx="385560" cy="312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9"/>
          <a:stretch/>
        </p:blipFill>
        <p:spPr>
          <a:xfrm>
            <a:off x="425520" y="4800600"/>
            <a:ext cx="260280" cy="3110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0"/>
          <a:stretch/>
        </p:blipFill>
        <p:spPr>
          <a:xfrm>
            <a:off x="76320" y="5029200"/>
            <a:ext cx="309600" cy="312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1"/>
          <a:stretch/>
        </p:blipFill>
        <p:spPr>
          <a:xfrm>
            <a:off x="4343400" y="541008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2"/>
          <a:stretch/>
        </p:blipFill>
        <p:spPr>
          <a:xfrm>
            <a:off x="2209680" y="457200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3"/>
          <a:stretch/>
        </p:blipFill>
        <p:spPr>
          <a:xfrm>
            <a:off x="2590920" y="4800600"/>
            <a:ext cx="312480" cy="3128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4"/>
          <a:stretch/>
        </p:blipFill>
        <p:spPr>
          <a:xfrm>
            <a:off x="380880" y="5334120"/>
            <a:ext cx="281160" cy="312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5"/>
          <a:stretch/>
        </p:blipFill>
        <p:spPr>
          <a:xfrm>
            <a:off x="76320" y="5486400"/>
            <a:ext cx="312480" cy="312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6"/>
          <a:stretch/>
        </p:blipFill>
        <p:spPr>
          <a:xfrm>
            <a:off x="2286000" y="5105520"/>
            <a:ext cx="249120" cy="3124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7"/>
          <a:stretch/>
        </p:blipFill>
        <p:spPr>
          <a:xfrm>
            <a:off x="304920" y="5791320"/>
            <a:ext cx="322200" cy="312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8"/>
          <a:stretch/>
        </p:blipFill>
        <p:spPr>
          <a:xfrm>
            <a:off x="2133720" y="5562720"/>
            <a:ext cx="590400" cy="312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9"/>
          <a:stretch/>
        </p:blipFill>
        <p:spPr>
          <a:xfrm>
            <a:off x="2286000" y="6095880"/>
            <a:ext cx="266760" cy="312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0"/>
          <a:stretch/>
        </p:blipFill>
        <p:spPr>
          <a:xfrm>
            <a:off x="2286000" y="5791320"/>
            <a:ext cx="584280" cy="312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1"/>
          <a:stretch/>
        </p:blipFill>
        <p:spPr>
          <a:xfrm>
            <a:off x="2514600" y="5249880"/>
            <a:ext cx="312840" cy="312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2"/>
          <a:stretch/>
        </p:blipFill>
        <p:spPr>
          <a:xfrm>
            <a:off x="2438280" y="6354720"/>
            <a:ext cx="379440" cy="274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3"/>
          <a:stretch/>
        </p:blipFill>
        <p:spPr>
          <a:xfrm>
            <a:off x="4572000" y="5715000"/>
            <a:ext cx="314280" cy="311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4"/>
          <a:stretch/>
        </p:blipFill>
        <p:spPr>
          <a:xfrm>
            <a:off x="76320" y="6019920"/>
            <a:ext cx="380880" cy="312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5"/>
          <a:stretch/>
        </p:blipFill>
        <p:spPr>
          <a:xfrm>
            <a:off x="304920" y="6400800"/>
            <a:ext cx="317520" cy="312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12985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rage distance traveled between two cities – 530 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048120"/>
            <a:ext cx="79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aw every team at home. On the road, we sa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200664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erage distance per day of trip – 244 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23605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ngest time between games – 8 days (July 6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game in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San Francisco followed by July 14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game in Oak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65276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an distance traveled between two cities – 233 m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Cluste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entire country, not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more robust program than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ull season schedule to find best start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single game / day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fternoon and evening games if cities are cl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cost, instead of mile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multi-night stays in expensive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gas price in each 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way / Road analysis: find best route between cities given mileage and avg. fuel consumption on road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pre-packaged road-trip va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office personnel visiting all regional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roadshow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uting 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6638" t="0" r="12878" b="0"/>
          <a:stretch/>
        </p:blipFill>
        <p:spPr>
          <a:xfrm>
            <a:off x="2133720" y="4724280"/>
            <a:ext cx="190476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do this summ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10715" b="0"/>
          <a:stretch/>
        </p:blipFill>
        <p:spPr>
          <a:xfrm>
            <a:off x="2133720" y="2666880"/>
            <a:ext cx="1904760" cy="181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7407" t="0" r="0" b="0"/>
          <a:stretch/>
        </p:blipFill>
        <p:spPr>
          <a:xfrm>
            <a:off x="6019920" y="4722840"/>
            <a:ext cx="1904760" cy="1830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1752480"/>
            <a:ext cx="6858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600200"/>
            <a:ext cx="754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d Baseball Fans with a Free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905120"/>
            <a:ext cx="8534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ball Road Trip- See all 30 stadi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rcRect l="0" t="3816" r="0" b="4770"/>
          <a:stretch/>
        </p:blipFill>
        <p:spPr>
          <a:xfrm>
            <a:off x="6019920" y="2666880"/>
            <a:ext cx="190476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38080" y="12952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85800" y="304920"/>
            <a:ext cx="7772400" cy="457200"/>
            <a:chOff x="685800" y="304920"/>
            <a:chExt cx="7772400" cy="457200"/>
          </a:xfrm>
        </p:grpSpPr>
        <p:sp>
          <p:nvSpPr>
            <p:cNvPr id="55" name=""/>
            <p:cNvSpPr/>
            <p:nvPr/>
          </p:nvSpPr>
          <p:spPr>
            <a:xfrm>
              <a:off x="685800" y="304920"/>
              <a:ext cx="7772400" cy="4572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85800" y="380520"/>
              <a:ext cx="7696080" cy="3049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21267000">
            <a:off x="45684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g’s Summer Road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20562000">
            <a:off x="761760" y="1218960"/>
            <a:ext cx="121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0562000">
            <a:off x="761760" y="1218960"/>
            <a:ext cx="1218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rcRect l="7576" t="0" r="67781" b="53048"/>
          <a:stretch/>
        </p:blipFill>
        <p:spPr>
          <a:xfrm>
            <a:off x="4267080" y="3581280"/>
            <a:ext cx="15019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83314E-006 L 0.175 -0.16685 E">
                                      <p:cBhvr>
                                        <p:cTn id="93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92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92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192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192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52005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89160" cy="457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057400" y="4495680"/>
            <a:ext cx="533520" cy="409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6019920" y="4572000"/>
            <a:ext cx="838080" cy="3301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7391520" y="3429000"/>
            <a:ext cx="457200" cy="422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83059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1295280" y="4346640"/>
            <a:ext cx="381240" cy="377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tretch/>
        </p:blipFill>
        <p:spPr>
          <a:xfrm>
            <a:off x="556272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9"/>
          <a:stretch/>
        </p:blipFill>
        <p:spPr>
          <a:xfrm>
            <a:off x="5924520" y="3200400"/>
            <a:ext cx="324000" cy="4572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0"/>
          <a:stretch/>
        </p:blipFill>
        <p:spPr>
          <a:xfrm>
            <a:off x="6324480" y="3733920"/>
            <a:ext cx="444600" cy="533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1"/>
          <a:stretch/>
        </p:blipFill>
        <p:spPr>
          <a:xfrm>
            <a:off x="6888240" y="2819520"/>
            <a:ext cx="350640" cy="457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2"/>
          <a:stretch/>
        </p:blipFill>
        <p:spPr>
          <a:xfrm>
            <a:off x="3048120" y="3505320"/>
            <a:ext cx="533160" cy="4190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3"/>
          <a:stretch/>
        </p:blipFill>
        <p:spPr>
          <a:xfrm>
            <a:off x="6324480" y="28195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4"/>
          <a:stretch/>
        </p:blipFill>
        <p:spPr>
          <a:xfrm>
            <a:off x="6858000" y="6019920"/>
            <a:ext cx="396720" cy="4572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5"/>
          <a:stretch/>
        </p:blipFill>
        <p:spPr>
          <a:xfrm>
            <a:off x="4572000" y="5334120"/>
            <a:ext cx="457200" cy="371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6"/>
          <a:stretch/>
        </p:blipFill>
        <p:spPr>
          <a:xfrm>
            <a:off x="4572000" y="3733920"/>
            <a:ext cx="380880" cy="457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7"/>
          <a:stretch/>
        </p:blipFill>
        <p:spPr>
          <a:xfrm>
            <a:off x="993600" y="4267080"/>
            <a:ext cx="378000" cy="3812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8"/>
          <a:stretch/>
        </p:blipFill>
        <p:spPr>
          <a:xfrm>
            <a:off x="5562720" y="2666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9"/>
          <a:stretch/>
        </p:blipFill>
        <p:spPr>
          <a:xfrm>
            <a:off x="4876920" y="25146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0"/>
          <a:stretch/>
        </p:blipFill>
        <p:spPr>
          <a:xfrm>
            <a:off x="8001000" y="3124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1"/>
          <a:stretch/>
        </p:blipFill>
        <p:spPr>
          <a:xfrm>
            <a:off x="7543800" y="2971800"/>
            <a:ext cx="411120" cy="457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2"/>
          <a:stretch/>
        </p:blipFill>
        <p:spPr>
          <a:xfrm>
            <a:off x="914400" y="3809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3"/>
          <a:stretch/>
        </p:blipFill>
        <p:spPr>
          <a:xfrm>
            <a:off x="7772400" y="3429000"/>
            <a:ext cx="36504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4"/>
          <a:stretch/>
        </p:blipFill>
        <p:spPr>
          <a:xfrm>
            <a:off x="7010280" y="327672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5"/>
          <a:stretch/>
        </p:blipFill>
        <p:spPr>
          <a:xfrm>
            <a:off x="1295280" y="4724280"/>
            <a:ext cx="533520" cy="282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6"/>
          <a:stretch/>
        </p:blipFill>
        <p:spPr>
          <a:xfrm>
            <a:off x="5105520" y="3733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7"/>
          <a:stretch/>
        </p:blipFill>
        <p:spPr>
          <a:xfrm>
            <a:off x="6400800" y="5638680"/>
            <a:ext cx="533520" cy="387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8"/>
          <a:stretch/>
        </p:blipFill>
        <p:spPr>
          <a:xfrm>
            <a:off x="4267080" y="4724280"/>
            <a:ext cx="457200" cy="454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9"/>
          <a:stretch/>
        </p:blipFill>
        <p:spPr>
          <a:xfrm>
            <a:off x="6934320" y="2209680"/>
            <a:ext cx="457200" cy="376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0"/>
          <a:stretch/>
        </p:blipFill>
        <p:spPr>
          <a:xfrm>
            <a:off x="7315200" y="3809880"/>
            <a:ext cx="380880" cy="3747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81040" y="2249640"/>
            <a:ext cx="7896240" cy="4151160"/>
          </a:xfrm>
          <a:custGeom>
            <a:avLst/>
            <a:gdLst/>
            <a:ahLst/>
            <a:rect l="l" t="t" r="r" b="b"/>
            <a:pathLst>
              <a:path w="4974" h="2615">
                <a:moveTo>
                  <a:pt x="4772" y="686"/>
                </a:moveTo>
                <a:cubicBezTo>
                  <a:pt x="4717" y="704"/>
                  <a:pt x="4699" y="757"/>
                  <a:pt x="4653" y="786"/>
                </a:cubicBezTo>
                <a:cubicBezTo>
                  <a:pt x="4622" y="834"/>
                  <a:pt x="4601" y="864"/>
                  <a:pt x="4553" y="896"/>
                </a:cubicBezTo>
                <a:cubicBezTo>
                  <a:pt x="4530" y="932"/>
                  <a:pt x="4503" y="941"/>
                  <a:pt x="4471" y="969"/>
                </a:cubicBezTo>
                <a:cubicBezTo>
                  <a:pt x="4430" y="1006"/>
                  <a:pt x="4398" y="1049"/>
                  <a:pt x="4352" y="1079"/>
                </a:cubicBezTo>
                <a:cubicBezTo>
                  <a:pt x="4360" y="1006"/>
                  <a:pt x="4362" y="947"/>
                  <a:pt x="4416" y="896"/>
                </a:cubicBezTo>
                <a:cubicBezTo>
                  <a:pt x="4433" y="845"/>
                  <a:pt x="4476" y="821"/>
                  <a:pt x="4525" y="805"/>
                </a:cubicBezTo>
                <a:cubicBezTo>
                  <a:pt x="4562" y="768"/>
                  <a:pt x="4591" y="724"/>
                  <a:pt x="4635" y="695"/>
                </a:cubicBezTo>
                <a:cubicBezTo>
                  <a:pt x="4642" y="674"/>
                  <a:pt x="4662" y="635"/>
                  <a:pt x="4681" y="622"/>
                </a:cubicBezTo>
                <a:cubicBezTo>
                  <a:pt x="4705" y="606"/>
                  <a:pt x="4737" y="607"/>
                  <a:pt x="4763" y="594"/>
                </a:cubicBezTo>
                <a:cubicBezTo>
                  <a:pt x="4807" y="572"/>
                  <a:pt x="4854" y="547"/>
                  <a:pt x="4900" y="530"/>
                </a:cubicBezTo>
                <a:cubicBezTo>
                  <a:pt x="4974" y="460"/>
                  <a:pt x="4862" y="440"/>
                  <a:pt x="4809" y="430"/>
                </a:cubicBezTo>
                <a:cubicBezTo>
                  <a:pt x="4731" y="435"/>
                  <a:pt x="4684" y="435"/>
                  <a:pt x="4617" y="457"/>
                </a:cubicBezTo>
                <a:cubicBezTo>
                  <a:pt x="4579" y="497"/>
                  <a:pt x="4543" y="540"/>
                  <a:pt x="4489" y="558"/>
                </a:cubicBezTo>
                <a:cubicBezTo>
                  <a:pt x="4442" y="621"/>
                  <a:pt x="4379" y="680"/>
                  <a:pt x="4343" y="750"/>
                </a:cubicBezTo>
                <a:cubicBezTo>
                  <a:pt x="4334" y="769"/>
                  <a:pt x="4302" y="832"/>
                  <a:pt x="4288" y="860"/>
                </a:cubicBezTo>
                <a:cubicBezTo>
                  <a:pt x="4282" y="872"/>
                  <a:pt x="4269" y="896"/>
                  <a:pt x="4269" y="896"/>
                </a:cubicBezTo>
                <a:cubicBezTo>
                  <a:pt x="4243" y="1004"/>
                  <a:pt x="4285" y="847"/>
                  <a:pt x="4233" y="978"/>
                </a:cubicBezTo>
                <a:cubicBezTo>
                  <a:pt x="4227" y="993"/>
                  <a:pt x="4229" y="1009"/>
                  <a:pt x="4224" y="1024"/>
                </a:cubicBezTo>
                <a:cubicBezTo>
                  <a:pt x="4220" y="1037"/>
                  <a:pt x="4211" y="1048"/>
                  <a:pt x="4205" y="1061"/>
                </a:cubicBezTo>
                <a:cubicBezTo>
                  <a:pt x="4184" y="1109"/>
                  <a:pt x="4183" y="1159"/>
                  <a:pt x="4160" y="1207"/>
                </a:cubicBezTo>
                <a:cubicBezTo>
                  <a:pt x="4157" y="1222"/>
                  <a:pt x="4157" y="1238"/>
                  <a:pt x="4151" y="1253"/>
                </a:cubicBezTo>
                <a:cubicBezTo>
                  <a:pt x="4147" y="1263"/>
                  <a:pt x="4135" y="1269"/>
                  <a:pt x="4132" y="1280"/>
                </a:cubicBezTo>
                <a:cubicBezTo>
                  <a:pt x="4123" y="1310"/>
                  <a:pt x="4124" y="1342"/>
                  <a:pt x="4114" y="1372"/>
                </a:cubicBezTo>
                <a:cubicBezTo>
                  <a:pt x="4089" y="1448"/>
                  <a:pt x="4069" y="1522"/>
                  <a:pt x="4050" y="1600"/>
                </a:cubicBezTo>
                <a:cubicBezTo>
                  <a:pt x="4045" y="1620"/>
                  <a:pt x="4029" y="1635"/>
                  <a:pt x="4023" y="1655"/>
                </a:cubicBezTo>
                <a:cubicBezTo>
                  <a:pt x="4006" y="1711"/>
                  <a:pt x="3991" y="1787"/>
                  <a:pt x="3949" y="1829"/>
                </a:cubicBezTo>
                <a:cubicBezTo>
                  <a:pt x="3940" y="1866"/>
                  <a:pt x="3927" y="1894"/>
                  <a:pt x="3913" y="1929"/>
                </a:cubicBezTo>
                <a:cubicBezTo>
                  <a:pt x="3885" y="1999"/>
                  <a:pt x="3912" y="1968"/>
                  <a:pt x="3876" y="2002"/>
                </a:cubicBezTo>
                <a:cubicBezTo>
                  <a:pt x="3863" y="2041"/>
                  <a:pt x="3844" y="2072"/>
                  <a:pt x="3831" y="2112"/>
                </a:cubicBezTo>
                <a:cubicBezTo>
                  <a:pt x="3828" y="2121"/>
                  <a:pt x="3821" y="2140"/>
                  <a:pt x="3821" y="2140"/>
                </a:cubicBezTo>
                <a:cubicBezTo>
                  <a:pt x="3824" y="2161"/>
                  <a:pt x="3823" y="2184"/>
                  <a:pt x="3831" y="2204"/>
                </a:cubicBezTo>
                <a:cubicBezTo>
                  <a:pt x="3836" y="2216"/>
                  <a:pt x="3850" y="2221"/>
                  <a:pt x="3858" y="2231"/>
                </a:cubicBezTo>
                <a:cubicBezTo>
                  <a:pt x="3906" y="2289"/>
                  <a:pt x="3959" y="2332"/>
                  <a:pt x="4013" y="2386"/>
                </a:cubicBezTo>
                <a:cubicBezTo>
                  <a:pt x="4042" y="2415"/>
                  <a:pt x="4076" y="2430"/>
                  <a:pt x="4105" y="2460"/>
                </a:cubicBezTo>
                <a:cubicBezTo>
                  <a:pt x="4102" y="2481"/>
                  <a:pt x="4104" y="2504"/>
                  <a:pt x="4096" y="2524"/>
                </a:cubicBezTo>
                <a:cubicBezTo>
                  <a:pt x="4072" y="2585"/>
                  <a:pt x="4034" y="2601"/>
                  <a:pt x="3977" y="2615"/>
                </a:cubicBezTo>
                <a:cubicBezTo>
                  <a:pt x="3937" y="2612"/>
                  <a:pt x="3897" y="2612"/>
                  <a:pt x="3858" y="2606"/>
                </a:cubicBezTo>
                <a:cubicBezTo>
                  <a:pt x="3839" y="2603"/>
                  <a:pt x="3803" y="2588"/>
                  <a:pt x="3803" y="2588"/>
                </a:cubicBezTo>
                <a:cubicBezTo>
                  <a:pt x="3789" y="2574"/>
                  <a:pt x="3770" y="2566"/>
                  <a:pt x="3757" y="2551"/>
                </a:cubicBezTo>
                <a:cubicBezTo>
                  <a:pt x="3741" y="2532"/>
                  <a:pt x="3735" y="2507"/>
                  <a:pt x="3721" y="2487"/>
                </a:cubicBezTo>
                <a:cubicBezTo>
                  <a:pt x="3709" y="2438"/>
                  <a:pt x="3685" y="2402"/>
                  <a:pt x="3675" y="2350"/>
                </a:cubicBezTo>
                <a:cubicBezTo>
                  <a:pt x="3680" y="2014"/>
                  <a:pt x="3667" y="1719"/>
                  <a:pt x="3730" y="1399"/>
                </a:cubicBezTo>
                <a:cubicBezTo>
                  <a:pt x="3727" y="1350"/>
                  <a:pt x="3726" y="1302"/>
                  <a:pt x="3721" y="1253"/>
                </a:cubicBezTo>
                <a:cubicBezTo>
                  <a:pt x="3709" y="1130"/>
                  <a:pt x="3572" y="1132"/>
                  <a:pt x="3474" y="1116"/>
                </a:cubicBezTo>
                <a:cubicBezTo>
                  <a:pt x="3362" y="1074"/>
                  <a:pt x="3246" y="1076"/>
                  <a:pt x="3127" y="1070"/>
                </a:cubicBezTo>
                <a:cubicBezTo>
                  <a:pt x="3116" y="1067"/>
                  <a:pt x="3083" y="1061"/>
                  <a:pt x="3081" y="1042"/>
                </a:cubicBezTo>
                <a:cubicBezTo>
                  <a:pt x="3073" y="973"/>
                  <a:pt x="3128" y="895"/>
                  <a:pt x="3163" y="841"/>
                </a:cubicBezTo>
                <a:cubicBezTo>
                  <a:pt x="3169" y="832"/>
                  <a:pt x="3177" y="824"/>
                  <a:pt x="3181" y="814"/>
                </a:cubicBezTo>
                <a:cubicBezTo>
                  <a:pt x="3184" y="805"/>
                  <a:pt x="3183" y="792"/>
                  <a:pt x="3191" y="786"/>
                </a:cubicBezTo>
                <a:cubicBezTo>
                  <a:pt x="3234" y="755"/>
                  <a:pt x="3316" y="753"/>
                  <a:pt x="3364" y="741"/>
                </a:cubicBezTo>
                <a:cubicBezTo>
                  <a:pt x="3470" y="775"/>
                  <a:pt x="3501" y="708"/>
                  <a:pt x="3556" y="640"/>
                </a:cubicBezTo>
                <a:cubicBezTo>
                  <a:pt x="3597" y="590"/>
                  <a:pt x="3657" y="548"/>
                  <a:pt x="3693" y="494"/>
                </a:cubicBezTo>
                <a:cubicBezTo>
                  <a:pt x="3712" y="465"/>
                  <a:pt x="3733" y="418"/>
                  <a:pt x="3757" y="393"/>
                </a:cubicBezTo>
                <a:cubicBezTo>
                  <a:pt x="3776" y="342"/>
                  <a:pt x="3798" y="315"/>
                  <a:pt x="3840" y="284"/>
                </a:cubicBezTo>
                <a:cubicBezTo>
                  <a:pt x="3861" y="252"/>
                  <a:pt x="3881" y="232"/>
                  <a:pt x="3913" y="210"/>
                </a:cubicBezTo>
                <a:cubicBezTo>
                  <a:pt x="3946" y="160"/>
                  <a:pt x="3921" y="188"/>
                  <a:pt x="4004" y="146"/>
                </a:cubicBezTo>
                <a:cubicBezTo>
                  <a:pt x="4021" y="137"/>
                  <a:pt x="4041" y="134"/>
                  <a:pt x="4059" y="128"/>
                </a:cubicBezTo>
                <a:cubicBezTo>
                  <a:pt x="4068" y="125"/>
                  <a:pt x="4087" y="119"/>
                  <a:pt x="4087" y="119"/>
                </a:cubicBezTo>
                <a:cubicBezTo>
                  <a:pt x="4130" y="91"/>
                  <a:pt x="4138" y="101"/>
                  <a:pt x="4178" y="128"/>
                </a:cubicBezTo>
                <a:cubicBezTo>
                  <a:pt x="4185" y="156"/>
                  <a:pt x="4204" y="181"/>
                  <a:pt x="4205" y="210"/>
                </a:cubicBezTo>
                <a:cubicBezTo>
                  <a:pt x="4208" y="280"/>
                  <a:pt x="4206" y="398"/>
                  <a:pt x="4160" y="466"/>
                </a:cubicBezTo>
                <a:cubicBezTo>
                  <a:pt x="4155" y="473"/>
                  <a:pt x="4146" y="478"/>
                  <a:pt x="4141" y="485"/>
                </a:cubicBezTo>
                <a:cubicBezTo>
                  <a:pt x="4128" y="503"/>
                  <a:pt x="4117" y="522"/>
                  <a:pt x="4105" y="540"/>
                </a:cubicBezTo>
                <a:cubicBezTo>
                  <a:pt x="4071" y="592"/>
                  <a:pt x="4088" y="619"/>
                  <a:pt x="4041" y="668"/>
                </a:cubicBezTo>
                <a:cubicBezTo>
                  <a:pt x="3982" y="664"/>
                  <a:pt x="3888" y="662"/>
                  <a:pt x="3821" y="649"/>
                </a:cubicBezTo>
                <a:cubicBezTo>
                  <a:pt x="3796" y="644"/>
                  <a:pt x="3748" y="631"/>
                  <a:pt x="3748" y="631"/>
                </a:cubicBezTo>
                <a:cubicBezTo>
                  <a:pt x="3708" y="604"/>
                  <a:pt x="3666" y="582"/>
                  <a:pt x="3620" y="567"/>
                </a:cubicBezTo>
                <a:cubicBezTo>
                  <a:pt x="3534" y="510"/>
                  <a:pt x="3424" y="508"/>
                  <a:pt x="3328" y="476"/>
                </a:cubicBezTo>
                <a:cubicBezTo>
                  <a:pt x="3314" y="462"/>
                  <a:pt x="3294" y="454"/>
                  <a:pt x="3282" y="439"/>
                </a:cubicBezTo>
                <a:cubicBezTo>
                  <a:pt x="3276" y="432"/>
                  <a:pt x="3278" y="420"/>
                  <a:pt x="3273" y="412"/>
                </a:cubicBezTo>
                <a:cubicBezTo>
                  <a:pt x="3253" y="383"/>
                  <a:pt x="3223" y="368"/>
                  <a:pt x="3191" y="357"/>
                </a:cubicBezTo>
                <a:cubicBezTo>
                  <a:pt x="3142" y="308"/>
                  <a:pt x="3032" y="316"/>
                  <a:pt x="2971" y="311"/>
                </a:cubicBezTo>
                <a:cubicBezTo>
                  <a:pt x="2894" y="285"/>
                  <a:pt x="2877" y="274"/>
                  <a:pt x="2834" y="338"/>
                </a:cubicBezTo>
                <a:cubicBezTo>
                  <a:pt x="2831" y="347"/>
                  <a:pt x="2829" y="357"/>
                  <a:pt x="2825" y="366"/>
                </a:cubicBezTo>
                <a:cubicBezTo>
                  <a:pt x="2820" y="376"/>
                  <a:pt x="2811" y="383"/>
                  <a:pt x="2807" y="393"/>
                </a:cubicBezTo>
                <a:cubicBezTo>
                  <a:pt x="2791" y="435"/>
                  <a:pt x="2779" y="495"/>
                  <a:pt x="2770" y="540"/>
                </a:cubicBezTo>
                <a:cubicBezTo>
                  <a:pt x="2767" y="790"/>
                  <a:pt x="2766" y="1039"/>
                  <a:pt x="2761" y="1289"/>
                </a:cubicBezTo>
                <a:cubicBezTo>
                  <a:pt x="2759" y="1394"/>
                  <a:pt x="2729" y="1497"/>
                  <a:pt x="2715" y="1600"/>
                </a:cubicBezTo>
                <a:cubicBezTo>
                  <a:pt x="2691" y="1786"/>
                  <a:pt x="2664" y="1971"/>
                  <a:pt x="2651" y="2158"/>
                </a:cubicBezTo>
                <a:cubicBezTo>
                  <a:pt x="2639" y="2155"/>
                  <a:pt x="2624" y="2158"/>
                  <a:pt x="2615" y="2149"/>
                </a:cubicBezTo>
                <a:cubicBezTo>
                  <a:pt x="2606" y="2140"/>
                  <a:pt x="2609" y="2124"/>
                  <a:pt x="2605" y="2112"/>
                </a:cubicBezTo>
                <a:cubicBezTo>
                  <a:pt x="2589" y="2065"/>
                  <a:pt x="2592" y="2074"/>
                  <a:pt x="2569" y="2039"/>
                </a:cubicBezTo>
                <a:cubicBezTo>
                  <a:pt x="2550" y="1962"/>
                  <a:pt x="2522" y="1888"/>
                  <a:pt x="2505" y="1810"/>
                </a:cubicBezTo>
                <a:cubicBezTo>
                  <a:pt x="2503" y="1800"/>
                  <a:pt x="2490" y="1748"/>
                  <a:pt x="2487" y="1746"/>
                </a:cubicBezTo>
                <a:cubicBezTo>
                  <a:pt x="2462" y="1731"/>
                  <a:pt x="2404" y="1719"/>
                  <a:pt x="2404" y="1719"/>
                </a:cubicBezTo>
                <a:cubicBezTo>
                  <a:pt x="2342" y="1677"/>
                  <a:pt x="2257" y="1681"/>
                  <a:pt x="2185" y="1673"/>
                </a:cubicBezTo>
                <a:cubicBezTo>
                  <a:pt x="2125" y="1654"/>
                  <a:pt x="2144" y="1657"/>
                  <a:pt x="2039" y="1655"/>
                </a:cubicBezTo>
                <a:cubicBezTo>
                  <a:pt x="1822" y="1650"/>
                  <a:pt x="1606" y="1649"/>
                  <a:pt x="1389" y="1646"/>
                </a:cubicBezTo>
                <a:cubicBezTo>
                  <a:pt x="1314" y="1631"/>
                  <a:pt x="1233" y="1624"/>
                  <a:pt x="1161" y="1600"/>
                </a:cubicBezTo>
                <a:cubicBezTo>
                  <a:pt x="1155" y="1585"/>
                  <a:pt x="1145" y="1570"/>
                  <a:pt x="1143" y="1554"/>
                </a:cubicBezTo>
                <a:cubicBezTo>
                  <a:pt x="1139" y="1519"/>
                  <a:pt x="1185" y="1443"/>
                  <a:pt x="1207" y="1417"/>
                </a:cubicBezTo>
                <a:cubicBezTo>
                  <a:pt x="1235" y="1384"/>
                  <a:pt x="1257" y="1336"/>
                  <a:pt x="1289" y="1308"/>
                </a:cubicBezTo>
                <a:cubicBezTo>
                  <a:pt x="1306" y="1293"/>
                  <a:pt x="1326" y="1283"/>
                  <a:pt x="1344" y="1271"/>
                </a:cubicBezTo>
                <a:cubicBezTo>
                  <a:pt x="1362" y="1259"/>
                  <a:pt x="1374" y="1240"/>
                  <a:pt x="1389" y="1225"/>
                </a:cubicBezTo>
                <a:cubicBezTo>
                  <a:pt x="1429" y="1185"/>
                  <a:pt x="1468" y="1146"/>
                  <a:pt x="1508" y="1106"/>
                </a:cubicBezTo>
                <a:cubicBezTo>
                  <a:pt x="1528" y="1086"/>
                  <a:pt x="1552" y="1072"/>
                  <a:pt x="1572" y="1052"/>
                </a:cubicBezTo>
                <a:cubicBezTo>
                  <a:pt x="1614" y="1010"/>
                  <a:pt x="1584" y="1022"/>
                  <a:pt x="1627" y="988"/>
                </a:cubicBezTo>
                <a:cubicBezTo>
                  <a:pt x="1644" y="974"/>
                  <a:pt x="1682" y="951"/>
                  <a:pt x="1682" y="951"/>
                </a:cubicBezTo>
                <a:cubicBezTo>
                  <a:pt x="1840" y="961"/>
                  <a:pt x="1993" y="984"/>
                  <a:pt x="2148" y="1015"/>
                </a:cubicBezTo>
                <a:cubicBezTo>
                  <a:pt x="2195" y="1024"/>
                  <a:pt x="2239" y="1049"/>
                  <a:pt x="2285" y="1061"/>
                </a:cubicBezTo>
                <a:cubicBezTo>
                  <a:pt x="2378" y="1085"/>
                  <a:pt x="2484" y="1091"/>
                  <a:pt x="2578" y="1097"/>
                </a:cubicBezTo>
                <a:cubicBezTo>
                  <a:pt x="2535" y="1142"/>
                  <a:pt x="2454" y="1162"/>
                  <a:pt x="2395" y="1180"/>
                </a:cubicBezTo>
                <a:cubicBezTo>
                  <a:pt x="2284" y="1213"/>
                  <a:pt x="2176" y="1252"/>
                  <a:pt x="2066" y="1289"/>
                </a:cubicBezTo>
                <a:cubicBezTo>
                  <a:pt x="2046" y="1303"/>
                  <a:pt x="2031" y="1322"/>
                  <a:pt x="2011" y="1335"/>
                </a:cubicBezTo>
                <a:cubicBezTo>
                  <a:pt x="2003" y="1340"/>
                  <a:pt x="1992" y="1339"/>
                  <a:pt x="1984" y="1344"/>
                </a:cubicBezTo>
                <a:cubicBezTo>
                  <a:pt x="1947" y="1365"/>
                  <a:pt x="1910" y="1393"/>
                  <a:pt x="1874" y="1417"/>
                </a:cubicBezTo>
                <a:cubicBezTo>
                  <a:pt x="1828" y="1448"/>
                  <a:pt x="1771" y="1464"/>
                  <a:pt x="1719" y="1481"/>
                </a:cubicBezTo>
                <a:cubicBezTo>
                  <a:pt x="1626" y="1544"/>
                  <a:pt x="1762" y="1456"/>
                  <a:pt x="1655" y="1509"/>
                </a:cubicBezTo>
                <a:cubicBezTo>
                  <a:pt x="1647" y="1513"/>
                  <a:pt x="1644" y="1523"/>
                  <a:pt x="1636" y="1527"/>
                </a:cubicBezTo>
                <a:cubicBezTo>
                  <a:pt x="1608" y="1541"/>
                  <a:pt x="1575" y="1544"/>
                  <a:pt x="1545" y="1554"/>
                </a:cubicBezTo>
                <a:cubicBezTo>
                  <a:pt x="1518" y="1563"/>
                  <a:pt x="1490" y="1573"/>
                  <a:pt x="1463" y="1582"/>
                </a:cubicBezTo>
                <a:cubicBezTo>
                  <a:pt x="1454" y="1585"/>
                  <a:pt x="1435" y="1591"/>
                  <a:pt x="1435" y="1591"/>
                </a:cubicBezTo>
                <a:cubicBezTo>
                  <a:pt x="1393" y="1619"/>
                  <a:pt x="1354" y="1631"/>
                  <a:pt x="1307" y="1646"/>
                </a:cubicBezTo>
                <a:cubicBezTo>
                  <a:pt x="1231" y="1634"/>
                  <a:pt x="1237" y="1630"/>
                  <a:pt x="1170" y="1600"/>
                </a:cubicBezTo>
                <a:cubicBezTo>
                  <a:pt x="1109" y="1573"/>
                  <a:pt x="1034" y="1556"/>
                  <a:pt x="969" y="1545"/>
                </a:cubicBezTo>
                <a:cubicBezTo>
                  <a:pt x="923" y="1515"/>
                  <a:pt x="858" y="1491"/>
                  <a:pt x="804" y="1481"/>
                </a:cubicBezTo>
                <a:cubicBezTo>
                  <a:pt x="701" y="1413"/>
                  <a:pt x="565" y="1414"/>
                  <a:pt x="448" y="1408"/>
                </a:cubicBezTo>
                <a:cubicBezTo>
                  <a:pt x="433" y="1405"/>
                  <a:pt x="391" y="1388"/>
                  <a:pt x="402" y="1399"/>
                </a:cubicBezTo>
                <a:cubicBezTo>
                  <a:pt x="416" y="1413"/>
                  <a:pt x="439" y="1411"/>
                  <a:pt x="457" y="1417"/>
                </a:cubicBezTo>
                <a:cubicBezTo>
                  <a:pt x="466" y="1420"/>
                  <a:pt x="484" y="1426"/>
                  <a:pt x="484" y="1426"/>
                </a:cubicBezTo>
                <a:cubicBezTo>
                  <a:pt x="490" y="1432"/>
                  <a:pt x="498" y="1438"/>
                  <a:pt x="503" y="1445"/>
                </a:cubicBezTo>
                <a:cubicBezTo>
                  <a:pt x="565" y="1528"/>
                  <a:pt x="539" y="1502"/>
                  <a:pt x="475" y="1481"/>
                </a:cubicBezTo>
                <a:cubicBezTo>
                  <a:pt x="436" y="1456"/>
                  <a:pt x="409" y="1428"/>
                  <a:pt x="365" y="1417"/>
                </a:cubicBezTo>
                <a:cubicBezTo>
                  <a:pt x="291" y="1343"/>
                  <a:pt x="389" y="1436"/>
                  <a:pt x="301" y="1372"/>
                </a:cubicBezTo>
                <a:cubicBezTo>
                  <a:pt x="240" y="1328"/>
                  <a:pt x="307" y="1355"/>
                  <a:pt x="247" y="1335"/>
                </a:cubicBezTo>
                <a:cubicBezTo>
                  <a:pt x="210" y="1308"/>
                  <a:pt x="136" y="1252"/>
                  <a:pt x="109" y="1225"/>
                </a:cubicBezTo>
                <a:cubicBezTo>
                  <a:pt x="82" y="1198"/>
                  <a:pt x="68" y="1172"/>
                  <a:pt x="36" y="1152"/>
                </a:cubicBezTo>
                <a:cubicBezTo>
                  <a:pt x="30" y="1137"/>
                  <a:pt x="24" y="1121"/>
                  <a:pt x="18" y="1106"/>
                </a:cubicBezTo>
                <a:cubicBezTo>
                  <a:pt x="12" y="1088"/>
                  <a:pt x="0" y="1052"/>
                  <a:pt x="0" y="1052"/>
                </a:cubicBezTo>
                <a:cubicBezTo>
                  <a:pt x="70" y="1037"/>
                  <a:pt x="122" y="1058"/>
                  <a:pt x="183" y="1088"/>
                </a:cubicBezTo>
                <a:cubicBezTo>
                  <a:pt x="211" y="1102"/>
                  <a:pt x="245" y="1105"/>
                  <a:pt x="274" y="1116"/>
                </a:cubicBezTo>
                <a:cubicBezTo>
                  <a:pt x="285" y="1148"/>
                  <a:pt x="295" y="1174"/>
                  <a:pt x="320" y="1198"/>
                </a:cubicBezTo>
                <a:cubicBezTo>
                  <a:pt x="331" y="1231"/>
                  <a:pt x="336" y="1259"/>
                  <a:pt x="356" y="1289"/>
                </a:cubicBezTo>
                <a:cubicBezTo>
                  <a:pt x="366" y="1321"/>
                  <a:pt x="369" y="1347"/>
                  <a:pt x="393" y="1372"/>
                </a:cubicBezTo>
                <a:cubicBezTo>
                  <a:pt x="412" y="1428"/>
                  <a:pt x="435" y="1507"/>
                  <a:pt x="466" y="1554"/>
                </a:cubicBezTo>
                <a:cubicBezTo>
                  <a:pt x="480" y="1596"/>
                  <a:pt x="496" y="1623"/>
                  <a:pt x="539" y="1637"/>
                </a:cubicBezTo>
                <a:cubicBezTo>
                  <a:pt x="635" y="1625"/>
                  <a:pt x="590" y="1642"/>
                  <a:pt x="667" y="1591"/>
                </a:cubicBezTo>
                <a:cubicBezTo>
                  <a:pt x="676" y="1585"/>
                  <a:pt x="695" y="1573"/>
                  <a:pt x="695" y="1573"/>
                </a:cubicBezTo>
                <a:cubicBezTo>
                  <a:pt x="721" y="1467"/>
                  <a:pt x="679" y="1356"/>
                  <a:pt x="631" y="1262"/>
                </a:cubicBezTo>
                <a:cubicBezTo>
                  <a:pt x="610" y="1222"/>
                  <a:pt x="590" y="1174"/>
                  <a:pt x="557" y="1143"/>
                </a:cubicBezTo>
                <a:cubicBezTo>
                  <a:pt x="533" y="1044"/>
                  <a:pt x="569" y="1164"/>
                  <a:pt x="521" y="1079"/>
                </a:cubicBezTo>
                <a:cubicBezTo>
                  <a:pt x="515" y="1068"/>
                  <a:pt x="517" y="1054"/>
                  <a:pt x="512" y="1042"/>
                </a:cubicBezTo>
                <a:cubicBezTo>
                  <a:pt x="483" y="976"/>
                  <a:pt x="434" y="922"/>
                  <a:pt x="420" y="850"/>
                </a:cubicBezTo>
                <a:cubicBezTo>
                  <a:pt x="396" y="729"/>
                  <a:pt x="385" y="606"/>
                  <a:pt x="365" y="485"/>
                </a:cubicBezTo>
                <a:cubicBezTo>
                  <a:pt x="354" y="415"/>
                  <a:pt x="341" y="334"/>
                  <a:pt x="301" y="274"/>
                </a:cubicBezTo>
                <a:cubicBezTo>
                  <a:pt x="290" y="240"/>
                  <a:pt x="272" y="214"/>
                  <a:pt x="256" y="183"/>
                </a:cubicBezTo>
                <a:cubicBezTo>
                  <a:pt x="252" y="175"/>
                  <a:pt x="252" y="164"/>
                  <a:pt x="247" y="156"/>
                </a:cubicBezTo>
                <a:cubicBezTo>
                  <a:pt x="214" y="102"/>
                  <a:pt x="155" y="70"/>
                  <a:pt x="155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1"/>
          <a:srcRect l="6638" t="0" r="12878" b="0"/>
          <a:stretch/>
        </p:blipFill>
        <p:spPr>
          <a:xfrm>
            <a:off x="1523880" y="228600"/>
            <a:ext cx="1905120" cy="14716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00600" y="228600"/>
            <a:ext cx="3962520" cy="1219320"/>
          </a:xfrm>
          <a:prstGeom prst="wedgeRectCallout">
            <a:avLst>
              <a:gd name="adj1" fmla="val -82814"/>
              <a:gd name="adj2" fmla="val 20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ad trip any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Minimize driving distance to see every Major League baseball team play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 Fram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edu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ual 2005 Major League Baseball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m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ly one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rt Da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ght after graduation -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Approach: One Gia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10800" cy="2581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800" y="16002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leage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320" y="4981680"/>
            <a:ext cx="8915400" cy="172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20" y="45864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5 MLB Summer Sched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560" y="2514600"/>
            <a:ext cx="9038880" cy="2629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Approach: One Gia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295280" y="2017800"/>
            <a:ext cx="6858000" cy="3697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209680" y="2209680"/>
            <a:ext cx="5257800" cy="3264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700000">
            <a:off x="7581600" y="262908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-76320"/>
            <a:ext cx="4361040" cy="76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3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9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Problem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Solution Methodology: Origi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: Alternat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Model Results &amp; Trip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Future Improvements &amp; Business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6:29:10Z</dcterms:created>
  <dc:creator>imaging</dc:creator>
  <dc:description/>
  <dc:language>en-US</dc:language>
  <cp:lastModifiedBy>imaging</cp:lastModifiedBy>
  <dcterms:modified xsi:type="dcterms:W3CDTF">2005-05-02T16:35:04Z</dcterms:modified>
  <cp:revision>37</cp:revision>
  <dc:subject/>
  <dc:title>Slide 1</dc:title>
</cp:coreProperties>
</file>