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2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301A-F847-4578-AFBE-521761C3A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47560" y="40546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FDE4-5033-4FA1-B2E7-5822CFAC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9640" y="190512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47560" y="40546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9640" y="40546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4927-807B-4972-BD16-9B31CA8E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816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44756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816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6EFD-9ECD-4811-8095-C5857780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79CE-06AD-4A7F-9703-4B336ABA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4756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F765-310A-49EF-8011-010887D4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6BA6-5D2C-4D88-9CE5-F3985F8D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9640" y="190512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0D9D-CD84-43A1-B890-697BD02C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8A4D-5BA9-4CC8-961E-B50C8E59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0EE0-9526-4DF9-94D7-A6D705EF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190512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0546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DDD1-C6D0-45A5-B120-B353756A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44756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F0A1-4691-4711-952B-30DDB1CD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9640" y="190512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9640" y="40546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6844-BCFD-4BB8-B1FB-7633E51C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9640" y="190512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40546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0B58-129C-4DF4-A079-94A78830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47560" y="40546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3532-9E65-4FFE-A344-683FA548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9640" y="190512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47560" y="40546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9640" y="40546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36CC-92E3-4AAE-A055-E2DE3448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816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4756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816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0ABC-D898-4674-9E42-85D0850A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AF6F-FD4B-4826-B8CC-0A937C09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9640" y="190512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8686-C378-404A-8A05-3A9F459C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6621-695B-4E88-A0C5-1DBCBD74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E3FD-C0CC-4308-9119-CD1CD6A7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9640" y="190512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40546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8881-FB35-495D-81F5-C4C5FBA9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9640" y="190512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9640" y="40546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C6DA-1652-40B5-8748-FFE69E83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9640" y="190512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560" y="40546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1B04-4BAF-473C-B090-113FAD5B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hyperlink" Target="http://www.tiffany.org/music/albums/t/" TargetMode="External"/><Relationship Id="rId5" Type="http://schemas.openxmlformats.org/officeDocument/2006/relationships/image" Target="../media/image2.jpeg"/><Relationship Id="rId6" Type="http://schemas.openxmlformats.org/officeDocument/2006/relationships/hyperlink" Target="http://www.tennisrulz.com/players/capriati/gallery03/203.htm" TargetMode="External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04D3-8E63-43A4-9B06-ABF8BA1B1063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" name="" descr="Vincent van Gogh. The Starry Night. 1889"/>
          <p:cNvPicPr/>
          <p:nvPr/>
        </p:nvPicPr>
        <p:blipFill>
          <a:blip r:embed="rId2"/>
          <a:stretch/>
        </p:blipFill>
        <p:spPr>
          <a:xfrm>
            <a:off x="0" y="5815080"/>
            <a:ext cx="1295280" cy="104292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[Tiffany]"/>
          <p:cNvPicPr/>
          <p:nvPr/>
        </p:nvPicPr>
        <p:blipFill>
          <a:blip r:embed="rId3"/>
          <a:stretch/>
        </p:blipFill>
        <p:spPr>
          <a:xfrm>
            <a:off x="0" y="4500720"/>
            <a:ext cx="1295280" cy="121428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4"/>
          <a:stretch/>
        </p:blipFill>
        <p:spPr>
          <a:xfrm>
            <a:off x="0" y="175248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Dark Condo"/>
          <p:cNvPicPr/>
          <p:nvPr/>
        </p:nvPicPr>
        <p:blipFill>
          <a:blip r:embed="rId5"/>
          <a:stretch/>
        </p:blipFill>
        <p:spPr>
          <a:xfrm>
            <a:off x="0" y="3200400"/>
            <a:ext cx="1295280" cy="112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7542-6106-475A-9E12-13782BAE9035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57" name="" descr="Jackson Pollock. Untitled. c. 1950."/>
          <p:cNvPicPr/>
          <p:nvPr/>
        </p:nvPicPr>
        <p:blipFill>
          <a:blip r:embed="rId2"/>
          <a:stretch/>
        </p:blipFill>
        <p:spPr>
          <a:xfrm>
            <a:off x="3962520" y="5719680"/>
            <a:ext cx="1371600" cy="1063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Vincent van Gogh. The Starry Night. 1889"/>
          <p:cNvPicPr/>
          <p:nvPr/>
        </p:nvPicPr>
        <p:blipFill>
          <a:blip r:embed="rId3"/>
          <a:stretch/>
        </p:blipFill>
        <p:spPr>
          <a:xfrm>
            <a:off x="7772400" y="5724360"/>
            <a:ext cx="1295280" cy="1043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[Tiffany]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23880" y="5715000"/>
            <a:ext cx="1055880" cy="1066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410080" y="5697360"/>
            <a:ext cx="1219320" cy="1084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Dark Condo"/>
          <p:cNvPicPr/>
          <p:nvPr/>
        </p:nvPicPr>
        <p:blipFill>
          <a:blip r:embed="rId8"/>
          <a:stretch/>
        </p:blipFill>
        <p:spPr>
          <a:xfrm>
            <a:off x="0" y="5730840"/>
            <a:ext cx="1295280" cy="1127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6699240" y="5715000"/>
            <a:ext cx="996840" cy="10666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reative Artist Career Insura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133360" y="35049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eremy Kapl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cey Murph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sa Hunter Rasi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i Seng</a:t>
            </a:r>
            <a:br>
              <a:rPr sz="2100"/>
            </a:b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y 2, 200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Vincent van Gogh. The Starry Night. 1889"/>
          <p:cNvPicPr/>
          <p:nvPr/>
        </p:nvPicPr>
        <p:blipFill>
          <a:blip r:embed="rId1"/>
          <a:stretch/>
        </p:blipFill>
        <p:spPr>
          <a:xfrm>
            <a:off x="7772400" y="5724360"/>
            <a:ext cx="1295280" cy="1043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699240" y="5715000"/>
            <a:ext cx="996840" cy="106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743200" y="5715000"/>
            <a:ext cx="104616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l Outp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905120" y="1676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2.5% fee for practical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5% Confidence Interval of $428,955 to $1,201,07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52480" y="2743200"/>
          <a:ext cx="7010640" cy="399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743200"/>
                    <a:ext cx="7010640" cy="39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ment Fee Sensitivity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47640" y="1663560"/>
            <a:ext cx="7596360" cy="5194440"/>
            <a:chOff x="1547640" y="1663560"/>
            <a:chExt cx="7596360" cy="519444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1547640" y="1663560"/>
              <a:ext cx="7596360" cy="519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 flipV="1">
              <a:off x="5684760" y="1904760"/>
              <a:ext cx="0" cy="419076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09880" y="23623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050"/>
                  </a:solidFill>
                  <a:latin typeface="Arial"/>
                </a:rPr>
                <a:t>2.5% 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238880" y="23623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050"/>
                  </a:solidFill>
                  <a:latin typeface="Arial"/>
                </a:rPr>
                <a:t>3.0% 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lusion, Limitations &amp; 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-1954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st % of revenues to contribute is 2.5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3360" indent="-16272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quately fund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3360" indent="-16272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able percentage con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3352680"/>
            <a:ext cx="70102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 considers career earnings in aggregate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h-based model, no investment returns 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e Rider” risk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ndthrift superstars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676520"/>
            <a:ext cx="70102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urance model for creative industries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rage innovation in creative industries by creating a safety net for emerging talent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for any funding decisions to ensure distribution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et Ne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l Outputs &amp;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lusion, Limitations &amp; 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et Need &amp; Go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80720" y="4363560"/>
            <a:ext cx="61722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've done a bit of smugglin'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've run my share of gras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made enough money to buy Miami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 pissed it away so fas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meant to last, never meant to last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rate Looks at For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Jimmy Buffe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2438280"/>
            <a:ext cx="701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concept of sports insurance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38280" y="4267080"/>
            <a:ext cx="5410440" cy="2514600"/>
          </a:xfrm>
          <a:prstGeom prst="rect">
            <a:avLst/>
          </a:prstGeom>
          <a:noFill/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297180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retirement plan for creative artists who do not achieve a level of success sufficient to provide for financial security in retirement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1676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ve artists typically do not have access to traditional forms of future financial security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28800" y="17521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% of revenues do artists need to contribute to fund a career insurance pl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3130560"/>
            <a:ext cx="7010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minimum revenue contribution such that the insurance plan is economically feasible for the management company and marketable to artists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533412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ing levels of succes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ion cap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28800" y="16761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ly generated number of ar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n = 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Dev = 1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s of lifetime earnings of ar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s based on 7 levels of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fee = 10% of con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 contract value = $5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362320" y="2514600"/>
          <a:ext cx="4951440" cy="3063960"/>
        </p:xfrm>
        <a:graphic>
          <a:graphicData uri="http://schemas.openxmlformats.org/drawingml/2006/table">
            <a:tbl>
              <a:tblPr/>
              <a:tblGrid>
                <a:gridCol w="1598400"/>
                <a:gridCol w="1754280"/>
                <a:gridCol w="15987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PV of Career Earning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Population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”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,000,00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”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,00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”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,00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”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”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00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”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0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”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8991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 Carlo simulation using Crystal 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40350" t="0" r="0" b="0"/>
          <a:stretch/>
        </p:blipFill>
        <p:spPr>
          <a:xfrm>
            <a:off x="2895480" y="2286000"/>
            <a:ext cx="6172200" cy="4330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870920" y="259092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66"/>
                </a:solidFill>
                <a:latin typeface="Arial"/>
              </a:rPr>
              <a:t>Revenues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9360" y="429912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66"/>
                </a:solidFill>
                <a:latin typeface="Arial"/>
              </a:rPr>
              <a:t>Disbursements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9880" y="5486400"/>
            <a:ext cx="217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66"/>
                </a:solidFill>
                <a:latin typeface="Arial"/>
              </a:rPr>
              <a:t>Per Band Contribution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0" t="26239" r="80851" b="32919"/>
          <a:stretch/>
        </p:blipFill>
        <p:spPr>
          <a:xfrm>
            <a:off x="74520" y="2206800"/>
            <a:ext cx="1830600" cy="1819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l Outp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828800" y="1639800"/>
            <a:ext cx="73152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-1198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Even Point is Approximately 2.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lnSpc>
                <a:spcPct val="13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% Confidence Interval of $31,694 and $97,8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447920" y="3048120"/>
            <a:ext cx="7619400" cy="2666520"/>
            <a:chOff x="1447920" y="3048120"/>
            <a:chExt cx="7619400" cy="266652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1447920" y="3048120"/>
              <a:ext cx="7619400" cy="2666520"/>
            </a:xfrm>
            <a:prstGeom prst="rect">
              <a:avLst/>
            </a:prstGeom>
            <a:ln w="9360">
              <a:solidFill>
                <a:srgbClr val="006666"/>
              </a:solidFill>
              <a:miter/>
            </a:ln>
          </p:spPr>
        </p:pic>
        <p:sp>
          <p:nvSpPr>
            <p:cNvPr id="136" name=""/>
            <p:cNvSpPr/>
            <p:nvPr/>
          </p:nvSpPr>
          <p:spPr>
            <a:xfrm>
              <a:off x="5885280" y="3373920"/>
              <a:ext cx="705960" cy="275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ulation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19320" y="1523880"/>
            <a:ext cx="7943760" cy="5429160"/>
            <a:chOff x="1219320" y="1523880"/>
            <a:chExt cx="7943760" cy="542916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1219320" y="1523880"/>
              <a:ext cx="7943760" cy="54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352840" y="4724280"/>
              <a:ext cx="22824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00:30:12Z</dcterms:created>
  <dc:creator> </dc:creator>
  <dc:description/>
  <dc:language>en-US</dc:language>
  <cp:lastModifiedBy> </cp:lastModifiedBy>
  <dcterms:modified xsi:type="dcterms:W3CDTF">2005-05-02T20:51:22Z</dcterms:modified>
  <cp:revision>65</cp:revision>
  <dc:subject/>
  <dc:title>Slide 1</dc:title>
</cp:coreProperties>
</file>