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1AE-EDE4-4ED7-98BD-5A3125D1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47560" y="40546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D9B-2043-4EBC-957E-3FFAEFA7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964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47560" y="40546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9640" y="40546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693-4A2D-44C3-A42F-F64B5AA6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816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4756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816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250-5206-4C18-B345-15DBCD70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E0AA-4013-4080-BDDF-68C2E1BF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475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4631-9983-4827-BE46-52C8F68B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79C2-917B-4144-BA1C-0C3A413D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9640" y="190512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B284-E0EE-42EB-9F55-02E17CE2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9D5E-5D45-4A0B-9A29-4A78B550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B759-87BD-4936-A855-21A95A06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190512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0546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FC2E-2F11-44FF-922E-55AB7679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475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DAAE-FE1B-4745-AA1D-10D224A9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964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9640" y="40546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626F-1715-4B2B-9960-A8237CCB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964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40546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9B8F-176F-4FF2-9D92-9B131342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47560" y="40546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0C5F-E562-46E3-B5D9-7E3C4F29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964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47560" y="40546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9640" y="40546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A8D8-1EAD-4888-A320-51E3584C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816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4756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816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DF1C-C8F0-4011-932B-F454E710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5774-4415-4114-AB37-50D58B46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9640" y="190512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E7B-0FFD-49EB-8D80-7413906E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189-920E-4A0F-A748-A41F5F7A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C418-63F1-4CBA-92D9-2BB862F0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190512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0546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EB6-A0E7-410B-B884-68AB8C1F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964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9640" y="40546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E131-BB0E-40A9-9AAC-849FF8C1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9640" y="190512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560" y="40546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D2A-5CC3-47DC-A66E-BA729356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hyperlink" Target="http://www.tiffany.org/music/albums/t/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www.tennisrulz.com/players/capriati/gallery03/203.htm" TargetMode="External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BF39-DF63-47B8-AD49-4469F798FD0F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" name="" descr="Vincent van Gogh. The Starry Night. 1889"/>
          <p:cNvPicPr/>
          <p:nvPr/>
        </p:nvPicPr>
        <p:blipFill>
          <a:blip r:embed="rId2"/>
          <a:stretch/>
        </p:blipFill>
        <p:spPr>
          <a:xfrm>
            <a:off x="0" y="5815080"/>
            <a:ext cx="1295280" cy="104292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[Tiffany]"/>
          <p:cNvPicPr/>
          <p:nvPr/>
        </p:nvPicPr>
        <p:blipFill>
          <a:blip r:embed="rId3"/>
          <a:stretch/>
        </p:blipFill>
        <p:spPr>
          <a:xfrm>
            <a:off x="0" y="4500720"/>
            <a:ext cx="1295280" cy="121428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4"/>
          <a:stretch/>
        </p:blipFill>
        <p:spPr>
          <a:xfrm>
            <a:off x="0" y="175248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Dark Condo"/>
          <p:cNvPicPr/>
          <p:nvPr/>
        </p:nvPicPr>
        <p:blipFill>
          <a:blip r:embed="rId5"/>
          <a:stretch/>
        </p:blipFill>
        <p:spPr>
          <a:xfrm>
            <a:off x="0" y="3200400"/>
            <a:ext cx="1295280" cy="112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5C2F-B8CA-4D20-931F-8666E9E67964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57" name="" descr="Jackson Pollock. Untitled. c. 1950."/>
          <p:cNvPicPr/>
          <p:nvPr/>
        </p:nvPicPr>
        <p:blipFill>
          <a:blip r:embed="rId2"/>
          <a:stretch/>
        </p:blipFill>
        <p:spPr>
          <a:xfrm>
            <a:off x="3962520" y="5719680"/>
            <a:ext cx="1371600" cy="1063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Vincent van Gogh. The Starry Night. 1889"/>
          <p:cNvPicPr/>
          <p:nvPr/>
        </p:nvPicPr>
        <p:blipFill>
          <a:blip r:embed="rId3"/>
          <a:stretch/>
        </p:blipFill>
        <p:spPr>
          <a:xfrm>
            <a:off x="7772400" y="5724360"/>
            <a:ext cx="1295280" cy="1043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[Tiffany]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3880" y="5715000"/>
            <a:ext cx="1055880" cy="1066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10080" y="5697360"/>
            <a:ext cx="121932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Dark Condo"/>
          <p:cNvPicPr/>
          <p:nvPr/>
        </p:nvPicPr>
        <p:blipFill>
          <a:blip r:embed="rId8"/>
          <a:stretch/>
        </p:blipFill>
        <p:spPr>
          <a:xfrm>
            <a:off x="0" y="5730840"/>
            <a:ext cx="1295280" cy="1127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6699240" y="5715000"/>
            <a:ext cx="996840" cy="1066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reative Artist Career Insur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133360" y="35049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eremy Kapl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cey Murph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sa Hunter Ras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i Seng</a:t>
            </a: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y 2, 200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Vincent van Gogh. The Starry Night. 1889"/>
          <p:cNvPicPr/>
          <p:nvPr/>
        </p:nvPicPr>
        <p:blipFill>
          <a:blip r:embed="rId1"/>
          <a:stretch/>
        </p:blipFill>
        <p:spPr>
          <a:xfrm>
            <a:off x="7772400" y="5724360"/>
            <a:ext cx="1295280" cy="1043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699240" y="5715000"/>
            <a:ext cx="996840" cy="106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743200" y="5715000"/>
            <a:ext cx="104616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 Outp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05120" y="1676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2.5% fee for practical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5% Confidence Interval of $428,955 to $1,201,07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52480" y="2743200"/>
          <a:ext cx="7010640" cy="399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7010640" cy="39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ment Fee Sensitivity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47640" y="1663560"/>
            <a:ext cx="7596360" cy="5194440"/>
            <a:chOff x="1547640" y="1663560"/>
            <a:chExt cx="7596360" cy="519444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1547640" y="1663560"/>
              <a:ext cx="7596360" cy="519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 flipV="1">
              <a:off x="5684760" y="1904760"/>
              <a:ext cx="0" cy="419076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23623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050"/>
                  </a:solidFill>
                  <a:latin typeface="Arial"/>
                </a:rPr>
                <a:t>2.5% 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38880" y="23623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050"/>
                  </a:solidFill>
                  <a:latin typeface="Arial"/>
                </a:rPr>
                <a:t>3.0% 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ion, Limitations &amp;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% of revenues to contribute is 2.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3360" indent="-16272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ly fund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3360" indent="-16272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able percentage con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3352680"/>
            <a:ext cx="7010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 considers career earnings in aggregate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h-based model, no investment returns 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e Rider” risk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ndthrift superstars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676520"/>
            <a:ext cx="70102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urance model for creative industries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e innovation in creative industries by creating a safety net for emerging talent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for any funding decisions to ensure distribution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et N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 Outputs &amp;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ion, Limitations &amp;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et Need &amp; Go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80720" y="4363560"/>
            <a:ext cx="61722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've done a bit of smugglin'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've run my share of gra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made enough money to buy Miami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 pissed it away so fas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meant to last, never meant to last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rate Looks at For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Jimmy Buffe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2438280"/>
            <a:ext cx="701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concept of sports insuranc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4267080"/>
            <a:ext cx="5410440" cy="2514600"/>
          </a:xfrm>
          <a:prstGeom prst="rect">
            <a:avLst/>
          </a:pr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297180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retirement plan for creative artists who do not achieve a level of success sufficient to provide for financial security in retirement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1676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artists typically do not have access to traditional forms of future financial security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% of revenues do artists need to contribute to fund a career insurance pl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3130560"/>
            <a:ext cx="701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minimum revenue contribution such that the insurance plan is economically feasible for the management company and marketable to artists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533412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ing levels of succes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ion cap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ly generated number of ar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n = 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Dev = 1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 of lifetime earnings of ar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s based on 7 levels of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fee = 10% of con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contract value = $5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362320" y="2514600"/>
          <a:ext cx="4951440" cy="3063960"/>
        </p:xfrm>
        <a:graphic>
          <a:graphicData uri="http://schemas.openxmlformats.org/drawingml/2006/table">
            <a:tbl>
              <a:tblPr/>
              <a:tblGrid>
                <a:gridCol w="1598400"/>
                <a:gridCol w="1754280"/>
                <a:gridCol w="1598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PV of Career Earning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Population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”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,000,00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”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,00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”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”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”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0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”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”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8991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 Carlo simulation using Crystal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40350" t="0" r="0" b="0"/>
          <a:stretch/>
        </p:blipFill>
        <p:spPr>
          <a:xfrm>
            <a:off x="2895480" y="2286000"/>
            <a:ext cx="6172200" cy="4330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870920" y="25909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Arial"/>
              </a:rPr>
              <a:t>Revenues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9360" y="429912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Arial"/>
              </a:rPr>
              <a:t>Disbursements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9880" y="5486400"/>
            <a:ext cx="217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Arial"/>
              </a:rPr>
              <a:t>Per Band Contribution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26239" r="80851" b="32919"/>
          <a:stretch/>
        </p:blipFill>
        <p:spPr>
          <a:xfrm>
            <a:off x="74520" y="2206800"/>
            <a:ext cx="1830600" cy="1819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 Outp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828800" y="1639800"/>
            <a:ext cx="73152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Even Point is Approximately 2.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lnSpc>
                <a:spcPct val="13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% Confidence Interval of $31,694 and $97,8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447920" y="3048120"/>
            <a:ext cx="7619400" cy="2666520"/>
            <a:chOff x="1447920" y="3048120"/>
            <a:chExt cx="7619400" cy="266652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1447920" y="3048120"/>
              <a:ext cx="7619400" cy="266652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  <p:sp>
          <p:nvSpPr>
            <p:cNvPr id="136" name=""/>
            <p:cNvSpPr/>
            <p:nvPr/>
          </p:nvSpPr>
          <p:spPr>
            <a:xfrm>
              <a:off x="5885280" y="3373920"/>
              <a:ext cx="705960" cy="275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ulation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19320" y="1523880"/>
            <a:ext cx="7943760" cy="5429160"/>
            <a:chOff x="1219320" y="1523880"/>
            <a:chExt cx="7943760" cy="542916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1219320" y="1523880"/>
              <a:ext cx="7943760" cy="54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352840" y="4724280"/>
              <a:ext cx="22824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00:30:12Z</dcterms:created>
  <dc:creator> </dc:creator>
  <dc:description/>
  <dc:language>en-US</dc:language>
  <cp:lastModifiedBy> </cp:lastModifiedBy>
  <dcterms:modified xsi:type="dcterms:W3CDTF">2005-05-02T20:51:22Z</dcterms:modified>
  <cp:revision>65</cp:revision>
  <dc:subject/>
  <dc:title>Slide 1</dc:title>
</cp:coreProperties>
</file>