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2CB-FE19-4A79-A33A-DE309C48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E93-5D26-4D8E-A32B-2E1FE061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0D5-D7CB-42C1-9BD4-D3E00B20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AEE9-A658-4AB1-A104-AA043E27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4B96-C081-4883-B8CF-29C8FBCE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6B80-EBFD-4C14-BC63-C6BC79EA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5738-26E5-4F20-8E97-39CF468D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2FBC-966A-4BC6-AE69-9463A054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183B-2474-49AF-8A8D-B6D49002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F553-7654-4F6D-B5C4-EFAB5248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A822-D7E5-47A0-B317-C2958DCC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30C-6832-4DAF-89D0-AD2CB0F4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5850-609F-4EEE-9CB6-0372E005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F8C7-7D07-4815-B399-2EDA7298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9679-3B06-4DD9-B0AC-4F51E217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A965-0F7F-47EB-92E4-A905F6C2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91B4-2745-4DDF-9C76-55B4823D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7C7-DC09-40FF-BF54-420F1F4A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583-A471-4410-98F8-4E9292B4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C26-D570-4557-91A0-DD5F69DA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F32-A6FF-40E3-9EF4-1D4A70C2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2DA-8F31-4885-8224-833CEBFD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277-2376-49F4-8661-E603A228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835-D094-4E0B-B095-D4150C28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AB24-0B2B-4F22-9642-ED4F3015552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CD80-327D-4078-9D82-59975C663A6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What’s For Dinner?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ma Bha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ela Heck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nal Pa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anda Plot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ina Shkolnik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dinnerPic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4200480" cy="13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B2A3-793A-4A3F-B810-282565ADBE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ep 2: Input Preferen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41068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D2B-B832-42FB-BF17-21E4D4862C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ep 3:  Solv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FF4-2317-4A64-8044-83F22BA9E1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ep 4:  Outpu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0120" y="1295280"/>
            <a:ext cx="794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98F-1060-4A7C-93E7-59D03FA9B6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alculation of Sco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core is calculated for each user based on the number of preferences m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ing higher priority items adds more than meeting lower priority ite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meeting a high priority item subtracts more than not meeting a lower priority it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FB0-D9A2-4DFE-8BB6-1193A8B1C8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ct Match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ints are added for exact matches 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getarian Option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ints are subtracted if these items do not mat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326-1C58-4440-9980-200C39D6D3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qual or Better Match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ints are added for meeting or exceeding preferences 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écor 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s from sub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ance from preferred neighborh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ints are subtracted for not at least meeting these i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694-5DEB-4B42-AB2E-E78A3182F9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Best Restaura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ary Solver is used to maximize the overall score of the entire gro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aints are used to ensure that a minimum score is met for each member of the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 function penalizes more for not meeting the top three choices than for the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5CD-2923-439A-98AC-3EB5ACF363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tential Enhanc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putting second and third best choices of restaur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ing a sensitivity analysis to show tradeoffs between the top three cho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t it online so it is more easily acce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C16-A8AC-438D-A7CA-FF53A23123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715000" cy="21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14B-A44F-48C8-AF1F-9B9B602921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 Illust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isine Ty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gat Rating on Food, Service and Déc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ance from Sub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s for Vegetarian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ighborho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219320"/>
            <a:ext cx="8229600" cy="6426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Determining optimal restaurant in downtown Manhattan for a group with varied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D30-2F89-48DC-97D2-B16AAAF40A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a Identification Metr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écor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s from Sub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getarian O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one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34340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FD3-74F2-43DD-9D99-7D8B106A6A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od, Service and Déc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219320"/>
            <a:ext cx="8229600" cy="6426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translated the Food, Service and Décor numbers into Zagat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2209680"/>
          <a:ext cx="6477120" cy="3768840"/>
        </p:xfrm>
        <a:graphic>
          <a:graphicData uri="http://schemas.openxmlformats.org/drawingml/2006/table">
            <a:tbl>
              <a:tblPr/>
              <a:tblGrid>
                <a:gridCol w="3238560"/>
                <a:gridCol w="323856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 Less Th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Go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ordina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DA3-D303-4757-AB90-663AD693DE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taurant Pr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371600"/>
            <a:ext cx="8229600" cy="36828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translated the prices into Zagat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2286000"/>
          <a:ext cx="6477120" cy="3139920"/>
        </p:xfrm>
        <a:graphic>
          <a:graphicData uri="http://schemas.openxmlformats.org/drawingml/2006/table">
            <a:tbl>
              <a:tblPr/>
              <a:tblGrid>
                <a:gridCol w="3238560"/>
                <a:gridCol w="323856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xpens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$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6 - $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 - $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Expens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1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7C6-2C42-48BD-9A33-48772BCBDE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aveling Distan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371600"/>
            <a:ext cx="8229600" cy="6426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lculated the average traveling distance between pairs of neighbor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2209680"/>
          <a:ext cx="7238880" cy="3657600"/>
        </p:xfrm>
        <a:graphic>
          <a:graphicData uri="http://schemas.openxmlformats.org/drawingml/2006/table">
            <a:tbl>
              <a:tblPr/>
              <a:tblGrid>
                <a:gridCol w="1752480"/>
                <a:gridCol w="1866960"/>
                <a:gridCol w="1812960"/>
                <a:gridCol w="1806480"/>
              </a:tblGrid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ighborh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ls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ast Vill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eenwi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ls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ast Vill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eenw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wer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li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atpa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ion 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97A-2832-4D5B-A679-B16341B6C9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ividual Preferen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del takes into account each of the following preferences for everyone in the gro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 of Cuis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, Service and Décor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Blocks from Sub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05720" y="3048120"/>
            <a:ext cx="1847880" cy="25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820-B04F-4ED3-AF7F-9B04288E30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8120" y="3657600"/>
            <a:ext cx="5410080" cy="1523880"/>
          </a:xfrm>
          <a:prstGeom prst="rect">
            <a:avLst/>
          </a:prstGeom>
          <a:gradFill rotWithShape="0">
            <a:gsLst>
              <a:gs pos="0">
                <a:srgbClr val="50581a"/>
              </a:gs>
              <a:gs pos="100000">
                <a:srgbClr val="afbf39"/>
              </a:gs>
            </a:gsLst>
            <a:lin ang="54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1752480"/>
            <a:ext cx="5410080" cy="1524240"/>
          </a:xfrm>
          <a:prstGeom prst="rect">
            <a:avLst/>
          </a:prstGeom>
          <a:gradFill rotWithShape="0">
            <a:gsLst>
              <a:gs pos="0">
                <a:srgbClr val="50581a"/>
              </a:gs>
              <a:gs pos="100000">
                <a:srgbClr val="afbf39"/>
              </a:gs>
            </a:gsLst>
            <a:lin ang="5400000"/>
          </a:gra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del: User Inpu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828800"/>
            <a:ext cx="2286000" cy="1219320"/>
          </a:xfrm>
          <a:prstGeom prst="rightArrowCallout">
            <a:avLst>
              <a:gd name="adj1" fmla="val 25002"/>
              <a:gd name="adj2" fmla="val 25000"/>
              <a:gd name="adj3" fmla="val 31247"/>
              <a:gd name="adj4" fmla="val 66667"/>
            </a:avLst>
          </a:prstGeom>
          <a:gradFill rotWithShape="0">
            <a:gsLst>
              <a:gs pos="0">
                <a:srgbClr val="3b812f"/>
              </a:gs>
              <a:gs pos="50000">
                <a:srgbClr val="1b3b15"/>
              </a:gs>
              <a:gs pos="100000">
                <a:srgbClr val="3b81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809880"/>
            <a:ext cx="2286000" cy="1219320"/>
          </a:xfrm>
          <a:prstGeom prst="rightArrowCallout">
            <a:avLst>
              <a:gd name="adj1" fmla="val 25002"/>
              <a:gd name="adj2" fmla="val 25000"/>
              <a:gd name="adj3" fmla="val 31247"/>
              <a:gd name="adj4" fmla="val 66667"/>
            </a:avLst>
          </a:prstGeom>
          <a:gradFill rotWithShape="0">
            <a:gsLst>
              <a:gs pos="0">
                <a:srgbClr val="3b812f"/>
              </a:gs>
              <a:gs pos="50000">
                <a:srgbClr val="1b3b15"/>
              </a:gs>
              <a:gs pos="100000">
                <a:srgbClr val="3b81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114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75176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person in the group ranks the items in order of importance to them, from 1 to 8 with 1 being most important and 8 being lea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657600"/>
            <a:ext cx="54100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person in the group enters information about their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11F-2E33-469E-8A13-6F5D628580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ep 1:  Input Rankin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1532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ACB-5E90-45E1-B730-C1E9424D8A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3:28:15Z</dcterms:created>
  <dc:creator>Saima Bhatti</dc:creator>
  <dc:description/>
  <dc:language>en-US</dc:language>
  <cp:lastModifiedBy>Saima Bhatti</cp:lastModifiedBy>
  <dcterms:modified xsi:type="dcterms:W3CDTF">2005-05-02T21:00:51Z</dcterms:modified>
  <cp:revision>7</cp:revision>
  <dc:subject/>
  <dc:title>Slide 1</dc:title>
</cp:coreProperties>
</file>