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5001" t="17998" r="26250" b="230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grayscl/>
          </a:blip>
          <a:srcRect l="25001" t="18267" r="26250" b="23001"/>
          <a:stretch/>
        </p:blipFill>
        <p:spPr>
          <a:xfrm>
            <a:off x="0" y="762120"/>
            <a:ext cx="9220320" cy="48765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60958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nkGothic Md BT"/>
              </a:rPr>
              <a:t>Anton Diener     *     Gary Jan     *     Vinaya Krish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nkGothic Md B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ankGothic Md B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7136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153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7"/>
          <a:srcRect l="29471" t="17998" r="29908" b="23001"/>
          <a:stretch/>
        </p:blipFill>
        <p:spPr>
          <a:xfrm>
            <a:off x="1752480" y="0"/>
            <a:ext cx="7391520" cy="6934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Solution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nimizing the objective function, we find 30,000 in total penalties relating to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 months with over 10 different operas being performed (20,000 penalt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 opera exceeding its maximum # of performances per season (10,000 penalt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utput: a full season schedule is derived using VLOOKU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Output: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The Met’s 2005-06 Schedule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1897200"/>
            <a:ext cx="89154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165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" descr=""/>
          <p:cNvPicPr/>
          <p:nvPr/>
        </p:nvPicPr>
        <p:blipFill>
          <a:blip r:embed="rId7"/>
          <a:srcRect l="29471" t="17998" r="29908" b="23001"/>
          <a:stretch/>
        </p:blipFill>
        <p:spPr>
          <a:xfrm>
            <a:off x="1752480" y="0"/>
            <a:ext cx="7391520" cy="6934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Conclusions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4760" y="15235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Business Applications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anagement can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uickly arrive at a base schedul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termine number of productions necessary to fulfill inputs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just penalty levels to reflect prioriti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ssess viability of its preferences/inputs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odel Extens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oritize specific performance dates to maximize profitability (e.g. popular productions on Friday/Saturday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corporate revenue and cost parameters to adhere to budget constraint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strict operas to a 1-2 month performance run to minimize storage and transport cost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81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Problem Definition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Metropolitan Opera is in the process of scheduling its 2005-2006 opera season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t plans to offer 26 different opera productions during the sea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e need to determine an optimal season schedule that best meets management’s various requir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90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" descr=""/>
          <p:cNvPicPr/>
          <p:nvPr/>
        </p:nvPicPr>
        <p:blipFill>
          <a:blip r:embed="rId7"/>
          <a:srcRect l="29471" t="17998" r="29908" b="23001"/>
          <a:stretch/>
        </p:blipFill>
        <p:spPr>
          <a:xfrm>
            <a:off x="1752480" y="0"/>
            <a:ext cx="7391520" cy="6934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Assumptions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7400" y="160020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 performances on Sun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ason is 28 weeks lo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month is exactly 4 weeks lo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 is 1 performance per day, Monday through Frid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 Saturdays, there are both matinee and night performanc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 operas are categorized as either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1) Premier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2) New Production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3) Repertory – High Interest, 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4) Repertory – Low Interes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100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7"/>
          <a:srcRect l="29471" t="17998" r="29908" b="23001"/>
          <a:stretch/>
        </p:blipFill>
        <p:spPr>
          <a:xfrm>
            <a:off x="1752480" y="0"/>
            <a:ext cx="7391520" cy="6934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Formulation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410080"/>
            <a:ext cx="7617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5410080"/>
            <a:ext cx="6629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6 operas need to be scheduled to fill the entire opera season (7 performances a week for 28 weeks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nimize “penalties” associated with not meeting management’s 7 scheduling requirement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n 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∑ 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Where P = P1 + P2 + P3 + P4 + P5 + P6 + P7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5410080"/>
            <a:ext cx="7617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113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" descr=""/>
          <p:cNvPicPr/>
          <p:nvPr/>
        </p:nvPicPr>
        <p:blipFill>
          <a:blip r:embed="rId7"/>
          <a:srcRect l="29471" t="17998" r="29908" b="23001"/>
          <a:stretch/>
        </p:blipFill>
        <p:spPr>
          <a:xfrm>
            <a:off x="1752480" y="0"/>
            <a:ext cx="7391520" cy="6934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Constraints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2743200" y="4495680"/>
            <a:ext cx="5257800" cy="181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05120" y="1676520"/>
            <a:ext cx="7086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cision variables must be inte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numbers are assigned to the 26 ope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cision variables &gt;=1 and &lt;=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re is a minimum # of required performances for each ope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124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7"/>
          <a:srcRect l="29471" t="17998" r="29908" b="23001"/>
          <a:stretch/>
        </p:blipFill>
        <p:spPr>
          <a:xfrm>
            <a:off x="1752480" y="0"/>
            <a:ext cx="7391520" cy="6934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0200" y="6019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Management can adjust penalty levels to reflec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19920" y="5394240"/>
            <a:ext cx="2666880" cy="62568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Management’s Inputs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1905120" y="1752480"/>
            <a:ext cx="71625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1752480" cy="6858000"/>
            <a:chOff x="0" y="0"/>
            <a:chExt cx="1752480" cy="6858000"/>
          </a:xfrm>
        </p:grpSpPr>
        <p:pic>
          <p:nvPicPr>
            <p:cNvPr id="136" name="" descr="Die Walkür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Otello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175248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Madama Butterfly"/>
            <p:cNvPicPr/>
            <p:nvPr/>
          </p:nvPicPr>
          <p:blipFill>
            <a:blip r:embed="rId3"/>
            <a:stretch/>
          </p:blipFill>
          <p:spPr>
            <a:xfrm>
              <a:off x="0" y="2333520"/>
              <a:ext cx="1752480" cy="9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I Vespri Siciliani"/>
            <p:cNvPicPr/>
            <p:nvPr/>
          </p:nvPicPr>
          <p:blipFill>
            <a:blip r:embed="rId4"/>
            <a:stretch/>
          </p:blipFill>
          <p:spPr>
            <a:xfrm>
              <a:off x="0" y="1163520"/>
              <a:ext cx="175248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Tannhäuser"/>
            <p:cNvPicPr/>
            <p:nvPr/>
          </p:nvPicPr>
          <p:blipFill>
            <a:blip r:embed="rId5"/>
            <a:stretch/>
          </p:blipFill>
          <p:spPr>
            <a:xfrm>
              <a:off x="0" y="5686560"/>
              <a:ext cx="175248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Il Barbiere di Siviglia"/>
            <p:cNvPicPr/>
            <p:nvPr/>
          </p:nvPicPr>
          <p:blipFill>
            <a:blip r:embed="rId6"/>
            <a:stretch/>
          </p:blipFill>
          <p:spPr>
            <a:xfrm>
              <a:off x="0" y="3352680"/>
              <a:ext cx="1752480" cy="11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" descr=""/>
          <p:cNvPicPr/>
          <p:nvPr/>
        </p:nvPicPr>
        <p:blipFill>
          <a:blip r:embed="rId7"/>
          <a:srcRect l="29471" t="17998" r="29908" b="23001"/>
          <a:stretch/>
        </p:blipFill>
        <p:spPr>
          <a:xfrm>
            <a:off x="1752480" y="0"/>
            <a:ext cx="7391520" cy="6934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426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Solution Methodology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1752480"/>
            <a:ext cx="7086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 Evolutionary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ltiple solutions, and standard solver wouldn't necessarily pick the optimal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nimize objective: Total Penalt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rcRect l="29211" t="25004" r="34838" b="44003"/>
          <a:stretch/>
        </p:blipFill>
        <p:spPr>
          <a:xfrm>
            <a:off x="3048120" y="4038480"/>
            <a:ext cx="472428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The Model (Part I)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2600" y="5281560"/>
            <a:ext cx="8577360" cy="1271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6104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BankGothic Md BT"/>
              </a:rPr>
              <a:t>The Model (Part II)</a:t>
            </a:r>
            <a:endParaRPr b="0" lang="en-US" sz="4000" spc="-1" strike="noStrike" u="sng">
              <a:solidFill>
                <a:srgbClr val="000000"/>
              </a:solidFill>
              <a:uFillTx/>
              <a:latin typeface="BankGothic Md B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0000" t="-5330" r="0" b="0"/>
          <a:stretch/>
        </p:blipFill>
        <p:spPr>
          <a:xfrm>
            <a:off x="1143000" y="1066680"/>
            <a:ext cx="6781680" cy="22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452600"/>
            <a:ext cx="861048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1:40:02Z</dcterms:created>
  <dc:creator>Vinaya Krishnan</dc:creator>
  <dc:description/>
  <dc:language>en-US</dc:language>
  <cp:lastModifiedBy> </cp:lastModifiedBy>
  <dcterms:modified xsi:type="dcterms:W3CDTF">2005-04-25T18:34:36Z</dcterms:modified>
  <cp:revision>32</cp:revision>
  <dc:subject/>
  <dc:title>Slide 1</dc:title>
</cp:coreProperties>
</file>