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7.wmf" ContentType="image/x-wmf"/>
  <Override PartName="/ppt/media/image13.wmf" ContentType="image/x-wmf"/>
  <Override PartName="/ppt/media/image4.jpeg" ContentType="image/jpeg"/>
  <Override PartName="/ppt/media/image10.wmf" ContentType="image/x-wmf"/>
  <Override PartName="/ppt/media/image11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090-BA3B-4EDE-884E-2B9872A5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5E9-3237-43AD-8BCC-F456710C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92C-5E54-47E4-843A-92E6B0C7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74D-BB98-4818-AEDC-ED72286F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9AEF-30B6-4EE7-8943-1830FAE4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E674-055D-4DD1-AF17-21726BB3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7C52-078A-42F2-8776-66B97CEE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A442-60DF-486E-A6B5-EF4EF96F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C2FD-756E-4B3B-9D02-C88619A1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CBED-416A-4CB7-A2F4-E927A39D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8389-1412-46FC-ABA2-9FDEBE9D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D0F-FB51-4C13-A069-3197CD94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7759-5CB1-497B-B21B-8BC0E40E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C7AF-49C2-44A9-BEC7-8CD57EFF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4FC9-EA9B-4147-B9AF-16D770AC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E7C2-5405-42B9-8922-93BD19DF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D7B6-B45C-4C88-9924-9D02B1F4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A2D-309A-47C8-94AF-0FC3F1CD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E13-113C-4469-BA19-4C246564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6D6-154C-4CDE-866D-D9C5ED4E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BDFD-F7BA-4BFA-A7C8-7703B971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24D-B2E2-47B6-8B08-9569E39B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6DC-56BC-423A-844F-CEE7AE09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405-758E-48A1-95A1-9BB443A1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92DD-D5B7-42B1-AB51-20E99D2B787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CD3A-A9EF-4935-AA32-09E9AB466D3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How to Optimize A Stern Graduate’s Summer Brea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Lesson in Leis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5024520"/>
            <a:ext cx="27432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effrey Birnba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ya Br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ric Br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l Cash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nica Wueb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 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Winn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dney!!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3505320"/>
            <a:ext cx="8991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86868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uster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ven your optimal choice of vacation spots, what other cities would you lik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ows other cities that are similar to the optimal choi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determine what factors lead to this choic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079960" y="4191120"/>
            <a:ext cx="2921040" cy="1879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0" t="0" r="0" b="17183"/>
          <a:stretch/>
        </p:blipFill>
        <p:spPr>
          <a:xfrm>
            <a:off x="1371600" y="4191120"/>
            <a:ext cx="3200400" cy="1836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634760" y="611028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ntonville, 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14320" y="6110280"/>
            <a:ext cx="24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rry Hill, N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419720" y="4114800"/>
            <a:ext cx="441936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371600"/>
            <a:ext cx="43434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uster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066680" y="2286000"/>
            <a:ext cx="1447200" cy="1218600"/>
            <a:chOff x="1066680" y="2286000"/>
            <a:chExt cx="1447200" cy="1218600"/>
          </a:xfrm>
        </p:grpSpPr>
        <p:sp>
          <p:nvSpPr>
            <p:cNvPr id="231" name=""/>
            <p:cNvSpPr/>
            <p:nvPr/>
          </p:nvSpPr>
          <p:spPr>
            <a:xfrm>
              <a:off x="1066680" y="2286000"/>
              <a:ext cx="1440360" cy="121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1066680" y="2286000"/>
                  <a:ext cx="1447200" cy="10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Y</m:t>
                          </m:r>
                          <m:r>
                            <m:t xml:space="preserve">−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num>
                        <m:den>
                          <m:r>
                            <m:t xml:space="preserve">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33" name=""/>
          <p:cNvGraphicFramePr/>
          <p:nvPr/>
        </p:nvGraphicFramePr>
        <p:xfrm>
          <a:off x="4495680" y="1447920"/>
          <a:ext cx="4214880" cy="226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447920"/>
                    <a:ext cx="421488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457200" y="12193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3733920"/>
            <a:ext cx="39625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Define ten “most typical” cluster ce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495680" y="4218120"/>
          <a:ext cx="4267440" cy="2182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218120"/>
                    <a:ext cx="426744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952880" y="1371600"/>
            <a:ext cx="403884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uster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724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ep 3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Determined the sum of the square of distances between each city and the ten cluster center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396252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ep 4: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each city,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ose th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imum distance to a cluster as that’s city’s clu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ep 5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Minimized the total sum of squared distances using Evolutionary 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029200" y="1447920"/>
          <a:ext cx="3855960" cy="237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385596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800600" y="1676520"/>
            <a:ext cx="1295280" cy="213336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High Price Hot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Med.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1676520"/>
            <a:ext cx="1295280" cy="213336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No Golf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No Party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96080" y="1676520"/>
            <a:ext cx="1295640" cy="213336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English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Bea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4114800"/>
            <a:ext cx="1295280" cy="21337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High Air Tra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Small C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114800"/>
            <a:ext cx="1295640" cy="21337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Mod. Hotel Prices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Near UNES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4114800"/>
            <a:ext cx="1295280" cy="21337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Great Weather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Bea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4114800"/>
            <a:ext cx="1295280" cy="21337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Near UNESCO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Partying Op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96080" y="4114800"/>
            <a:ext cx="1295640" cy="21337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Good Weather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Bea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1676520"/>
            <a:ext cx="1295640" cy="213336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Air Trave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Moderate Safe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05120" y="1676520"/>
            <a:ext cx="1295280" cy="213336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Hotel Prices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Bea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f you liked this trip 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1600200"/>
            <a:ext cx="1295280" cy="175248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752480"/>
              <a:gd name="textAreaBottom" fmla="*/ 1689480 h 1752480"/>
            </a:gdLst>
            <a:ahLst/>
            <a:rect l="textAreaLeft" t="textAreaTop" r="textAreaRight" b="textAreaBottom"/>
            <a:pathLst>
              <a:path w="21600" h="29222">
                <a:moveTo>
                  <a:pt x="3600" y="0"/>
                </a:moveTo>
                <a:arcTo wR="3600" hR="3600" stAng="16200000" swAng="-5400000"/>
                <a:lnTo>
                  <a:pt x="0" y="25622"/>
                </a:lnTo>
                <a:arcTo wR="3600" hR="3600" stAng="10800000" swAng="-5400000"/>
                <a:lnTo>
                  <a:pt x="18000" y="29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05120" y="2057400"/>
            <a:ext cx="12952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b76"/>
                </a:solidFill>
                <a:latin typeface="Verdana"/>
              </a:rPr>
              <a:t>Buenos Ai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52680" y="1600200"/>
            <a:ext cx="1295640" cy="175248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752480"/>
              <a:gd name="textAreaBottom" fmla="*/ 1689480 h 1752480"/>
            </a:gdLst>
            <a:ahLst/>
            <a:rect l="textAreaLeft" t="textAreaTop" r="textAreaRight" b="textAreaBottom"/>
            <a:pathLst>
              <a:path w="21600" h="29214">
                <a:moveTo>
                  <a:pt x="3600" y="0"/>
                </a:moveTo>
                <a:arcTo wR="3600" hR="3600" stAng="16200000" swAng="-5400000"/>
                <a:lnTo>
                  <a:pt x="0" y="25614"/>
                </a:lnTo>
                <a:arcTo wR="3600" hR="3600" stAng="10800000" swAng="-5400000"/>
                <a:lnTo>
                  <a:pt x="18000" y="29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Kuwait C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2057400"/>
            <a:ext cx="129564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Duba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1600200"/>
            <a:ext cx="1295280" cy="175248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752480"/>
              <a:gd name="textAreaBottom" fmla="*/ 1689480 h 1752480"/>
            </a:gdLst>
            <a:ahLst/>
            <a:rect l="textAreaLeft" t="textAreaTop" r="textAreaRight" b="textAreaBottom"/>
            <a:pathLst>
              <a:path w="21600" h="29222">
                <a:moveTo>
                  <a:pt x="3600" y="0"/>
                </a:moveTo>
                <a:arcTo wR="3600" hR="3600" stAng="16200000" swAng="-5400000"/>
                <a:lnTo>
                  <a:pt x="0" y="25622"/>
                </a:lnTo>
                <a:arcTo wR="3600" hR="3600" stAng="10800000" swAng="-5400000"/>
                <a:lnTo>
                  <a:pt x="18000" y="29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Lond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00600" y="2057400"/>
            <a:ext cx="12952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1600200"/>
            <a:ext cx="1295280" cy="175248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752480"/>
              <a:gd name="textAreaBottom" fmla="*/ 1689480 h 1752480"/>
            </a:gdLst>
            <a:ahLst/>
            <a:rect l="textAreaLeft" t="textAreaTop" r="textAreaRight" b="textAreaBottom"/>
            <a:pathLst>
              <a:path w="21600" h="29222">
                <a:moveTo>
                  <a:pt x="3600" y="0"/>
                </a:moveTo>
                <a:arcTo wR="3600" hR="3600" stAng="16200000" swAng="-5400000"/>
                <a:lnTo>
                  <a:pt x="0" y="25622"/>
                </a:lnTo>
                <a:arcTo wR="3600" hR="3600" stAng="10800000" swAng="-5400000"/>
                <a:lnTo>
                  <a:pt x="18000" y="29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Bentonvil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2057400"/>
            <a:ext cx="12952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Cherry Hi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Anchorag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Zanziba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Florenc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96080" y="1600200"/>
            <a:ext cx="1295640" cy="175248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752480"/>
              <a:gd name="textAreaBottom" fmla="*/ 1689480 h 1752480"/>
            </a:gdLst>
            <a:ahLst/>
            <a:rect l="textAreaLeft" t="textAreaTop" r="textAreaRight" b="textAreaBottom"/>
            <a:pathLst>
              <a:path w="21600" h="29214">
                <a:moveTo>
                  <a:pt x="3600" y="0"/>
                </a:moveTo>
                <a:arcTo wR="3600" hR="3600" stAng="16200000" swAng="-5400000"/>
                <a:lnTo>
                  <a:pt x="0" y="25614"/>
                </a:lnTo>
                <a:arcTo wR="3600" hR="3600" stAng="10800000" swAng="-5400000"/>
                <a:lnTo>
                  <a:pt x="18000" y="29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Vancouv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96080" y="2057400"/>
            <a:ext cx="129564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b76"/>
                </a:solidFill>
                <a:latin typeface="Verdana"/>
              </a:rPr>
              <a:t>Sydn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b76"/>
                </a:solidFill>
                <a:latin typeface="Verdana"/>
              </a:rPr>
              <a:t>Nassa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b76"/>
                </a:solidFill>
                <a:latin typeface="Verdana"/>
              </a:rPr>
              <a:t>Miam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4038480"/>
            <a:ext cx="1295280" cy="175284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752840"/>
              <a:gd name="textAreaBottom" fmla="*/ 1689840 h 1752840"/>
            </a:gdLst>
            <a:ahLst/>
            <a:rect l="textAreaLeft" t="textAreaTop" r="textAreaRight" b="textAreaBottom"/>
            <a:pathLst>
              <a:path w="21600" h="29228">
                <a:moveTo>
                  <a:pt x="3600" y="0"/>
                </a:moveTo>
                <a:arcTo wR="3600" hR="3600" stAng="16200000" swAng="-5400000"/>
                <a:lnTo>
                  <a:pt x="0" y="25628"/>
                </a:lnTo>
                <a:arcTo wR="3600" hR="3600" stAng="10800000" swAng="-5400000"/>
                <a:lnTo>
                  <a:pt x="18000" y="29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Tahit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495680"/>
            <a:ext cx="1295280" cy="129564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295640"/>
              <a:gd name="textAreaBottom" fmla="*/ 1232640 h 129564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4038480"/>
            <a:ext cx="1295640" cy="17528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752840"/>
              <a:gd name="textAreaBottom" fmla="*/ 1689840 h 1752840"/>
            </a:gdLst>
            <a:ahLst/>
            <a:rect l="textAreaLeft" t="textAreaTop" r="textAreaRight" b="textAreaBottom"/>
            <a:pathLst>
              <a:path w="21600" h="29220">
                <a:moveTo>
                  <a:pt x="3600" y="0"/>
                </a:moveTo>
                <a:arcTo wR="3600" hR="3600" stAng="16200000" swAng="-5400000"/>
                <a:lnTo>
                  <a:pt x="0" y="25620"/>
                </a:lnTo>
                <a:arcTo wR="3600" hR="3600" stAng="10800000" swAng="-5400000"/>
                <a:lnTo>
                  <a:pt x="18000" y="292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Ho Chi Mi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4495680"/>
            <a:ext cx="1295640" cy="129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Cape Tow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Beij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Cair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4038480"/>
            <a:ext cx="1295280" cy="175284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752840"/>
              <a:gd name="textAreaBottom" fmla="*/ 1689840 h 1752840"/>
            </a:gdLst>
            <a:ahLst/>
            <a:rect l="textAreaLeft" t="textAreaTop" r="textAreaRight" b="textAreaBottom"/>
            <a:pathLst>
              <a:path w="21600" h="29228">
                <a:moveTo>
                  <a:pt x="3600" y="0"/>
                </a:moveTo>
                <a:arcTo wR="3600" hR="3600" stAng="16200000" swAng="-5400000"/>
                <a:lnTo>
                  <a:pt x="0" y="25628"/>
                </a:lnTo>
                <a:arcTo wR="3600" hR="3600" stAng="10800000" swAng="-5400000"/>
                <a:lnTo>
                  <a:pt x="18000" y="29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Tel Aviv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4495680"/>
            <a:ext cx="1295280" cy="129564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295640"/>
              <a:gd name="textAreaBottom" fmla="*/ 1232640 h 129564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48520" y="4038480"/>
            <a:ext cx="1295280" cy="175284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752840"/>
              <a:gd name="textAreaBottom" fmla="*/ 1689840 h 1752840"/>
            </a:gdLst>
            <a:ahLst/>
            <a:rect l="textAreaLeft" t="textAreaTop" r="textAreaRight" b="textAreaBottom"/>
            <a:pathLst>
              <a:path w="21600" h="29228">
                <a:moveTo>
                  <a:pt x="3600" y="0"/>
                </a:moveTo>
                <a:arcTo wR="3600" hR="3600" stAng="16200000" swAng="-5400000"/>
                <a:lnTo>
                  <a:pt x="0" y="25628"/>
                </a:lnTo>
                <a:arcTo wR="3600" hR="3600" stAng="10800000" swAng="-5400000"/>
                <a:lnTo>
                  <a:pt x="18000" y="29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Pragu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248520" y="4495680"/>
            <a:ext cx="1295280" cy="129564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295640"/>
              <a:gd name="textAreaBottom" fmla="*/ 1232640 h 129564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Moscow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Pari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Bangko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Go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4038480"/>
            <a:ext cx="1295640" cy="17528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752840"/>
              <a:gd name="textAreaBottom" fmla="*/ 1689840 h 1752840"/>
            </a:gdLst>
            <a:ahLst/>
            <a:rect l="textAreaLeft" t="textAreaTop" r="textAreaRight" b="textAreaBottom"/>
            <a:pathLst>
              <a:path w="21600" h="29220">
                <a:moveTo>
                  <a:pt x="3600" y="0"/>
                </a:moveTo>
                <a:arcTo wR="3600" hR="3600" stAng="16200000" swAng="-5400000"/>
                <a:lnTo>
                  <a:pt x="0" y="25620"/>
                </a:lnTo>
                <a:arcTo wR="3600" hR="3600" stAng="10800000" swAng="-5400000"/>
                <a:lnTo>
                  <a:pt x="18000" y="292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an Jos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495680"/>
            <a:ext cx="1295640" cy="129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Cancu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Split (Hvar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Athe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Ibiz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1600200"/>
            <a:ext cx="144792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u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2209680"/>
            <a:ext cx="144792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Sim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C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3429000"/>
            <a:ext cx="144792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4038480"/>
            <a:ext cx="144792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u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4648320"/>
            <a:ext cx="144792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Sim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C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5867280"/>
            <a:ext cx="1447920" cy="381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447920"/>
            <a:ext cx="0" cy="4952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641600"/>
            <a:ext cx="8610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ff just realized he’s afraid of flying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 else wants to come on our trip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st be familiar with numbers 1-10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ll we still go to Sydne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44197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 is Sydney so gre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4952880"/>
            <a:ext cx="8610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aches, golf, English, partying,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, high airfare and mediocre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om for Improv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and list of ci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ndardize variable measure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ather variable is scaled, others are bina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nk beach variable to good weath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d additional variab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: distance from NYC, friends in the area?, restaurant op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world-rmap" descr=""/>
          <p:cNvPicPr/>
          <p:nvPr/>
        </p:nvPicPr>
        <p:blipFill>
          <a:blip r:embed="rId1"/>
          <a:srcRect l="0" t="0" r="0" b="19338"/>
          <a:stretch/>
        </p:blipFill>
        <p:spPr>
          <a:xfrm>
            <a:off x="228600" y="1395360"/>
            <a:ext cx="8686800" cy="3710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48320" y="2514600"/>
            <a:ext cx="11880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388620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2590920"/>
            <a:ext cx="118800" cy="118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6040" y="266688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342900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262404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10040" y="445284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285264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2286000"/>
            <a:ext cx="11880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2362320"/>
            <a:ext cx="119160" cy="118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24680" y="434340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270036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312408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228600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2057400"/>
            <a:ext cx="11880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312408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56386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udents need to burn more cash before they enter the “real” world.  But where to g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agerial Problem Defin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ulation of the Solu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el Overvi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monst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rove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&amp;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the 10 people in our study, Sydney was the optimal choice for a post-graduation tri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1392120" cy="1726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1836720" cy="1722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1298520" cy="1731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791320" y="2616120"/>
            <a:ext cx="1238040" cy="1727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7315200" y="2610000"/>
            <a:ext cx="1417680" cy="1733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9480" y="4724280"/>
            <a:ext cx="8153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xt best op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ncouver, Nassau, Mia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nagerial Problem Defi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ern graduates are tired of all the work they’ve had to do for two yea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need a vacation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considering where to go, the typical student may consider variables such a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jectiv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ximize subjective benefits from trip while minimizing potential costs and ris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3500280"/>
            <a:ext cx="2514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T ticket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tel pric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eather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350028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rtying o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ESCO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ty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350028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glish-spe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aches Near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af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ulation of the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cision Variab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0 c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 potential scoring variables/ 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trai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 one can go on more than one tr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veryone must go on the same tr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581280" y="5116680"/>
            <a:ext cx="2590920" cy="1751400"/>
            <a:chOff x="3581280" y="5116680"/>
            <a:chExt cx="2590920" cy="1751400"/>
          </a:xfrm>
        </p:grpSpPr>
        <p:sp>
          <p:nvSpPr>
            <p:cNvPr id="196" name=""/>
            <p:cNvSpPr/>
            <p:nvPr/>
          </p:nvSpPr>
          <p:spPr>
            <a:xfrm>
              <a:off x="3657600" y="5116680"/>
              <a:ext cx="251460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Verdana"/>
                </a:rPr>
                <a:t>Cost</a:t>
              </a: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RT ticket pr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Hotel pric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1280" y="5116680"/>
              <a:ext cx="2133720" cy="1066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80880" y="3257640"/>
            <a:ext cx="3200400" cy="2157120"/>
            <a:chOff x="380880" y="3257640"/>
            <a:chExt cx="3200400" cy="2157120"/>
          </a:xfrm>
        </p:grpSpPr>
        <p:sp>
          <p:nvSpPr>
            <p:cNvPr id="199" name=""/>
            <p:cNvSpPr/>
            <p:nvPr/>
          </p:nvSpPr>
          <p:spPr>
            <a:xfrm>
              <a:off x="380880" y="3257640"/>
              <a:ext cx="320040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Verdana"/>
                </a:rPr>
                <a:t>Amenities/Convenience</a:t>
              </a: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Gol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UNESCO World Heritage Si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Beaches nearb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English-speak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880" y="3333600"/>
              <a:ext cx="3200400" cy="167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715000" y="3314880"/>
            <a:ext cx="2514600" cy="1594800"/>
            <a:chOff x="5715000" y="3314880"/>
            <a:chExt cx="2514600" cy="1594800"/>
          </a:xfrm>
        </p:grpSpPr>
        <p:sp>
          <p:nvSpPr>
            <p:cNvPr id="202" name=""/>
            <p:cNvSpPr/>
            <p:nvPr/>
          </p:nvSpPr>
          <p:spPr>
            <a:xfrm>
              <a:off x="5715000" y="3398400"/>
              <a:ext cx="2514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Verdana"/>
                </a:rPr>
                <a:t>Conditions</a:t>
              </a: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Weather qua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City Siz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Safe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Partying Op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5000" y="3314880"/>
              <a:ext cx="2514600" cy="1594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V="1">
            <a:off x="3809880" y="419112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 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ep 1: All the travelers determine their preferences among 10 variab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52280" y="2928960"/>
            <a:ext cx="88394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 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4038480"/>
            <a:ext cx="89917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ep 2: For each traveler, we multiplied their preferences against the variables assigned to each city to come up with each person’s total score for every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62080" y="4191120"/>
            <a:ext cx="88056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280" y="4191120"/>
            <a:ext cx="8763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 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ep 3: We added up each traveler’s scores to get a Total Score for each c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8600" y="4314960"/>
            <a:ext cx="86104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20:09:56Z</dcterms:created>
  <dc:creator>Stern School of Business</dc:creator>
  <dc:description/>
  <dc:language>en-US</dc:language>
  <cp:lastModifiedBy>Stern School of Business</cp:lastModifiedBy>
  <dcterms:modified xsi:type="dcterms:W3CDTF">2005-05-02T17:07:43Z</dcterms:modified>
  <cp:revision>38</cp:revision>
  <dc:subject/>
  <dc:title>How to Optimize A Stern Graduate’s Summer Break</dc:title>
</cp:coreProperties>
</file>