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BD06-1A64-4661-8678-5CFB2449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rt of New York Authority was established to administer the common harbor interests of New York and New Jers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ea of jurisdiction called the "Port District," a bistate region of about 1,500 square miles centered on the Statue of Liberty, was establish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rt Authority of New York and New Jersey manages and maintains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884D-1FA1-4F7A-AE5A-D056B121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CB67-7251-4FAB-82C2-3626A9A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CFF4-769E-42D8-903D-F2D5D8FC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71FD-B40C-4C0E-A270-29FC6832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5A13-CBF2-4738-9237-3C1A4FA0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E5A5-B3A3-4C83-8C1C-90433B4A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9C85-9908-4A84-9E9B-CDD6ADBF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3FC7-7F19-4B5A-89C8-4C5C56CA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F389-A613-47A0-AEBD-8FE5B4A3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F326-9716-41CD-A258-4E29A850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E322-C3E9-4C7C-BAE8-AA37F1B2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20ED-CDB4-43FC-A18C-E9FA031F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F86C-5A8F-436F-8384-0441F3C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37B6-1002-40BB-A499-9FB4C13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2F3B-38CA-4130-85C0-2BA79EC7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840D-C993-44DA-AC7F-0FC4F712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6FA1-87C0-4C15-B918-9B32AC3F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45FE-E50F-4896-8609-716A791D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BB5E-0854-4091-B4E8-FC715BB3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EFA4-F6EF-4D8A-8B02-6CDB3A6C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9F3F-6FD7-422F-9561-4E89AC09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6CF0-F343-4FA2-8038-EF4B50A0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FD94-6846-44E4-BBF2-A1B83D6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AE3B-160B-49D4-BF69-7550D48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607D-65D4-4243-B808-EE5EC1A3A9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556272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0" y="1447920"/>
            <a:ext cx="9144000" cy="759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304920" y="5791320"/>
          <a:ext cx="1143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791320"/>
                    <a:ext cx="114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" name=""/>
          <p:cNvGraphicFramePr/>
          <p:nvPr/>
        </p:nvGraphicFramePr>
        <p:xfrm>
          <a:off x="7620120" y="5715000"/>
          <a:ext cx="1257120" cy="92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5715000"/>
                    <a:ext cx="12571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" name="" descr=""/>
          <p:cNvPicPr/>
          <p:nvPr/>
        </p:nvPicPr>
        <p:blipFill>
          <a:blip r:embed="rId6"/>
          <a:stretch/>
        </p:blipFill>
        <p:spPr>
          <a:xfrm>
            <a:off x="1523880" y="5638680"/>
            <a:ext cx="6019920" cy="96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1745-9916-4D11-9730-B604CD7C6A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dtowngreenway.org/programs/transit/Trolley_Study_HTML/8operatingcosts.htm" TargetMode="External"/><Relationship Id="rId2" Type="http://schemas.openxmlformats.org/officeDocument/2006/relationships/hyperlink" Target="http://www.lightrailnow.org/news/n_hou007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anynj.gov/AboutthePortAuthority/InvestorRelations/AnnualReport/pdfs/2003_Annual_Report.pd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763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TH Trai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[Path system map]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Solution Methodology (cont.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ty four-hour simulations were run for train frequencies from 5 min. to 30 min. in one minute inc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clusion &amp;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1447920"/>
          <a:ext cx="65530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65530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clusion &amp;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al frequency: 11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profits fairly stable for frequencies between 11 min and 18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p drop in profit after 23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sensitive to input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0040" y="2819520"/>
            <a:ext cx="23367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Outlin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and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5638680"/>
            <a:ext cx="60199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Authority of New York and New Jers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6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pril 30, 192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6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risdiction (“Port District”): 1500 sq. mi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6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ridges, tunnels, bus terminals, PATH, airports, marine termina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5791320"/>
          <a:ext cx="1143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791320"/>
                    <a:ext cx="114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0120" y="5715000"/>
          <a:ext cx="125712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5715000"/>
                    <a:ext cx="12571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Managerial Probl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mize the frequency of the PATH train for a particular route from Hoboken to World Trade Center (WTC), based on the weekday peak hour de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ize operating profit given the passenger waiting cost, operating cost per trip and maximum train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205236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Formul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ision variabl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often to run the 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ize profit, $1.5/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enger waiting cost: 1.6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ng cost of the train per trip: $280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. train capacity: 200/traincar**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×10 c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. train frequency: 5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60199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1828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0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midtowngreenway.org/programs/transit/Trolley_Study_HTML/8operatingcosts.htm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  **</a:t>
            </a:r>
            <a:r>
              <a:rPr b="0" lang="en-US" sz="10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lightrailnow.org/news/n_hou007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Formulation (cont.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hour passenger arrival mea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boken: 2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port: 2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hange Place: 1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 of interarrival times is exponentially decr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 depots at both Hoboken and W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ssengers get off at W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33412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0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panynj.gov/AboutthePortAuthority/InvestorRelations/AnnualReport/pdfs/2003_Annual_Report.pd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Formulation (cont.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sumpt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length of trip: 3.5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 ti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boken - Newport: 4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port - Exchange Place: 4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Place - WTC: 3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s have large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or: trains, passen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ue, FIFO: 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tch (Variable): collect waiting passen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vity, Delay: trave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tant, Select Input, Subtract, Add, Decision: capacity constra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523880"/>
            <a:ext cx="914400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olution Methodology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4582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3:24:32Z</dcterms:created>
  <dc:creator>imaging</dc:creator>
  <dc:description/>
  <dc:language>en-US</dc:language>
  <cp:lastModifiedBy>imaging</cp:lastModifiedBy>
  <dcterms:modified xsi:type="dcterms:W3CDTF">2005-04-25T15:37:50Z</dcterms:modified>
  <cp:revision>11</cp:revision>
  <dc:subject/>
  <dc:title>Slide 1</dc:title>
</cp:coreProperties>
</file>