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8351-E4D7-4CAE-BE7B-2FA2208D9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rt of New York Authority was established to administer the common harbor interests of New York and New Jerse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rea of jurisdiction called the "Port District," a bistate region of about 1,500 square miles centered on the Statue of Liberty, was establish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rt Authority of New York and New Jersey manages and maintains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FAB1B-1262-44A2-A489-0F36CE4D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CE8F3-27E7-4B7C-A0F8-A9EC4B63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9757E-32C2-4CAB-966F-ED20B343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724D4-E596-4F8D-89B0-8D3F5D00C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BDF8-B344-4568-8C9C-CD6339B2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3208-7E71-4F85-9D99-32A8C144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51BF-44C7-46E0-9BDE-2D22828B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90E1-4F35-4E49-918C-1C349DC0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8D83-4361-434F-B6BB-325C9ED7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111E-9154-473A-8955-BE0EA2EE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6342-9E8C-4310-8E95-6AB2A3B3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08C6D-B1FD-47E5-A6D2-6E96E17C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C480-866A-47CD-9360-23DCA820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CC07-FE24-496D-A030-ABAFAAF8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C7D8-8480-4677-B151-3F4B18D2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8607-74AE-4C55-869D-DA3BDAEC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AF0B-9114-469B-A481-9DC0B9C74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24A1B-18D3-4EA5-8E94-F25D8D57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0CF32-0620-44CF-8AED-10500A14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13BF1-9A0B-4A3F-B90A-4D02A29F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1CA14-D1FF-4152-BBC0-822B4CA0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16C94-0121-4FFB-B582-8E000FCA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DCA95-CE93-40B2-B2B4-ABBD08A3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34AAA-17AB-4731-B5B0-9D34FD98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0D91-55E2-439A-BB03-D8B12F2C6E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556272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0" y="1447920"/>
            <a:ext cx="9144000" cy="759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" name=""/>
          <p:cNvGraphicFramePr/>
          <p:nvPr/>
        </p:nvGraphicFramePr>
        <p:xfrm>
          <a:off x="304920" y="5791320"/>
          <a:ext cx="114300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791320"/>
                    <a:ext cx="1143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" name=""/>
          <p:cNvGraphicFramePr/>
          <p:nvPr/>
        </p:nvGraphicFramePr>
        <p:xfrm>
          <a:off x="7620120" y="5715000"/>
          <a:ext cx="1257120" cy="925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0120" y="5715000"/>
                    <a:ext cx="125712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" name="" descr=""/>
          <p:cNvPicPr/>
          <p:nvPr/>
        </p:nvPicPr>
        <p:blipFill>
          <a:blip r:embed="rId6"/>
          <a:stretch/>
        </p:blipFill>
        <p:spPr>
          <a:xfrm>
            <a:off x="1523880" y="5638680"/>
            <a:ext cx="6019920" cy="96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261F-97CE-4D29-8824-66F37B49FD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idtowngreenway.org/programs/transit/Trolley_Study_HTML/8operatingcosts.htm" TargetMode="External"/><Relationship Id="rId2" Type="http://schemas.openxmlformats.org/officeDocument/2006/relationships/hyperlink" Target="http://www.lightrailnow.org/news/n_hou007.htm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anynj.gov/AboutthePortAuthority/InvestorRelations/AnnualReport/pdfs/2003_Annual_Report.pdf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828800" y="7632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ATH Train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[Path system map]"/>
          <p:cNvPicPr/>
          <p:nvPr/>
        </p:nvPicPr>
        <p:blipFill>
          <a:blip r:embed="rId1"/>
          <a:stretch/>
        </p:blipFill>
        <p:spPr>
          <a:xfrm>
            <a:off x="1752480" y="1295280"/>
            <a:ext cx="571500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cc00"/>
                </a:solidFill>
                <a:latin typeface="Arial"/>
              </a:rPr>
              <a:t>Solution Methodology (cont.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2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ty four-hour simulations were run for train frequencies from 5 min. to 30 min. in one minute inc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onclusion &amp; Recommend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00200" y="1447920"/>
          <a:ext cx="6553080" cy="414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447920"/>
                    <a:ext cx="6553080" cy="41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onclusion &amp; Recommend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010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al frequency: 11 m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ing profits fairly stable for frequencies between 11 min and 18 m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ep drop in profit after 23 m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 sensitive to input parame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200040" y="2819520"/>
            <a:ext cx="233676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5331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cc00"/>
                </a:solidFill>
                <a:latin typeface="Arial"/>
              </a:rPr>
              <a:t>Outlin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7524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rial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 Method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 and Recommend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3880" y="5638680"/>
            <a:ext cx="6019920" cy="9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cc00"/>
                </a:solidFill>
                <a:latin typeface="Arial"/>
              </a:rPr>
              <a:t>Introduct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904760"/>
            <a:ext cx="68580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6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 Authority of New York and New Jers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6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pril 30, 1921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6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Jurisdiction (“Port District”): 1500 sq. mil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6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Bridges, tunnels, bus terminals, PATH, airports, marine terminal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04920" y="5791320"/>
          <a:ext cx="114300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791320"/>
                    <a:ext cx="1143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7620120" y="5715000"/>
          <a:ext cx="125712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0120" y="5715000"/>
                    <a:ext cx="125712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cc00"/>
                </a:solidFill>
                <a:latin typeface="Arial"/>
              </a:rPr>
              <a:t>Managerial Problem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2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timize the frequency of the PATH train for a particular route from Hoboken to World Trade Center (WTC), based on the weekday peak hour dem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2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ximize operating profit given the passenger waiting cost, operating cost per trip and maximum train capac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705720" y="2057400"/>
            <a:ext cx="2052360" cy="26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cc00"/>
                </a:solidFill>
                <a:latin typeface="Arial"/>
              </a:rPr>
              <a:t>Formulat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cision variable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often to run the tr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bjectiv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ximize profit, $1.5/per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onstrai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ssenger waiting cost: 1.6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¢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ting cost of the train per trip: $280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x. train capacity: 200/traincar**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×10 c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in. train frequency: 5 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6019920"/>
            <a:ext cx="495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5318280"/>
            <a:ext cx="861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0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www.midtowngreenway.org/programs/transit/Trolley_Study_HTML/8operatingcosts.htm</a:t>
            </a: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  **</a:t>
            </a:r>
            <a:r>
              <a:rPr b="0" lang="en-US" sz="1000" spc="-1" strike="noStrike" u="sng">
                <a:solidFill>
                  <a:srgbClr val="3399ff"/>
                </a:solidFill>
                <a:uFillTx/>
                <a:latin typeface="Arial"/>
                <a:hlinkClick r:id="rId2"/>
              </a:rPr>
              <a:t>http://www.lightrailnow.org/news/n_hou007.ht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cc00"/>
                </a:solidFill>
                <a:latin typeface="Arial"/>
              </a:rPr>
              <a:t>Formulation (cont.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ssump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hour passenger arrival mean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boken: 20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port: 20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hange Place: 15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ribution of interarrival times is exponentially decrea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 depots at both Hoboken and W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passengers get off at W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5334120"/>
            <a:ext cx="640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0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www.panynj.gov/AboutthePortAuthority/InvestorRelations/AnnualReport/pdfs/2003_Annual_Report.pdf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cc00"/>
                </a:solidFill>
                <a:latin typeface="Arial"/>
              </a:rPr>
              <a:t>Formulation (cont.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ssumptions (cont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length of trip: 3.5 m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vel tim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boken - Newport: 4 m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port - Exchange Place: 4 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hange Place - WTC: 3 minu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ons have large capa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olution Method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end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nerator: trains, passeng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ueue, FIFO: s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tch (Variable): collect waiting passeng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ctivity, Delay: travel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stant, Select Input, Subtract, Add, Decision: capacity constra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1523880"/>
            <a:ext cx="9144000" cy="403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olution Methodology (cont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458200" cy="385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23:24:32Z</dcterms:created>
  <dc:creator>imaging</dc:creator>
  <dc:description/>
  <dc:language>en-US</dc:language>
  <cp:lastModifiedBy>imaging</cp:lastModifiedBy>
  <dcterms:modified xsi:type="dcterms:W3CDTF">2005-04-25T15:37:50Z</dcterms:modified>
  <cp:revision>11</cp:revision>
  <dc:subject/>
  <dc:title>Slide 1</dc:title>
</cp:coreProperties>
</file>