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539-BED9-4F2D-A895-531940C4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7E8-E15D-496B-A5A9-37CDE90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E56-AD40-4EBD-A655-53D12A1A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517-717C-40AF-B447-B9DAC7D0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A3F-3AAB-4568-8055-AE085AC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C70-9948-4A70-98DB-F03D25B1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A13-C06A-4037-AE90-56D1B6DB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C62-2ADA-4B22-971B-0B1279C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203-460D-45E0-8D0A-14FDAE9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435-6FE6-4DB9-ADE6-B45E01C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79F-C028-490B-BED6-8F91CCA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4C1-4935-4500-933E-C3352B9B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CEE-9E13-4E92-A80B-18B006FA05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cision Models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838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 Scheduling Course Offering -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3733920"/>
            <a:ext cx="2209680" cy="2248920"/>
          </a:xfrm>
          <a:prstGeom prst="rect">
            <a:avLst/>
          </a:prstGeom>
          <a:noFill/>
          <a:ln w="38160">
            <a:solidFill>
              <a:srgbClr val="00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324000" bIns="3240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Jisong Soh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e Won Pa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in X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anfei Ko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imeng L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29070"/>
          <a:stretch/>
        </p:blipFill>
        <p:spPr>
          <a:xfrm>
            <a:off x="762120" y="1066680"/>
            <a:ext cx="33145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-1. Excel spreadsheet setu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4560" y="2171880"/>
          <a:ext cx="5057640" cy="179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171880"/>
                    <a:ext cx="50576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29560" y="2171880"/>
          <a:ext cx="1171440" cy="179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9560" y="2171880"/>
                    <a:ext cx="11714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81840" y="251460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83432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4560" y="4419720"/>
          <a:ext cx="5057640" cy="68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4560" y="4419720"/>
                    <a:ext cx="5057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-2. Excel spreadsheet setu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2057400"/>
          <a:ext cx="4762440" cy="180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47624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629400" y="2028960"/>
          <a:ext cx="1123920" cy="180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028960"/>
                    <a:ext cx="11239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152360" y="4191120"/>
          <a:ext cx="4762800" cy="68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191120"/>
                    <a:ext cx="476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28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83432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4. Resul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43040" y="1600200"/>
          <a:ext cx="7638840" cy="19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600200"/>
                    <a:ext cx="76388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er 14 courses in 7 langu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72 Students are expected to sign up for the cours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5. Next ste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approach for uncertainti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used a deterministic approach for possible sign-up of students.  A probabilistic approach may be more appropriat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 integrated mode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egrated model that decides the course offering and the teach assignment simultaneously may produce a better resul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survey constr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questionnaire can be constructed to better fit the decision model to be us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21000000">
            <a:off x="1068480" y="1645920"/>
            <a:ext cx="3581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21000000">
            <a:off x="3884400" y="1647720"/>
            <a:ext cx="3584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21000000">
            <a:off x="4019040" y="3352320"/>
            <a:ext cx="3581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21000000">
            <a:off x="1506600" y="3152880"/>
            <a:ext cx="358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. Managerial probl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plans to offer various language courses to students using outside vendor.  To be break-even, each class has to have at least 4 stud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considers offering courses in 7 languages (Mandarin, Cantonese, Korean, Japanese, German, French, &amp; Spanish) in different levels (total 18 classe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nguage courses can be offered in three time slots: 12:00 ~1:20, 4:30~5:50, and 6:00~7: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contacted an outside language institution and received information on teachers and their availability for each time slo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. Managerial problem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needs to decide the course offering schedule based on the survey result and the teachers’ availabiliti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wants to maximize the number of course offered and the number of students enrolled for language cour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wants to minimize course cancellation/addition after the sign-up period by designing a course offering schedule based on an assumption that everyone who showed interest in the survey will actually sign up for the courses when offer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 students showed interests in language courses in the survey – some of them showed interests in multiple courses and multiple time slo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-(1) Dat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085840"/>
          <a:ext cx="6658200" cy="29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85840"/>
                    <a:ext cx="66582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96080" y="2084400"/>
          <a:ext cx="866880" cy="29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084400"/>
                    <a:ext cx="866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294680" y="2419200"/>
            <a:ext cx="446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762440" y="-1685880"/>
            <a:ext cx="228600" cy="7162920"/>
          </a:xfrm>
          <a:custGeom>
            <a:avLst/>
            <a:gdLst>
              <a:gd name="textAreaLeft" fmla="*/ 0 w 228600"/>
              <a:gd name="textAreaRight" fmla="*/ 82440 w 228600"/>
              <a:gd name="textAreaTop" fmla="*/ 186480 h 7162920"/>
              <a:gd name="textAreaBottom" fmla="*/ 6976440 h 716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15238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8 classes X 3 time slo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5486400"/>
          <a:ext cx="6658200" cy="171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486400"/>
                    <a:ext cx="66582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58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96080" y="5467320"/>
          <a:ext cx="866880" cy="171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67320"/>
                    <a:ext cx="8668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4582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-(2) Dat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23920" y="3048120"/>
          <a:ext cx="413388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3048120"/>
                    <a:ext cx="41338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 teachers can be contracted to teach the cour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acher can teach any level of the courses offered in the langu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 offering: decide whether offer a course or no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inary variable / 0=not offered, 1=offer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assignment: one-to-one links between the classes and the available professor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the number of courses offer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ass should have at least 4 stud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s’ availa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Xi: binary variable representing the offering of clas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Yi: variable ranging from 1~18 representing the assigned teach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aximize Z=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Tahoma"/>
              </a:rPr>
              <a:t>ΣX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et Sji be Jth student’s interest for Ith course, the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Tahoma"/>
              </a:rPr>
              <a:t>ΣSji&gt;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et Tji be Jth teacher’s availability for Ith course, then if Yi=J, Tji=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odeling issue - Survey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howed interest on multiple courses on multiple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0,0,0,1,1,0,…, 0,1,0, … 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"/>
              </a:rPr>
              <a:t>1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0,0,0,1,1,1,0,0,0,0,0….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the courses were offered, students will take only one of the chosen courses or take the course at one time slo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certain rule in deciding the expected sign up for the courses and a penalty for multiple sign up by a student to a cou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. Solution Methodolog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-Stage Evolutionary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del have 36 decision variables (18 binary and 18 integer variables).  Putting all the variables in one model made it too heavy to run the evolutionary sol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has logical drawback and does not guarantee the optimal solution, but it’s do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1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optimal schedule based on the students’ interest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teachers and cancel the course that a teacher is not avail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41:01Z</dcterms:created>
  <dc:creator>LGIBM PC Co.</dc:creator>
  <dc:description/>
  <dc:language>en-US</dc:language>
  <cp:lastModifiedBy>LGIBM PC Co.</cp:lastModifiedBy>
  <dcterms:modified xsi:type="dcterms:W3CDTF">2005-05-02T13:20:08Z</dcterms:modified>
  <cp:revision>32</cp:revision>
  <dc:subject/>
  <dc:title>Decision Models </dc:title>
</cp:coreProperties>
</file>