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wmf" ContentType="image/x-wmf"/>
  <Override PartName="/ppt/media/image14.png" ContentType="image/png"/>
  <Override PartName="/ppt/media/image10.wmf" ContentType="image/x-wmf"/>
  <Override PartName="/ppt/media/image25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20.jpeg" ContentType="image/jpeg"/>
  <Override PartName="/ppt/media/image8.jpeg" ContentType="image/jpeg"/>
  <Override PartName="/ppt/media/image5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24.jpeg" ContentType="image/jpeg"/>
  <Override PartName="/ppt/media/image3.jpeg" ContentType="image/jpeg"/>
  <Override PartName="/ppt/media/image16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media/image2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F055-9F0C-42B6-9AA7-C7D01770B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andall/Sc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ecdotal bad tabl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andall/Sc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andall/Sc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andall/Sc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880-41E9-4ECB-8007-608BA2EF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2F9C-72F2-4CDA-B774-6B89BB60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BC5-5CCE-443F-9A03-563D526D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BA8-56D8-46B5-A924-6B679361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0113-5368-4202-BF06-A6F27C77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EC5C-B5F1-47A2-88E3-F43FD586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D7D5-AD9F-4377-A097-5A582DE8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8BC7-1BA0-49A4-90BD-BDFB1A37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D30E-2707-41B4-87FE-61ACE48E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DAF8-FFB8-49F9-8FD1-55CAC417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8C3E-FBCE-446C-99C6-57A6C648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8D7-FF0B-4DF0-902F-89793315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FA54-F284-44EB-9D6F-3C9F03AD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A5D0-3479-4F12-A550-E843944F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704E-B0D1-4027-B307-0CB71F89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F627-7461-48EF-9C10-1934CEAD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24DE-7779-435F-9A20-943D1084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F7C-EBDE-4913-9165-5FB2F905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20BF-C39B-4E34-BA19-4D809400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5C0-093A-41F1-AE7E-98A0871A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A81-55A4-4F93-A732-226E9FB9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54F7-8176-49B8-9346-21C16236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19BB-5D04-4611-8296-C927A6D3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F39B-A03A-4E98-843D-F41DAAEC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CB2C-1944-4D9D-B4D0-B61363401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08800" y="5638680"/>
            <a:ext cx="835200" cy="12193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2819520" y="2133720"/>
            <a:ext cx="3429000" cy="27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F89E-493E-4DA7-931E-596B3D754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shirthell.com/store/clicks.php?partner=franko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1shoppingcart.com/app/aftrack.asp?afid=40887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e are gathered here today 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5562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Now where the hell does everybody sit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2187720" cy="3238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6104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26752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Joyous Occa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y part is d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you can see from the results below, we were able to accommodate a substantial portion of our obj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162920" y="1219320"/>
            <a:ext cx="1761840" cy="2185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3352680"/>
            <a:ext cx="67816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 of Our Fine Work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ver 35 Table 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48640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can’t make everyone happy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182000" y="990720"/>
            <a:ext cx="1962000" cy="1703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62120" y="1031760"/>
            <a:ext cx="5790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course, no system is perfect.  As hard as we tried, we still could not accommodate everyone with a perfect se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fact: The seating at only one of the tables managed to meet all of our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066680" y="2743200"/>
            <a:ext cx="55627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s we could improv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…our anniversary gif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joyment level of our guests is directly correlated with the amount of anniversary gifts we will receive in the futur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at in mind, we will seek to improve the process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inimizing distance to key locations (e.g. from college friends to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nclude optionality around separating unruly/ recently divorced rela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user-friendly list generation/ printing of table setting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criteria for background checks (e.g. on the wife’s rather sketchy Uncle Chuck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934320" y="1600200"/>
            <a:ext cx="1458720" cy="2187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rcRect l="7302" t="8760" r="7302" b="8760"/>
          <a:stretch/>
        </p:blipFill>
        <p:spPr>
          <a:xfrm>
            <a:off x="7010280" y="4038480"/>
            <a:ext cx="1516320" cy="1828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937200" y="1600200"/>
            <a:ext cx="15210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’m off to my honeymoon…if you see this trailer rockin, don’t come a knocki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9" dur="2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0" dur="2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" dur="2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Immaculate Reception: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-228600" y="6324480"/>
            <a:ext cx="9982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ss Axelrod, Crandall Deery, Suehyun Kim, Neil Losquadro and Scott Tho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600200"/>
            <a:ext cx="859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tile Attempt to Optimize the Utility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 and Family at Crandall’s We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1773000" cy="2286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582360" y="5181480"/>
            <a:ext cx="198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is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essor J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Objectiv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lease the wif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wedding is a beautiful thing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you invite anybody besides the bride and g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andall’s invited 144 guests who will be joining him to celebrate his marri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we’ve got to figure out where they 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goal is to make everyone have a great time.  We’d like to seat people in such a way so tha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will be 18 full tables of 8 g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sts sit with their age group (above/ below 35 years o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de’s and Groom’s family are sepa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desmaids and Groomsmen are evenly distrib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YC residents, high school and college friends are clustered together (for maximum, um, socializ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2800" y="4419720"/>
            <a:ext cx="1681200" cy="2438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181480" y="640080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ry Jo –Bridesmaid #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matter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y is my wife hounding me over this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91520" y="3962520"/>
            <a:ext cx="123192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05560" y="2057400"/>
            <a:ext cx="1281240" cy="1523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5800" y="16002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447920"/>
            <a:ext cx="5715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decided to break our guests into 9 distinct categor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/Under 35 years 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de’s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om’s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de’s Family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om’s Family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desmaids and Grooms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YC Resi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 Associ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ge/ High School Fri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27432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581280"/>
            <a:ext cx="3581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id We Set Up the Mod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96080" y="2743200"/>
            <a:ext cx="1219320" cy="276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219320" y="1600200"/>
            <a:ext cx="71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then designed an input page so that Crandall (or future users) could prioritize different objectives by assigning larger or smaller “penalties” for different categ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8600" y="2743200"/>
            <a:ext cx="71629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4724280" y="4343400"/>
            <a:ext cx="53352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First Attem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153280" cy="1955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1295280" y="14479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determining the characteristics we wanted to use to sort guests, we went through Crandall’s invitation list and assigned an identifier (1 or 0) for all categories for each gu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4572000"/>
            <a:ext cx="8191440" cy="255600"/>
          </a:xfrm>
          <a:custGeom>
            <a:avLst/>
            <a:gdLst/>
            <a:ahLst/>
            <a:rect l="l" t="t" r="r" b="b"/>
            <a:pathLst>
              <a:path w="5160" h="161">
                <a:moveTo>
                  <a:pt x="0" y="11"/>
                </a:moveTo>
                <a:cubicBezTo>
                  <a:pt x="18" y="49"/>
                  <a:pt x="39" y="93"/>
                  <a:pt x="79" y="106"/>
                </a:cubicBezTo>
                <a:cubicBezTo>
                  <a:pt x="157" y="95"/>
                  <a:pt x="128" y="102"/>
                  <a:pt x="189" y="129"/>
                </a:cubicBezTo>
                <a:cubicBezTo>
                  <a:pt x="204" y="136"/>
                  <a:pt x="236" y="145"/>
                  <a:pt x="236" y="145"/>
                </a:cubicBezTo>
                <a:cubicBezTo>
                  <a:pt x="252" y="135"/>
                  <a:pt x="268" y="124"/>
                  <a:pt x="284" y="114"/>
                </a:cubicBezTo>
                <a:cubicBezTo>
                  <a:pt x="292" y="109"/>
                  <a:pt x="292" y="95"/>
                  <a:pt x="300" y="90"/>
                </a:cubicBezTo>
                <a:cubicBezTo>
                  <a:pt x="314" y="81"/>
                  <a:pt x="347" y="74"/>
                  <a:pt x="347" y="74"/>
                </a:cubicBezTo>
                <a:cubicBezTo>
                  <a:pt x="355" y="82"/>
                  <a:pt x="361" y="92"/>
                  <a:pt x="371" y="98"/>
                </a:cubicBezTo>
                <a:cubicBezTo>
                  <a:pt x="385" y="106"/>
                  <a:pt x="418" y="114"/>
                  <a:pt x="418" y="114"/>
                </a:cubicBezTo>
                <a:cubicBezTo>
                  <a:pt x="468" y="101"/>
                  <a:pt x="445" y="89"/>
                  <a:pt x="489" y="74"/>
                </a:cubicBezTo>
                <a:cubicBezTo>
                  <a:pt x="516" y="83"/>
                  <a:pt x="541" y="97"/>
                  <a:pt x="568" y="106"/>
                </a:cubicBezTo>
                <a:cubicBezTo>
                  <a:pt x="607" y="133"/>
                  <a:pt x="575" y="121"/>
                  <a:pt x="615" y="106"/>
                </a:cubicBezTo>
                <a:cubicBezTo>
                  <a:pt x="628" y="101"/>
                  <a:pt x="642" y="101"/>
                  <a:pt x="655" y="98"/>
                </a:cubicBezTo>
                <a:cubicBezTo>
                  <a:pt x="676" y="101"/>
                  <a:pt x="698" y="100"/>
                  <a:pt x="718" y="106"/>
                </a:cubicBezTo>
                <a:cubicBezTo>
                  <a:pt x="742" y="113"/>
                  <a:pt x="764" y="137"/>
                  <a:pt x="789" y="145"/>
                </a:cubicBezTo>
                <a:cubicBezTo>
                  <a:pt x="823" y="138"/>
                  <a:pt x="844" y="125"/>
                  <a:pt x="876" y="114"/>
                </a:cubicBezTo>
                <a:cubicBezTo>
                  <a:pt x="954" y="59"/>
                  <a:pt x="867" y="114"/>
                  <a:pt x="1089" y="90"/>
                </a:cubicBezTo>
                <a:cubicBezTo>
                  <a:pt x="1101" y="89"/>
                  <a:pt x="1109" y="78"/>
                  <a:pt x="1120" y="74"/>
                </a:cubicBezTo>
                <a:cubicBezTo>
                  <a:pt x="1135" y="68"/>
                  <a:pt x="1167" y="58"/>
                  <a:pt x="1167" y="58"/>
                </a:cubicBezTo>
                <a:cubicBezTo>
                  <a:pt x="1178" y="61"/>
                  <a:pt x="1189" y="61"/>
                  <a:pt x="1199" y="66"/>
                </a:cubicBezTo>
                <a:cubicBezTo>
                  <a:pt x="1209" y="72"/>
                  <a:pt x="1212" y="88"/>
                  <a:pt x="1223" y="90"/>
                </a:cubicBezTo>
                <a:cubicBezTo>
                  <a:pt x="1293" y="100"/>
                  <a:pt x="1365" y="95"/>
                  <a:pt x="1436" y="98"/>
                </a:cubicBezTo>
                <a:cubicBezTo>
                  <a:pt x="1465" y="118"/>
                  <a:pt x="1521" y="150"/>
                  <a:pt x="1554" y="161"/>
                </a:cubicBezTo>
                <a:cubicBezTo>
                  <a:pt x="1621" y="153"/>
                  <a:pt x="1671" y="139"/>
                  <a:pt x="1736" y="161"/>
                </a:cubicBezTo>
                <a:cubicBezTo>
                  <a:pt x="1791" y="156"/>
                  <a:pt x="1846" y="152"/>
                  <a:pt x="1901" y="145"/>
                </a:cubicBezTo>
                <a:cubicBezTo>
                  <a:pt x="1947" y="139"/>
                  <a:pt x="1991" y="105"/>
                  <a:pt x="2035" y="90"/>
                </a:cubicBezTo>
                <a:cubicBezTo>
                  <a:pt x="2067" y="93"/>
                  <a:pt x="2099" y="94"/>
                  <a:pt x="2130" y="98"/>
                </a:cubicBezTo>
                <a:cubicBezTo>
                  <a:pt x="2184" y="105"/>
                  <a:pt x="2123" y="105"/>
                  <a:pt x="2177" y="129"/>
                </a:cubicBezTo>
                <a:cubicBezTo>
                  <a:pt x="2192" y="135"/>
                  <a:pt x="2209" y="134"/>
                  <a:pt x="2225" y="137"/>
                </a:cubicBezTo>
                <a:cubicBezTo>
                  <a:pt x="2287" y="128"/>
                  <a:pt x="2344" y="113"/>
                  <a:pt x="2406" y="106"/>
                </a:cubicBezTo>
                <a:cubicBezTo>
                  <a:pt x="2481" y="81"/>
                  <a:pt x="2375" y="109"/>
                  <a:pt x="2454" y="114"/>
                </a:cubicBezTo>
                <a:cubicBezTo>
                  <a:pt x="2491" y="116"/>
                  <a:pt x="2527" y="109"/>
                  <a:pt x="2564" y="106"/>
                </a:cubicBezTo>
                <a:cubicBezTo>
                  <a:pt x="2575" y="99"/>
                  <a:pt x="2596" y="82"/>
                  <a:pt x="2611" y="82"/>
                </a:cubicBezTo>
                <a:cubicBezTo>
                  <a:pt x="2645" y="82"/>
                  <a:pt x="2672" y="119"/>
                  <a:pt x="2706" y="129"/>
                </a:cubicBezTo>
                <a:cubicBezTo>
                  <a:pt x="2758" y="118"/>
                  <a:pt x="2761" y="107"/>
                  <a:pt x="2809" y="137"/>
                </a:cubicBezTo>
                <a:cubicBezTo>
                  <a:pt x="2859" y="127"/>
                  <a:pt x="2908" y="102"/>
                  <a:pt x="2951" y="74"/>
                </a:cubicBezTo>
                <a:cubicBezTo>
                  <a:pt x="2984" y="121"/>
                  <a:pt x="2987" y="136"/>
                  <a:pt x="3038" y="153"/>
                </a:cubicBezTo>
                <a:cubicBezTo>
                  <a:pt x="3132" y="144"/>
                  <a:pt x="3210" y="127"/>
                  <a:pt x="3306" y="122"/>
                </a:cubicBezTo>
                <a:cubicBezTo>
                  <a:pt x="3415" y="84"/>
                  <a:pt x="3278" y="129"/>
                  <a:pt x="3590" y="106"/>
                </a:cubicBezTo>
                <a:cubicBezTo>
                  <a:pt x="3641" y="102"/>
                  <a:pt x="3708" y="82"/>
                  <a:pt x="3756" y="66"/>
                </a:cubicBezTo>
                <a:cubicBezTo>
                  <a:pt x="3832" y="69"/>
                  <a:pt x="3908" y="69"/>
                  <a:pt x="3984" y="74"/>
                </a:cubicBezTo>
                <a:cubicBezTo>
                  <a:pt x="3992" y="75"/>
                  <a:pt x="4000" y="81"/>
                  <a:pt x="4008" y="82"/>
                </a:cubicBezTo>
                <a:cubicBezTo>
                  <a:pt x="4095" y="89"/>
                  <a:pt x="4268" y="98"/>
                  <a:pt x="4268" y="98"/>
                </a:cubicBezTo>
                <a:cubicBezTo>
                  <a:pt x="4424" y="94"/>
                  <a:pt x="4549" y="79"/>
                  <a:pt x="4695" y="90"/>
                </a:cubicBezTo>
                <a:cubicBezTo>
                  <a:pt x="4739" y="152"/>
                  <a:pt x="4713" y="138"/>
                  <a:pt x="4758" y="153"/>
                </a:cubicBezTo>
                <a:cubicBezTo>
                  <a:pt x="4801" y="144"/>
                  <a:pt x="4835" y="128"/>
                  <a:pt x="4876" y="114"/>
                </a:cubicBezTo>
                <a:cubicBezTo>
                  <a:pt x="4926" y="64"/>
                  <a:pt x="4998" y="73"/>
                  <a:pt x="5065" y="66"/>
                </a:cubicBezTo>
                <a:cubicBezTo>
                  <a:pt x="5073" y="58"/>
                  <a:pt x="5083" y="52"/>
                  <a:pt x="5089" y="43"/>
                </a:cubicBezTo>
                <a:cubicBezTo>
                  <a:pt x="5105" y="20"/>
                  <a:pt x="5085" y="12"/>
                  <a:pt x="5121" y="3"/>
                </a:cubicBezTo>
                <a:cubicBezTo>
                  <a:pt x="5134" y="0"/>
                  <a:pt x="5147" y="3"/>
                  <a:pt x="5160" y="3"/>
                </a:cubicBezTo>
                <a:lnTo>
                  <a:pt x="0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267080" y="4495680"/>
            <a:ext cx="3353040" cy="215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2819520" y="472428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3352680"/>
            <a:ext cx="228600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 of Invite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First Attem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1752480"/>
            <a:ext cx="641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volutionary Solver trying to sort 144 guests into 18 even tables of 8, the optimization process was gruelingly slow.  After 3-4 hours of running, the program had not found a single solution that met the “even table” criteria, let alone the rest of our conditions.  We knew we needed to think har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2228760" cy="2467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0" y="3352680"/>
            <a:ext cx="4648320" cy="914400"/>
          </a:xfrm>
          <a:prstGeom prst="cloudCallout">
            <a:avLst>
              <a:gd name="adj1" fmla="val -54236"/>
              <a:gd name="adj2" fmla="val 52953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mmm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econd Attem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2240" y="2017800"/>
            <a:ext cx="76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thought back to some of Prof. Juran’s words of wisd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dealing with a set of decision variables too large for Solver to handle, try screwing around with the constraints to get the damned thing to work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raphr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362320" y="3200400"/>
          <a:ext cx="55224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200400"/>
                    <a:ext cx="5522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990720" y="44197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we split the guests into two separate lists: 64 guests over 35 and 80 guests under 35.  We then used Evolutionary solver on each subset to optimize the t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w us a meaningless but vaguely impressive screenshot of your model” you say? Sure. Here’s tw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5943600" cy="227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95280" y="4267080"/>
            <a:ext cx="6934320" cy="241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6477120" y="22860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 35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400800" y="266688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4952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 35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56386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19:51:54Z</dcterms:created>
  <dc:creator>imaging</dc:creator>
  <dc:description/>
  <dc:language>en-US</dc:language>
  <cp:lastModifiedBy>imaging</cp:lastModifiedBy>
  <dcterms:modified xsi:type="dcterms:W3CDTF">2005-05-02T16:04:48Z</dcterms:modified>
  <cp:revision>10</cp:revision>
  <dc:subject/>
  <dc:title>Slide 1</dc:title>
</cp:coreProperties>
</file>