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4.jpeg" ContentType="image/jpeg"/>
  <Override PartName="/ppt/media/image9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96F8-1079-4C3F-82FA-98FD3869D896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ssuming all segments are the same size, locker shelves #1 and #3 should be manufactured followed by Locker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 #1 has the highest utility (16) with Locker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 #4 has the highest utility (11) with Locker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ker #1: Wood, Red, 6 inches high and adjustable by 2 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 #2 has the highest utility (11) with Locker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ker #2 is plastic, blue, 8 inches high, and adjustable by 3 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 #3 has the highest utility (13) with Locker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 #5 has the highest utility (16) with Locker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ker #3 is fabric, white, 12 inches high, and adjustable by 4 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oint analysis is a type of Decision analysis: another is decision trees given probabilities.  Here we are making assumptions based on a sample population which we have placed into se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the constraints that we put in we can see that some of them were bi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the constraints that we put in we can see that some of them were bi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71A2-95BF-4941-A0D5-22568D02C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29C0-7110-46B7-8DA9-9F3FF49F5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4A7A-D2C1-45DC-AC54-D3771DC10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E1D2-48B5-4972-8FCC-BBC3BFD0AB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5EF2-75EC-4347-8C2D-BB34B368E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651F-AA94-4039-8022-328CCEFB5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07AC-7DED-4AAB-A73E-72652CC59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EB4D-BA8A-4631-AE1D-16E17239D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5496-0E24-4A26-81C7-97039B9AE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D3A8-5BE2-40A7-9347-C02E87A80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EC8E-E031-4A25-8433-7EF641E02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DE28-99C5-4A23-A5B9-6F25D4D48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esleyf.com/photos/Year4/Wesley%20month%2042-Locker%2002l.JPG&amp;imgrefurl=http://www.wesleyf.com/site_map.shtml&amp;h=543&amp;w=489&amp;sz=99&amp;tbnid=6NRTcj2wgJUJ:&amp;tbnh=130&amp;tbnw=117&amp;start=39&amp;prev=/images%3Fq%3Dlocker%26start%3D20%26hl%3Den%26lr%3D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vezone.com/girltalk/images/locker.gif&amp;imgrefurl=http://www.livezone.com/girltalk/locker.html&amp;h=399&amp;w=381&amp;sz=60&amp;tbnid=UEZ7SI5udv4J:&amp;tbnh=119&amp;tbnw=114&amp;start=1&amp;prev=/images%3Fq%3Dlocker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dansville.org/middle-school/Virtual%20Tour/First%20Floor/photos/Girl%27s%20Locker%20Room2.jpg&amp;imgrefurl=http://www.dansville.org/middle-school/Virtual%20Tour/virtual_tour.htm&amp;h=480&amp;w=640&amp;sz=39&amp;tbnid=c7NmVkLGYfAJ:&amp;tbnh=101&amp;tbnw=135&amp;start=13&amp;prev=/images%3Fq%3Dlocker%26hl%3Den%26lr%3D%26sa%3D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nsinclair.com/photos-dir/locker.jpg-medium.jpg&amp;imgrefurl=http://www.bensinclair.com/photo/347/medium/set&amp;h=400&amp;w=600&amp;sz=68&amp;tbnid=qZM7EzFaZ3gJ:&amp;tbnh=88&amp;tbnw=132&amp;start=36&amp;prev=/images%3Fq%3Dlocker%26start%3D20%26hl%3Den%26lr%3D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lanetdrew.com/drewpix/phot/lock%20on%20locker.JPG&amp;imgrefurl=http://www.planetdrew.com/drewpix/phot/&amp;h=1200&amp;w=1600&amp;sz=798&amp;tbnid=o_E_ACTH0WQJ:&amp;tbnh=112&amp;tbnw=149&amp;start=35&amp;prev=/images%3Fq%3Dlocker%26start%3D2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9800" y="4570560"/>
            <a:ext cx="48639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Decision Mode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Final Proj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y 2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4724280"/>
            <a:ext cx="2361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ackie Gallag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ary Gord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onisha Sin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auren Wolf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6934320" cy="42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38F4-FD78-4F8A-8F56-82FA0169DA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1879560"/>
            <a:ext cx="93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36880" y="187956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6120" y="1879560"/>
            <a:ext cx="258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Variable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10520" y="187956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49640" y="1827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85720" y="2266920"/>
            <a:ext cx="216360" cy="324720"/>
            <a:chOff x="1485720" y="2266920"/>
            <a:chExt cx="216360" cy="324720"/>
          </a:xfrm>
        </p:grpSpPr>
        <p:sp>
          <p:nvSpPr>
            <p:cNvPr id="89" name=""/>
            <p:cNvSpPr/>
            <p:nvPr/>
          </p:nvSpPr>
          <p:spPr>
            <a:xfrm>
              <a:off x="1628280" y="2423880"/>
              <a:ext cx="7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Book Antiqua"/>
                </a:rPr>
                <a:t>ij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85720" y="2266920"/>
              <a:ext cx="12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752840" y="226044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7000" y="2270160"/>
            <a:ext cx="5786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binary variable; 1 if segmen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will buy produc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,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0 otherw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92880" y="257652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49640" y="12160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91120" y="3090960"/>
            <a:ext cx="210960" cy="324720"/>
            <a:chOff x="1491120" y="3090960"/>
            <a:chExt cx="210960" cy="324720"/>
          </a:xfrm>
        </p:grpSpPr>
        <p:sp>
          <p:nvSpPr>
            <p:cNvPr id="96" name=""/>
            <p:cNvSpPr/>
            <p:nvPr/>
          </p:nvSpPr>
          <p:spPr>
            <a:xfrm>
              <a:off x="1628280" y="3247920"/>
              <a:ext cx="7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Book Antiqua"/>
                </a:rPr>
                <a:t>ij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91120" y="3090960"/>
              <a:ext cx="11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752840" y="308448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7000" y="3094200"/>
            <a:ext cx="571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total “value” that segmen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laces on produc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.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r our two products (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1,2),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 Antiqua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1 if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 Antiqua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&gt;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 Antiqua"/>
              </a:rPr>
              <a:t>i products not 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37480" y="385452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06160" y="4189320"/>
            <a:ext cx="343800" cy="345600"/>
            <a:chOff x="1406160" y="4189320"/>
            <a:chExt cx="343800" cy="345600"/>
          </a:xfrm>
        </p:grpSpPr>
        <p:sp>
          <p:nvSpPr>
            <p:cNvPr id="102" name=""/>
            <p:cNvSpPr/>
            <p:nvPr/>
          </p:nvSpPr>
          <p:spPr>
            <a:xfrm>
              <a:off x="1605960" y="436716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Book Antiqua"/>
                </a:rPr>
                <a:t>jk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6160" y="4189320"/>
              <a:ext cx="16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805400" y="420228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7000" y="4211640"/>
            <a:ext cx="5710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binary variable; 1 if produc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has level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f attribute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otherwise 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26240" y="452124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6280" y="513540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45760" y="4998960"/>
            <a:ext cx="306000" cy="345600"/>
            <a:chOff x="1445760" y="4998960"/>
            <a:chExt cx="306000" cy="345600"/>
          </a:xfrm>
        </p:grpSpPr>
        <p:sp>
          <p:nvSpPr>
            <p:cNvPr id="109" name=""/>
            <p:cNvSpPr/>
            <p:nvPr/>
          </p:nvSpPr>
          <p:spPr>
            <a:xfrm>
              <a:off x="1607760" y="517680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Book Antiqua"/>
                </a:rPr>
                <a:t>ik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5760" y="4998960"/>
              <a:ext cx="14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792440" y="501804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7000" y="5029200"/>
            <a:ext cx="5634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“value” placed by segmen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n level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f attribute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12160" y="522144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49640" y="55706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9160" y="5805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Variable Descrip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7913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6765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2096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A20FF-2234-4212-85B2-95A71FDF08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2880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Here is what the set up looks like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"/>
          <p:cNvSpPr/>
          <p:nvPr/>
        </p:nvSpPr>
        <p:spPr>
          <a:xfrm>
            <a:off x="287640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0F9E-5A17-4BEB-8C07-8910BB518A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unning Solver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oal: To maximize the number of segments who will purchase the new shelv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e run solver adding our constraints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ttributes have to be between 1 and 4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ll must be integers, no decimal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 attributes can have negative valu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994040"/>
            <a:ext cx="3006720" cy="33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44F4-4CAB-448C-8536-39C6E33492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2880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Optimal Solutio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>
            <a:off x="287640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3348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34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348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296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C459C-ABBF-4598-A315-3D3F607FF9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880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640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348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34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762120"/>
            <a:ext cx="601956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Great, but how do I interpret this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7155-66CA-4F8C-9094-73D437B29A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optimal locker shelf: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Results indicate that: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egments 1, 3 &amp; 4 prefer Locker shelf #1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egments 3 &amp; 4 are equally as happy with Locker shelf #2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egment 2 goes to Competitor #1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egment 5 goes to Competitor #2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2F35-E466-4D14-9498-C48C64DB0F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C68D-C00A-4B0F-8EAC-626BF9D3FE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onclusion &amp; Recommenda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24280" y="2043000"/>
            <a:ext cx="3810240" cy="3103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As you can see, introducing one new locker shelf to the market will increase our market sh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5800" y="2030400"/>
            <a:ext cx="3809880" cy="3075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38080" y="1600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e-Analysis Market Sh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1600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ost-Analysis Market Sh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3A39-3BE4-42A2-8FCC-6170753AD6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94000" y="1981080"/>
            <a:ext cx="27259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14B9-4C25-4CC8-BD5A-0277EA50CF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A3E8-6255-4966-9168-73E2187467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itu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51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124080"/>
            <a:ext cx="79250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o do so we performed a Conjoint Analys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s you will recall a Conjoint Analysis is used specifically to understand how respondents develop preferences for products or servic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295280"/>
            <a:ext cx="7696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s a start-up locker shelf company, “Hold It”, we currently only have 20% market share and we are interested in growing our market share by introducing two new produc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5257800"/>
            <a:ext cx="1714320" cy="128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843E-8BF2-4129-8C68-21B6C65306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Answer Report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320" y="905040"/>
            <a:ext cx="8991360" cy="52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8E85-295B-4572-83D7-F8E9B54EA7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onstraints in Answer Report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686800" cy="57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A844-9788-4DF3-8A50-357FBADC0A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Adjustable cells in Population Report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D6CC-9DE9-4AFD-BA68-976DCC3417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at is Conjoint Analysis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00200"/>
            <a:ext cx="7696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dentifies optimal feat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edict market share of different products based on feature p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Break consumers into more precise segments based on feature prefer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dentify marketing opportun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emonstrate the importance of each feature to overall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C9BC-EFC1-47C8-A3F9-0F169246BB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ocker Features &amp; Segment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219320"/>
            <a:ext cx="769608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Featu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erial composition of the locker sh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or of the locker sh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ight of the locker sh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djustability of the locker sh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590920"/>
            <a:ext cx="221004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4191120"/>
            <a:ext cx="769608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Segment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e divided our subjects into five unique segments based on similar demographic 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ain factors were sex, age, and heigh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AAA5-1346-45FF-B74A-C44107C413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6228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9236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Basic Assump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  <a:ea typeface="MS Minch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  <a:ea typeface="MS Mincho"/>
              </a:rPr>
              <a:t>All customers within a segment view lockers shelves similar in terms of desirable attribu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Only respondents that completed the entire survey were counted and all segments are equal in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Customers in a segment conduct an analysis where they compare various attributes of a product and develop a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Customers will use this analysis/rankings to drive purchase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odel Specific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rcRect l="8048" t="0" r="11416" b="0"/>
          <a:stretch/>
        </p:blipFill>
        <p:spPr>
          <a:xfrm>
            <a:off x="7010280" y="304920"/>
            <a:ext cx="1524240" cy="142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487D-00D6-4D17-8AF9-C7DD133A19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31164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This model assumes that customers will make purchasing decisions based on the value that he or she has assign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For example, giv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Value of product A at 1 + 4 + 3 + 3 = 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and product B at 1 + 3 + 1 + 2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Customers will select product A over produc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Rankings drive purchase behavio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477200" y="4419720"/>
            <a:ext cx="1438200" cy="2031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1555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Consumers will rank attributes based on preferences, these rankings will result in an overall utility or value for each combination of thes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CE6E-B2B1-4F27-AF27-88D9E08615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Ranking Attribut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336680"/>
            <a:ext cx="8381880" cy="53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A56F-FF7E-47EA-BEAF-6FA0C94F2F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6228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295280"/>
            <a:ext cx="822960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Mincho"/>
              </a:rPr>
              <a:t>To get this model to work we had to account for our two competitors’ existing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Mincho"/>
              </a:rPr>
              <a:t>What we want our model to measure is the introduction of two new locker shelves, and evaluate which product features will capture the greatest market sha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4100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  <a:ea typeface="MS Mincho"/>
              </a:rPr>
              <a:t>Maximize the number of customer segments who will buy our produc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28C2E-2E35-4230-86A9-1EBCFABAA1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Definition of Formula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828800"/>
            <a:ext cx="845820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There are five customer segments, indexed from 1 to 5 with the subscript lett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There are four products, indexed from 1 to 4 with the subscript lett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There are four product attributes, indexed from 1 to 4 with the subscript lett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There are four possible levels for each attribute, and we will index them from 1 to 4 with the subscript lett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4902-CE91-45B4-BEB8-B18962278A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20:34:22Z</dcterms:created>
  <dc:creator>djuran</dc:creator>
  <dc:description/>
  <dc:language>en-US</dc:language>
  <cp:lastModifiedBy>imaging</cp:lastModifiedBy>
  <dcterms:modified xsi:type="dcterms:W3CDTF">2005-05-02T14:50:01Z</dcterms:modified>
  <cp:revision>405</cp:revision>
  <dc:subject/>
  <dc:title>PowerPoint Presentation</dc:title>
</cp:coreProperties>
</file>