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2B528-AC14-4E8B-AAAE-9155D2A4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204B0-126C-4E7C-B06F-96D5C0E7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68FF0-082E-4B19-A973-C96E13F1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05C1A-8A91-4D1E-B8EC-8C96E81A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E2F5-1C02-4E24-B4F4-20A601FC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6082-B18F-476C-A8AA-B9BC6766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5448-903A-436D-A5EA-48A66007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0FF0-2C4A-4344-9CDA-461CA77B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94DD-FF78-4049-85E8-BA7B6CDD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E1A2-D257-494D-8FA7-572A8DE4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B3A8-D3F2-4D95-9DDD-C310676A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90C5B-DB86-4DB6-8B44-A3491429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3EEA-65ED-424A-A493-A4CB4C18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34B8-5EBF-4AA9-AD71-015C6EE8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657B-A2C9-4D93-8C5B-B38646B2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0D16-B9EE-47ED-9233-FB39D94E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0102-5827-4ED0-B41A-167CAE38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9C4D-E5D9-4F27-9039-9BFB6CD7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505BB-8DE8-4B77-9913-A17DEEEC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C0F81-4320-4BFE-B8BB-02B02894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B103E-FC5A-407E-92DF-0AFFF3F0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1FA9-6F2A-4CEE-80A1-857CD4AA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FC6B-4576-49E7-A8F1-0F97EAC7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8968-41CF-4129-B5B5-A7D39935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8232-24AE-4AEF-B5D0-F34DFF354F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5981760"/>
            <a:ext cx="9182160" cy="876240"/>
            <a:chOff x="0" y="5981760"/>
            <a:chExt cx="9182160" cy="87624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5981760"/>
              <a:ext cx="71247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rcRect l="57759" t="0" r="0" b="0"/>
            <a:stretch/>
          </p:blipFill>
          <p:spPr>
            <a:xfrm>
              <a:off x="6172200" y="5981760"/>
              <a:ext cx="30099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4"/>
            <a:srcRect l="57759" t="0" r="38502" b="0"/>
            <a:stretch/>
          </p:blipFill>
          <p:spPr>
            <a:xfrm>
              <a:off x="4114800" y="5981760"/>
              <a:ext cx="236232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"/>
          <p:cNvSpPr/>
          <p:nvPr/>
        </p:nvSpPr>
        <p:spPr>
          <a:xfrm>
            <a:off x="457200" y="1371600"/>
            <a:ext cx="77724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E125-50C7-47F7-A458-61BC2970E6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5981760"/>
            <a:ext cx="9182160" cy="876240"/>
            <a:chOff x="0" y="5981760"/>
            <a:chExt cx="9182160" cy="87624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0" y="5981760"/>
              <a:ext cx="71247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rcRect l="57759" t="0" r="0" b="0"/>
            <a:stretch/>
          </p:blipFill>
          <p:spPr>
            <a:xfrm>
              <a:off x="6172200" y="5981760"/>
              <a:ext cx="30099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rcRect l="57759" t="0" r="38502" b="0"/>
            <a:stretch/>
          </p:blipFill>
          <p:spPr>
            <a:xfrm>
              <a:off x="4114800" y="5981760"/>
              <a:ext cx="236232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7d"/>
                </a:solidFill>
                <a:latin typeface="Arial"/>
              </a:rPr>
              <a:t>Roulette betting strategies that bring the House down… (or at least sound cool)</a:t>
            </a:r>
            <a:br>
              <a:rPr sz="3400"/>
            </a:br>
            <a:br>
              <a:rPr sz="1800"/>
            </a:b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May 2, 2005</a:t>
            </a:r>
            <a:endParaRPr b="0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38095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dam Roffman</a:t>
            </a:r>
            <a:endParaRPr b="1" lang="en-US" sz="2400" spc="-1" strike="noStrike">
              <a:solidFill>
                <a:srgbClr val="00007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Dennis Simson</a:t>
            </a:r>
            <a:endParaRPr b="1" lang="en-US" sz="2400" spc="-1" strike="noStrike">
              <a:solidFill>
                <a:srgbClr val="00007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Johannes Vavrovsky</a:t>
            </a:r>
            <a:endParaRPr b="1" lang="en-US" sz="2400" spc="-1" strike="noStrike">
              <a:solidFill>
                <a:srgbClr val="00007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ndrew Wittkop</a:t>
            </a:r>
            <a:endParaRPr b="1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276720"/>
            <a:ext cx="77724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lly, what are we supposed to do to double our mone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84280" y="1447920"/>
          <a:ext cx="617544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1447920"/>
                    <a:ext cx="61754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029200" y="3429000"/>
            <a:ext cx="2514600" cy="1523880"/>
          </a:xfrm>
          <a:prstGeom prst="wedgeEllipseCallout">
            <a:avLst>
              <a:gd name="adj1" fmla="val -59976"/>
              <a:gd name="adj2" fmla="val -9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’Alen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% of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770040" y="3276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5334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ever, we have to keep the average Ending Balance in mind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484280" y="1447920"/>
          <a:ext cx="617544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1447920"/>
                    <a:ext cx="61754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029200" y="3429000"/>
            <a:ext cx="2514600" cy="1523880"/>
          </a:xfrm>
          <a:prstGeom prst="wedgeEllipseCallout">
            <a:avLst>
              <a:gd name="adj1" fmla="val -88634"/>
              <a:gd name="adj2" fmla="val -82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3-2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770040" y="3276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5334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oose different strategies depending on your expectations of your gambling n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0% Goal: First 12, D’Alen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50% Goal: First 12, 1-3-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ubling: Even 8, D’Alen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ever, First 12, 1-3-2-6 is the least risky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 for your tim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of ou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ing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Bett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oney Management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ology of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we trying to find ou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al: To test various gambling strategies and find out which ones are most likely to reach different targets during the course of one gambling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rget 1: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rget 2: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rget 3: Double your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dget: 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se Bet: $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ration of a gambling night: roughly 5 hours – approximately 80 ro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reaching respective target (and wisely invest capital gain in dr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you are broke (and go h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the night is over (and take what’s left to invest wisely in dr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we betting 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dds Paid: 1: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rst 1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dds Paid: 2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dds Paid: 3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8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dds Paid: 27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1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dds Paid: 23: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money management techniques are we going to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at (and boring): same bet every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’Alenbert: increase bet size by $1 after losing a bet and decrease by $1 after winning a 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-3-2-6: start betting base bet, triple base bet if you win, double base bet if you win again, bet 6 times base bet if you win yet again.  After that, start betting base bet again.  Start over with base bet whenever you l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e set up the project…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102040" cy="335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438280" cy="124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200400" y="3581280"/>
            <a:ext cx="2438280" cy="735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9480" y="1600200"/>
            <a:ext cx="2210040" cy="38088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38560" y="1600200"/>
            <a:ext cx="2514600" cy="380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1600200"/>
            <a:ext cx="2209680" cy="38088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041880" y="2254320"/>
            <a:ext cx="256860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strategy reaches the 20% target most ofte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84280" y="1447920"/>
          <a:ext cx="617544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1447920"/>
                    <a:ext cx="61754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5029200" y="3429000"/>
            <a:ext cx="2514600" cy="1523880"/>
          </a:xfrm>
          <a:prstGeom prst="wedgeEllipseCallout">
            <a:avLst>
              <a:gd name="adj1" fmla="val -95263"/>
              <a:gd name="adj2" fmla="val -763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12 D’Alen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4% of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770040" y="3276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5334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the 50% targe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84280" y="1447920"/>
          <a:ext cx="617544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1447920"/>
                    <a:ext cx="61754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029200" y="3429000"/>
            <a:ext cx="2514600" cy="1523880"/>
          </a:xfrm>
          <a:prstGeom prst="wedgeEllipseCallout">
            <a:avLst>
              <a:gd name="adj1" fmla="val -91412"/>
              <a:gd name="adj2" fmla="val -763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3-2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% of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770040" y="3276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334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20:03:40Z</dcterms:created>
  <dc:creator>Hayle Chun</dc:creator>
  <dc:description/>
  <dc:language>en-US</dc:language>
  <cp:lastModifiedBy>Johannes Vavrovsky</cp:lastModifiedBy>
  <dcterms:modified xsi:type="dcterms:W3CDTF">2005-05-01T23:40:20Z</dcterms:modified>
  <cp:revision>20</cp:revision>
  <dc:subject/>
  <dc:title>Why NYU Stern should move to the Trimester System  March 7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8125596</vt:r8>
  </property>
  <property fmtid="{D5CDD505-2E9C-101B-9397-08002B2CF9AE}" pid="3" name="_AuthorEmail">
    <vt:lpwstr>jfv211@stern.nyu.edu</vt:lpwstr>
  </property>
  <property fmtid="{D5CDD505-2E9C-101B-9397-08002B2CF9AE}" pid="4" name="_AuthorEmailDisplayName">
    <vt:lpwstr>Johannes Vavrovsky</vt:lpwstr>
  </property>
  <property fmtid="{D5CDD505-2E9C-101B-9397-08002B2CF9AE}" pid="5" name="_EmailSubject">
    <vt:lpwstr>Final Project v02.ppt</vt:lpwstr>
  </property>
</Properties>
</file>