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B9A0-D7F9-4892-ACA0-14FCA393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1550-79A8-48FB-B415-AE64A470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77CF-D922-4DBC-99DA-E55BEA78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EA92-8A87-4BCE-B4D4-8498ED88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E427-37DB-4F28-B0B4-1C461C38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8402-6175-47AE-83C3-D121D15F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CCA6-AE57-4046-83F0-6F81D1A6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E5CE-E6FB-4EC0-95AB-5B783860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9E7B-2827-4238-83EF-2C0E4197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41E2-5ADF-4679-BD2E-5D440E72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1B11-3587-42D7-AE1F-DD78954A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3273-BB3D-4433-8D1A-F0F32CD3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D61E-9B11-4401-9E98-EEF873B3A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4320" y="914040"/>
            <a:ext cx="6264360" cy="1165320"/>
          </a:xfrm>
          <a:prstGeom prst="rect">
            <a:avLst/>
          </a:prstGeom>
          <a:solidFill>
            <a:srgbClr val="ffff99"/>
          </a:solidFill>
          <a:ln w="3168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Elevator Model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ik Simon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rlyn Chi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yce Chi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ek Jo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90720" y="2362320"/>
            <a:ext cx="7670520" cy="2328840"/>
            <a:chOff x="990720" y="2362320"/>
            <a:chExt cx="7670520" cy="2328840"/>
          </a:xfrm>
        </p:grpSpPr>
        <p:grpSp>
          <p:nvGrpSpPr>
            <p:cNvPr id="45" name=""/>
            <p:cNvGrpSpPr/>
            <p:nvPr/>
          </p:nvGrpSpPr>
          <p:grpSpPr>
            <a:xfrm>
              <a:off x="990720" y="2362320"/>
              <a:ext cx="7162200" cy="2328840"/>
              <a:chOff x="990720" y="2362320"/>
              <a:chExt cx="7162200" cy="2328840"/>
            </a:xfrm>
          </p:grpSpPr>
          <p:pic>
            <p:nvPicPr>
              <p:cNvPr id="46" name="" descr=""/>
              <p:cNvPicPr/>
              <p:nvPr/>
            </p:nvPicPr>
            <p:blipFill>
              <a:blip r:embed="rId1"/>
              <a:srcRect l="34003" t="67413" r="34003" b="0"/>
              <a:stretch/>
            </p:blipFill>
            <p:spPr>
              <a:xfrm>
                <a:off x="4609080" y="2425680"/>
                <a:ext cx="1790640" cy="226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" descr=""/>
              <p:cNvPicPr/>
              <p:nvPr/>
            </p:nvPicPr>
            <p:blipFill>
              <a:blip r:embed="rId2"/>
              <a:srcRect l="67339" t="67413" r="0" b="0"/>
              <a:stretch/>
            </p:blipFill>
            <p:spPr>
              <a:xfrm>
                <a:off x="6325200" y="2425680"/>
                <a:ext cx="1827720" cy="226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" descr=""/>
              <p:cNvPicPr/>
              <p:nvPr/>
            </p:nvPicPr>
            <p:blipFill>
              <a:blip r:embed="rId3"/>
              <a:srcRect l="0" t="66499" r="68668" b="0"/>
              <a:stretch/>
            </p:blipFill>
            <p:spPr>
              <a:xfrm>
                <a:off x="2818440" y="2362320"/>
                <a:ext cx="1753200" cy="23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" descr=""/>
              <p:cNvPicPr/>
              <p:nvPr/>
            </p:nvPicPr>
            <p:blipFill>
              <a:blip r:embed="rId4"/>
              <a:srcRect l="0" t="0" r="68668" b="67413"/>
              <a:stretch/>
            </p:blipFill>
            <p:spPr>
              <a:xfrm>
                <a:off x="990720" y="2425680"/>
                <a:ext cx="1827720" cy="2265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" name=""/>
            <p:cNvSpPr/>
            <p:nvPr/>
          </p:nvSpPr>
          <p:spPr>
            <a:xfrm>
              <a:off x="7213680" y="2590920"/>
              <a:ext cx="1447560" cy="609480"/>
            </a:xfrm>
            <a:prstGeom prst="wedgeEllipseCallout">
              <a:avLst>
                <a:gd name="adj1" fmla="val -50875"/>
                <a:gd name="adj2" fmla="val 8255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h crystal-balls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371600" y="380880"/>
            <a:ext cx="6400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Decision Models – Spring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6705720" y="4084560"/>
            <a:ext cx="2286000" cy="2011320"/>
            <a:chOff x="6705720" y="4084560"/>
            <a:chExt cx="2286000" cy="20113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6705720" y="4313160"/>
              <a:ext cx="1782720" cy="17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8229600" y="4084560"/>
              <a:ext cx="762120" cy="6858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Managerial Problem Definition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must we wait so long for the elevator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Use simulation to optimize Stern’s elevators and minimize wait-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Formulation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14800" y="17985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45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e wait-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45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n wait-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45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vs. re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45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loor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45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fl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Solution Methodology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the ele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es queue arrivals and queue lengths on each fl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s the entrance and departure of each person by fl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vator logic (direction of movement) is dependant on location of ‘hall cal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s of time are broken into 6-second “time slic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run for 15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using crystal 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 4 previously mentioned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d interarrival times follows an exponentia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0" y="3645000"/>
            <a:ext cx="175248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The Data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was taken during peak traffic hou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amp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rrival times for each floor in each elevator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exit points of elevator passen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el time between floors: 6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and unloading time of passengers: 6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reated a distribution of interarrival times for each entry-exit combination.  (e.g., Front bank, entry 1, exit 4 = 40 second interarrival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1143000"/>
            <a:ext cx="1249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Model Scenarios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17524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1 has one express elevato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289548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1 travels floors 6-11 only. Bank2 travels floors 1-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4098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xpress eleva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5257800"/>
            <a:ext cx="449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homes positions on same floor vs. distributed home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00200"/>
            <a:ext cx="3429000" cy="9907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urrent m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743200"/>
            <a:ext cx="3429000" cy="9907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886200"/>
            <a:ext cx="3429000" cy="9907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ee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5029200"/>
            <a:ext cx="3429000" cy="9907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ome 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1752480"/>
            <a:ext cx="4419720" cy="838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2895480"/>
            <a:ext cx="4419720" cy="838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14800" y="3962520"/>
            <a:ext cx="4419720" cy="8380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5181480"/>
            <a:ext cx="4419720" cy="838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Simulation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2895480"/>
            <a:ext cx="3657600" cy="13716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Results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2209680"/>
          <a:ext cx="8305920" cy="3733920"/>
        </p:xfrm>
        <a:graphic>
          <a:graphicData uri="http://schemas.openxmlformats.org/drawingml/2006/table">
            <a:tbl>
              <a:tblPr/>
              <a:tblGrid>
                <a:gridCol w="1660680"/>
                <a:gridCol w="1660320"/>
                <a:gridCol w="1663920"/>
                <a:gridCol w="1660320"/>
                <a:gridCol w="166068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e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gregate Waiting Time (minu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Waiting Time (minu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loor Wait (minu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Ut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6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44-0.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t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36-0.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0.42-0.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 pos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31-0.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380880" y="1690560"/>
            <a:ext cx="4267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100 trial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Conclusion &amp; Recommendation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etermined that the ‘Last Year’ scenario minimizes aggregate wait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urther optimized this scenario by adding distributed home posi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4936" r="0" b="10476"/>
          <a:stretch/>
        </p:blipFill>
        <p:spPr>
          <a:xfrm>
            <a:off x="5715000" y="3733920"/>
            <a:ext cx="2990880" cy="2819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80880" y="4245120"/>
            <a:ext cx="5105520" cy="14634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recommend returning to last year’s elevator formations with distributed home pos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20:31:08Z</dcterms:created>
  <dc:creator>lluser</dc:creator>
  <dc:description/>
  <dc:language>en-US</dc:language>
  <cp:lastModifiedBy>Erik Simonsen</cp:lastModifiedBy>
  <dcterms:modified xsi:type="dcterms:W3CDTF">2005-05-02T11:27:31Z</dcterms:modified>
  <cp:revision>34</cp:revision>
  <dc:subject/>
  <dc:title>Model Scenarios</dc:title>
</cp:coreProperties>
</file>