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20120" y="266760"/>
            <a:ext cx="1257120" cy="12571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158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2000" y="2503440"/>
            <a:ext cx="3087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ntasy Bas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f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avi Thor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olution Method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09680"/>
            <a:ext cx="114300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2209680"/>
            <a:ext cx="114300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209680"/>
            <a:ext cx="114300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952880" y="1706400"/>
            <a:ext cx="2210040" cy="1722240"/>
            <a:chOff x="4952880" y="1706400"/>
            <a:chExt cx="2210040" cy="1722240"/>
          </a:xfrm>
        </p:grpSpPr>
        <p:sp>
          <p:nvSpPr>
            <p:cNvPr id="68" name=""/>
            <p:cNvSpPr/>
            <p:nvPr/>
          </p:nvSpPr>
          <p:spPr>
            <a:xfrm>
              <a:off x="4952880" y="170640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170640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70640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52880" y="231588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000" y="231588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15000" y="292536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77120" y="292536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77120" y="231588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292536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ti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080040" y="3998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OPTIMAL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The M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304920"/>
            <a:ext cx="11430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715520" cy="475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57400" y="1295280"/>
            <a:ext cx="457200" cy="327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5638680"/>
            <a:ext cx="83844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6772320" cy="246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The M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920"/>
            <a:ext cx="11430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2590920"/>
            <a:ext cx="83844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The M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2590920"/>
            <a:ext cx="83844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228600"/>
            <a:ext cx="11430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8390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The M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228600"/>
            <a:ext cx="11430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0866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The M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228600"/>
            <a:ext cx="11430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798560"/>
            <a:ext cx="114300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124080" y="1295280"/>
            <a:ext cx="2210040" cy="1722240"/>
            <a:chOff x="3124080" y="1295280"/>
            <a:chExt cx="2210040" cy="1722240"/>
          </a:xfrm>
        </p:grpSpPr>
        <p:sp>
          <p:nvSpPr>
            <p:cNvPr id="103" name=""/>
            <p:cNvSpPr/>
            <p:nvPr/>
          </p:nvSpPr>
          <p:spPr>
            <a:xfrm>
              <a:off x="3124080" y="129528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6200" y="129528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48320" y="129528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4080" y="190476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86200" y="190476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1424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251424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48320" y="190476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4080" y="2514240"/>
              <a:ext cx="685800" cy="50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ti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651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0020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Q&amp;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y Base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i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Fantasy Base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73152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Fantasy Base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74484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Fantasy Base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001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Fantasy Base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s: Batting Average, Homeruns, Stolen Bases, Runs, and R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chers: ERA (Earned Run Average), WHIP (Walks and Hits per Inning Pitched), Strikes, Saves, and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the optimal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Managerial Probl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81080" y="1600200"/>
            <a:ext cx="879192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teams in the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5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Posi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it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Pitcher (SP), Relief Pitcher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cher, 1st Baseman, 2nd Baseman, 3rd Baseman, SS, OF, and U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Managerial Probl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core above 8 in each baseball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come the leading fantasy baseball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320" y="763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Form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ximize Pro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raft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769 available Baseball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layer positions (SP, RP, 1B, 2B, 3B, SS, C, OF, and Ut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layer stats (ERA, WHIP, Strikes, Wins, Saves, HR, Runs, SB, RBI, and Batting Ave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24080" y="12351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$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42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1:53:24Z</dcterms:created>
  <dc:creator> </dc:creator>
  <dc:description/>
  <dc:language>en-US</dc:language>
  <cp:lastModifiedBy> </cp:lastModifiedBy>
  <dcterms:modified xsi:type="dcterms:W3CDTF">2005-05-02T13:55:38Z</dcterms:modified>
  <cp:revision>18</cp:revision>
  <dc:subject/>
  <dc:title>Slide 1</dc:title>
</cp:coreProperties>
</file>