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2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CD1F-0312-4E01-B916-2BC9137A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0F73-B57B-4CFC-96CA-080D23E7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C9C-8F74-49F4-A839-42EA2841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7A20-0D43-4A3F-8923-EA2E194D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9E9D-D5AC-415E-9169-A8F1330E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F66C-CCB2-408F-9F1F-71BE8286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A9E7-256B-4B12-A7F4-15715696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1382-CDCA-4952-BD9D-EA50B4AC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5598-97A6-4244-BDB8-AA09CA96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FC79-5E6D-42C4-A92D-EABAE23E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A6DC-8708-4DE9-9252-45A0D179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C10-A6EA-4A4B-930F-9692AA64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F814-3A7E-461D-B41C-09EFF6DE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95A8-142E-4738-8596-4507FD48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34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412A-9F00-41F8-B26D-CC129720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9978-FCA8-489F-9782-631F7D1A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BE13-9BB4-4843-AC58-4E81B5AD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2C75-0B03-473E-82C9-23E4FFD2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40A-4063-443C-8807-A6308E37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658-93EB-4246-8B39-F6240904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B7A3-8501-4A6C-AE33-A17161E4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C99C-E10D-46F7-9699-4BB91902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4F9D-DBCB-407A-A672-C0733AB3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6C7-A514-4038-8371-2356960E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5FC6-9FCE-45EA-BCE8-525D33201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EE47-D5C0-4DC4-986A-011EF040D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to Split the Rent</a:t>
            </a:r>
            <a:br>
              <a:rPr sz="4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Study in Equitable Domicile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cision Models Final Present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ick Conno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tephanie Le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im McAndrew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rc Straus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plus Maximization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52280" y="1638360"/>
            <a:ext cx="8874360" cy="4305240"/>
            <a:chOff x="152280" y="1638360"/>
            <a:chExt cx="8874360" cy="430524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152280" y="1638360"/>
              <a:ext cx="8874360" cy="43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flipH="1">
              <a:off x="7009920" y="563868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4674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543800" y="4572000"/>
              <a:ext cx="457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esting Scenario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at if everyone submits the same bid for the same room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at if one person has the highest bid for more than one room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at happens when everyone bids the minimum $100 for a specific room because no one wants it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me Bid for the Same Roo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ile a simple model breaks down…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Surplus Maximization model helps us achieve our goa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9600" y="2403360"/>
            <a:ext cx="7756200" cy="2206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28800" y="2590920"/>
            <a:ext cx="1295280" cy="1218960"/>
          </a:xfrm>
          <a:prstGeom prst="rect">
            <a:avLst/>
          </a:prstGeom>
          <a:solidFill>
            <a:srgbClr val="ffff00">
              <a:alpha val="18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me Bid for the Same Roo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y aiming to maximize consumer surplus rather than simply award a room to the highest bidder, we are able to overcome the deficiencies caused by using the simple mod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04880" y="2641680"/>
            <a:ext cx="7981920" cy="3959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581960" y="5286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571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201080" y="64008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e Person Wins Multiple Roo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756560" cy="2206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38280" y="2590920"/>
            <a:ext cx="2743200" cy="152280"/>
          </a:xfrm>
          <a:prstGeom prst="rect">
            <a:avLst/>
          </a:prstGeom>
          <a:solidFill>
            <a:srgbClr val="ffff00">
              <a:alpha val="18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e Person Wins Multiple Roo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09680" y="1509840"/>
            <a:ext cx="8686800" cy="4413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001000" y="4533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54380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 One Wants a Specific Roo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52400" y="1803240"/>
            <a:ext cx="7543800" cy="2206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257800" y="1981080"/>
            <a:ext cx="1295280" cy="1219320"/>
          </a:xfrm>
          <a:prstGeom prst="rect">
            <a:avLst/>
          </a:prstGeom>
          <a:solidFill>
            <a:srgbClr val="ffff00">
              <a:alpha val="18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 One Wants a Specific Roo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49360" y="1665360"/>
            <a:ext cx="8556480" cy="4279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315200" y="4648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16256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 and Recommend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simple model works when no conflicting variables are introduce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complex model addresses conflicts that arise when certain roommates have the same preferences and/or dislikes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Practical U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elecom Industry: Bidding for use of bandwidth and spectru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idding for Government contrac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irline rout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4496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me friends have found the perfect house to rent.  It has 6 rooms, each with different characteristic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867280" y="1828800"/>
            <a:ext cx="2293920" cy="1892160"/>
            <a:chOff x="5867280" y="1828800"/>
            <a:chExt cx="2293920" cy="18921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5867280" y="1828800"/>
              <a:ext cx="2293920" cy="15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248520" y="33526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Ballr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276720" y="2819520"/>
            <a:ext cx="2057400" cy="1816200"/>
            <a:chOff x="3276720" y="2819520"/>
            <a:chExt cx="2057400" cy="181620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3276720" y="2819520"/>
              <a:ext cx="1928880" cy="14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276720" y="42674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Conserva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33520" y="3124080"/>
            <a:ext cx="2057400" cy="1816200"/>
            <a:chOff x="533520" y="3124080"/>
            <a:chExt cx="2057400" cy="1816200"/>
          </a:xfrm>
        </p:grpSpPr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609840" y="3124080"/>
              <a:ext cx="190188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33520" y="457200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Billiard R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200400" y="4876920"/>
            <a:ext cx="1901880" cy="1816200"/>
            <a:chOff x="3200400" y="4876920"/>
            <a:chExt cx="1901880" cy="1816200"/>
          </a:xfrm>
        </p:grpSpPr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3200400" y="4876920"/>
              <a:ext cx="190188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581280" y="632484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H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09480" y="5029200"/>
            <a:ext cx="1901880" cy="1753920"/>
            <a:chOff x="609480" y="5029200"/>
            <a:chExt cx="1901880" cy="1753920"/>
          </a:xfrm>
        </p:grpSpPr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609480" y="5029200"/>
              <a:ext cx="190188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838080" y="64148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Libr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53240" y="4191120"/>
            <a:ext cx="2376360" cy="2120760"/>
            <a:chOff x="5853240" y="4191120"/>
            <a:chExt cx="2376360" cy="2120760"/>
          </a:xfrm>
        </p:grpSpPr>
        <p:pic>
          <p:nvPicPr>
            <p:cNvPr id="103" name="" descr=""/>
            <p:cNvPicPr/>
            <p:nvPr/>
          </p:nvPicPr>
          <p:blipFill>
            <a:blip r:embed="rId6"/>
            <a:stretch/>
          </p:blipFill>
          <p:spPr>
            <a:xfrm>
              <a:off x="5853240" y="4191120"/>
              <a:ext cx="2376360" cy="17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310440" y="59436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Lou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097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Definition, con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6096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roommates must decide who will live in each room, and what each room’s rent will b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90720" y="2895480"/>
            <a:ext cx="1981080" cy="1816200"/>
            <a:chOff x="990720" y="2895480"/>
            <a:chExt cx="1981080" cy="181620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990720" y="2895480"/>
              <a:ext cx="190188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990720" y="43434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onel Must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990720" y="4952880"/>
            <a:ext cx="1901880" cy="1816200"/>
            <a:chOff x="990720" y="4952880"/>
            <a:chExt cx="1901880" cy="181620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990720" y="4952880"/>
              <a:ext cx="19018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352520" y="64008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r.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4724280"/>
            <a:ext cx="1901880" cy="1816200"/>
            <a:chOff x="6553080" y="4724280"/>
            <a:chExt cx="1901880" cy="181620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6553080" y="4724280"/>
              <a:ext cx="19018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629400" y="61722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fessor Pl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657600" y="4738680"/>
            <a:ext cx="2293920" cy="2120760"/>
            <a:chOff x="3657600" y="4738680"/>
            <a:chExt cx="2293920" cy="2120760"/>
          </a:xfrm>
        </p:grpSpPr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3657600" y="4738680"/>
              <a:ext cx="229392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038840" y="649116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ss Scarl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629400" y="1600200"/>
            <a:ext cx="1600200" cy="2654280"/>
            <a:chOff x="6629400" y="1600200"/>
            <a:chExt cx="1600200" cy="2654280"/>
          </a:xfrm>
        </p:grpSpPr>
        <p:pic>
          <p:nvPicPr>
            <p:cNvPr id="120" name="" descr=""/>
            <p:cNvPicPr/>
            <p:nvPr/>
          </p:nvPicPr>
          <p:blipFill>
            <a:blip r:embed="rId5"/>
            <a:srcRect l="14546" t="0" r="0" b="0"/>
            <a:stretch/>
          </p:blipFill>
          <p:spPr>
            <a:xfrm>
              <a:off x="6629400" y="1600200"/>
              <a:ext cx="157176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858000" y="38862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rs. Wh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736800" y="2819520"/>
            <a:ext cx="1901880" cy="1815840"/>
            <a:chOff x="3736800" y="2819520"/>
            <a:chExt cx="1901880" cy="1815840"/>
          </a:xfrm>
        </p:grpSpPr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3736800" y="2819520"/>
              <a:ext cx="190188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827520" y="42670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rs. Peac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mple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 start with a simple model, using a bidding process to allocate rent and roo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highest bidder for each room will win that roo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fter determining the winner for each room, their winning bids will be added to yield the “winning house rent”, which will inevitably be &gt; the actual rent of $5,000/month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ctual room rents will be scaled down on a prorated basis so what people actually pay adds up to $5,000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d Structu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ch roommate distributes $5000 (the total monthly rent for the house) among the six rooms, with a minimum bid of $100.  Each roommate must bid on each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280" y="3075120"/>
            <a:ext cx="88394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7644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en exactly one person has the highest bid for exactly one room, the process is simple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planation of scale in determining r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tal surplus can be defined as total willingness to pay for a single room less the actual r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14942" r="34631" b="45217"/>
          <a:stretch/>
        </p:blipFill>
        <p:spPr>
          <a:xfrm>
            <a:off x="533520" y="2286000"/>
            <a:ext cx="8001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s with a Simple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ile the process when exactly one person has the highest bid for exactly one room can be quite easy, this might not always be the case…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refore, we’ve formulated a model that will take each roommates bid into consideration, with the ultimate objective of maximizing total “consumer surplus”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umer surplus for each room is defined as willingness to pay less the actual rent (as determined by the auction process) and is calculated by subtracting $5000 from the sum of the winning bids from each room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plus Maximization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-788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s solver to maximize total consumer surplus, benefiting the household as a whole while still benefiting each roommat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7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78840" indent="-788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ctual rents are determined by dividing the winning bid for a specific room by the “scale factor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7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78840" indent="-788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ale Factor = Sum of winning bids / $5000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e room per pers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e person per roo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tal rent must be equal to $5000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nary func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36 binary decision variables are whether each roommate has each room or not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9880" y="3914640"/>
            <a:ext cx="496260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8:18:48Z</dcterms:created>
  <dc:creator>Timothy McAndrews</dc:creator>
  <dc:description/>
  <dc:language>en-US</dc:language>
  <cp:lastModifiedBy>Steph</cp:lastModifiedBy>
  <dcterms:modified xsi:type="dcterms:W3CDTF">2006-04-26T19:57:31Z</dcterms:modified>
  <cp:revision>37</cp:revision>
  <dc:subject/>
  <dc:title>What Room Do You Want? A Study in Equitable Domicile Distribution</dc:title>
</cp:coreProperties>
</file>