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C18-C3CE-4E47-A7D2-573DF41A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E34-4D9C-4B61-BB8F-2A9AC0E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BEE-ED75-4D11-A4EB-DC5C918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E99-D2C0-4FEF-B91D-037E6B4F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358-169A-484C-88BB-8D088EFC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6FA-7321-46AE-8D66-FDABEB2D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2EAB-C771-4B84-81A9-E6AF7A40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C042-23B4-4235-B692-89FF64B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B5C5-5E07-4C9D-8C97-B8FAFE0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226-43F6-46D2-AAFB-09A0481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A14-B827-4F3D-B40A-CC76853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E85-52A0-4B89-8FB5-1AC8981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4802-7EDD-4D3C-81BA-17EB626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708C-9541-4FCE-AED5-FF7E246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94F-0D20-4F2C-86B4-546B58F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B1C-1BE7-4CCE-BDC0-9A6FFF86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649-AB3D-45A6-83EF-CD7FD81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CF5-4147-40AE-9181-AA0BD0D5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0C2-4964-4788-870D-5FF86D9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8A6-5122-410E-B702-440A901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9B1-DD53-4FDF-A87D-CB6555B7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180-87CD-45EF-80FF-332D48D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077-2274-4D23-AB70-DA0E8C1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E9A-AFA8-4B0C-9E57-6A6FB72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F5B-340F-46DA-A0C2-95AE934D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6BD-B101-4BF8-A9E0-62A1F3AA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Split the Rent</a:t>
            </a:r>
            <a:br>
              <a:rPr sz="4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Study in Equitable Domicile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cision Models Final 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ick Conno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ephanie Le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im McAndrew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rc Straus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plus Maximization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2280" y="1638360"/>
            <a:ext cx="8874360" cy="4305240"/>
            <a:chOff x="152280" y="1638360"/>
            <a:chExt cx="8874360" cy="43052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52280" y="1638360"/>
              <a:ext cx="887436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7009920" y="56386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543800" y="45720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esting Scenari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if everyone submits the same bid for the same room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if one person has the highest bid for more than one room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happens when everyone bids the minimum $100 for a specific room because no one wants i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Bid for the Same R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ile a simple model breaks down…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Surplus Maximization model helps us achieve our go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" y="2403360"/>
            <a:ext cx="775620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8800" y="2590920"/>
            <a:ext cx="1295280" cy="121896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Bid for the Same Roo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 aiming to maximize consumer surplus rather than simply award a room to the highest bidder, we are able to overcome the deficiencies caused by using the simple mod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4880" y="2641680"/>
            <a:ext cx="7981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81960" y="52862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201080" y="6400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 Person Wins Multiple Roo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56560" cy="2206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8280" y="2590920"/>
            <a:ext cx="2743200" cy="15228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 Person Wins Multiple Roo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9680" y="1509840"/>
            <a:ext cx="8686800" cy="4413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001000" y="4533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5438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Wants a Specific Roo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2400" y="1803240"/>
            <a:ext cx="7543800" cy="2206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981080"/>
            <a:ext cx="1295280" cy="1219320"/>
          </a:xfrm>
          <a:prstGeom prst="rect">
            <a:avLst/>
          </a:prstGeom>
          <a:solidFill>
            <a:srgbClr val="ffff00">
              <a:alpha val="18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Wants a Specific Roo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49360" y="1665360"/>
            <a:ext cx="8556480" cy="427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1520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16256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and Recommend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imple model works when no conflicting variables are introduc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omplex model addresses conflicts that arise when certain roommates have the same preferences and/or dislike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actical 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lecom Industry: Bidding for use of bandwidth and spectru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dding for Government contra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irline rou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96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friends have found the perfect house to rent.  It has 6 rooms, each with different characteristic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67280" y="1828800"/>
            <a:ext cx="2293920" cy="1892160"/>
            <a:chOff x="5867280" y="1828800"/>
            <a:chExt cx="2293920" cy="1892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229392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248520" y="33526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Ball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720" y="2819520"/>
            <a:ext cx="2057400" cy="1816200"/>
            <a:chOff x="3276720" y="2819520"/>
            <a:chExt cx="2057400" cy="181620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276720" y="2819520"/>
              <a:ext cx="19288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76720" y="4267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nserva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3520" y="3124080"/>
            <a:ext cx="2057400" cy="1816200"/>
            <a:chOff x="533520" y="3124080"/>
            <a:chExt cx="2057400" cy="18162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09840" y="3124080"/>
              <a:ext cx="1901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3520" y="45720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Billiard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0400" y="4876920"/>
            <a:ext cx="1901880" cy="1816200"/>
            <a:chOff x="3200400" y="4876920"/>
            <a:chExt cx="1901880" cy="1816200"/>
          </a:xfrm>
        </p:grpSpPr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200400" y="487692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581280" y="632484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480" y="5029200"/>
            <a:ext cx="1901880" cy="1753920"/>
            <a:chOff x="609480" y="5029200"/>
            <a:chExt cx="1901880" cy="175392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609480" y="502920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38080" y="6414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ibr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53240" y="4191120"/>
            <a:ext cx="2376360" cy="2120760"/>
            <a:chOff x="5853240" y="4191120"/>
            <a:chExt cx="2376360" cy="2120760"/>
          </a:xfrm>
        </p:grpSpPr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5853240" y="4191120"/>
              <a:ext cx="237636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310440" y="59436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ou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09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Definition,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roommates must decide who will live in each room, and what each room’s rent will b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90720" y="2895480"/>
            <a:ext cx="1981080" cy="1816200"/>
            <a:chOff x="990720" y="2895480"/>
            <a:chExt cx="1981080" cy="1816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990720" y="2895480"/>
              <a:ext cx="1901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90720" y="43434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onel Must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90720" y="4952880"/>
            <a:ext cx="1901880" cy="1816200"/>
            <a:chOff x="990720" y="4952880"/>
            <a:chExt cx="1901880" cy="18162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990720" y="4952880"/>
              <a:ext cx="19018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352520" y="6400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.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4724280"/>
            <a:ext cx="1901880" cy="1816200"/>
            <a:chOff x="6553080" y="4724280"/>
            <a:chExt cx="1901880" cy="181620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553080" y="4724280"/>
              <a:ext cx="19018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29400" y="61722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 P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57600" y="4738680"/>
            <a:ext cx="2293920" cy="2120760"/>
            <a:chOff x="3657600" y="4738680"/>
            <a:chExt cx="2293920" cy="212076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657600" y="4738680"/>
              <a:ext cx="229392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038840" y="64911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 Scar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629400" y="1600200"/>
            <a:ext cx="1600200" cy="2654280"/>
            <a:chOff x="6629400" y="1600200"/>
            <a:chExt cx="1600200" cy="265428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rcRect l="14546" t="0" r="0" b="0"/>
            <a:stretch/>
          </p:blipFill>
          <p:spPr>
            <a:xfrm>
              <a:off x="6629400" y="1600200"/>
              <a:ext cx="15717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58000" y="3886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s. 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736800" y="2819520"/>
            <a:ext cx="1901880" cy="1815840"/>
            <a:chOff x="3736800" y="2819520"/>
            <a:chExt cx="1901880" cy="181584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736800" y="2819520"/>
              <a:ext cx="1901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27520" y="42670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s. Peac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start with a simple model, using a bidding process to allocate rent and roo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highest bidder for each room will win that roo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fter determining the winner for each room, their winning bids will be added to yield the “winning house rent”, which will inevitably be &gt; the actual rent of $5,000/mon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ual room rents will be scaled down on a prorated basis so what people actually pay adds up to $5,00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d Stru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roommate distributes $5000 (the total monthly rent for the house) among the six rooms, with a minimum bid of $100.  Each roommate must bid on each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3075120"/>
            <a:ext cx="8839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764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n exactly one person has the highest bid for exactly one room, the process is simple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lanation of scale in determining r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surplus can be defined as total willingness to pay for a single room less the actual r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14942" r="34631" b="45217"/>
          <a:stretch/>
        </p:blipFill>
        <p:spPr>
          <a:xfrm>
            <a:off x="533520" y="2286000"/>
            <a:ext cx="8001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s with a Simple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le the process when exactly one person has the highest bid for exactly one room can be quite easy, this might not always be the case…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refore, we’ve formulated a model that will take each roommates bid into consideration, with the ultimate objective of maximizing total “consumer surplus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umer surplus for each room is defined as willingness to pay less the actual rent (as determined by the auction process) and is calculated by subtracting $5000 from the sum of the winning bids from each room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plus Maximization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s solver to maximize total consumer surplus, benefiting the household as a whole while still benefiting each roomma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ual rents are determined by dividing the winning bid for a specific room by the “scale factor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 Factor = Sum of winning bids / $500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room per pers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person per roo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rent must be equal to $5000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ary func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36 binary decision variables are whether each roommate has each room or no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3914640"/>
            <a:ext cx="49626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48Z</dcterms:created>
  <dc:creator>Timothy McAndrews</dc:creator>
  <dc:description/>
  <dc:language>en-US</dc:language>
  <cp:lastModifiedBy>Steph</cp:lastModifiedBy>
  <dcterms:modified xsi:type="dcterms:W3CDTF">2006-04-26T19:57:31Z</dcterms:modified>
  <cp:revision>37</cp:revision>
  <dc:subject/>
  <dc:title>What Room Do You Want? A Study in Equitable Domicile Distribution</dc:title>
</cp:coreProperties>
</file>