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9.wmf" ContentType="image/x-wmf"/>
  <Override PartName="/ppt/media/image17.wmf" ContentType="image/x-wmf"/>
  <Override PartName="/ppt/media/image15.jpeg" ContentType="image/jpeg"/>
  <Override PartName="/ppt/media/image14.jpeg" ContentType="image/jpeg"/>
  <Override PartName="/ppt/media/image16.wmf" ContentType="image/x-wmf"/>
  <Override PartName="/ppt/media/image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478-081B-4D59-8734-99EE66C6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D6E-F2A5-4D08-B3E0-B7D13373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1C7-A72E-43B6-A8C4-A48054B0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05E-A07E-4897-ACE5-05B197E7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A10D-71E2-48B0-AAC4-8A29C73A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275-E082-41AC-A0A7-ECB26B42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CE25-26CA-461F-B4B5-C5FE8C29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5F8-618E-4A5A-A6DA-32F518E7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8D0-6FDD-4D78-9827-F1A1D81C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0AC-89B5-48E8-9863-3B91A704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85D0-630F-4E95-9614-C59B1908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EE2-C363-4900-802D-6A14BDF0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DF7F-B511-4201-B5C2-03D1F026D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/imgres?imgurl=http://neuromancerwp.free.fr/Unknown%2520Model%252001.png&amp;imgrefurl=http://neuromancerwp.free.fr/&amp;h=1024&amp;w=1280&amp;sz=944&amp;tbnid=D5DYXZSj-WQJ:&amp;tbnh=120&amp;tbnw=150&amp;prev=/images%3Fq%3Dmodel%26hl%3Den%26lr%3D&amp;start=2&amp;sa=X&amp;oi=images&amp;ct=image&amp;cd=2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AVK Women’s Boutique</a:t>
            </a:r>
            <a:br>
              <a:rPr sz="44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ere to loc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iti Bhand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 B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jandro John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kram P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BCP014-17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362320" cy="1575000"/>
          </a:xfrm>
          <a:prstGeom prst="rect">
            <a:avLst/>
          </a:prstGeom>
          <a:ln w="0">
            <a:noFill/>
          </a:ln>
        </p:spPr>
      </p:pic>
      <p:pic>
        <p:nvPicPr>
          <p:cNvPr id="44" name="BCP014-20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BCP014-10" descr=""/>
          <p:cNvPicPr/>
          <p:nvPr/>
        </p:nvPicPr>
        <p:blipFill>
          <a:blip r:embed="rId3"/>
          <a:stretch/>
        </p:blipFill>
        <p:spPr>
          <a:xfrm>
            <a:off x="4800600" y="3808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BCP014-12" descr=""/>
          <p:cNvPicPr/>
          <p:nvPr/>
        </p:nvPicPr>
        <p:blipFill>
          <a:blip r:embed="rId4"/>
          <a:stretch/>
        </p:blipFill>
        <p:spPr>
          <a:xfrm>
            <a:off x="6553080" y="380880"/>
            <a:ext cx="213372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: Score zip codes 1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CEILING(10*(M4-MIN(M$4:M$74)) / (MAX(M$4:M$74)-MIN(M$4:M$74)),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4: Assign weights t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53080" y="327672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43000" y="2946240"/>
            <a:ext cx="388620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5: Sumproduct weights by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442280" y="533520"/>
            <a:ext cx="106668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2205000"/>
            <a:ext cx="853452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6: Create variance in we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stal Ball: vary weights by 10% in uniform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s protect against subjective nature of 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way to solve group dis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 statistics of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18 always ranked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38 and 10012 either ranked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12 either ranked from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6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442280" y="533520"/>
            <a:ext cx="1066680" cy="1600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69343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7: Conduct sensitivity on weight of 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 was most significant input (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442280" y="533520"/>
            <a:ext cx="1066680" cy="1600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1462320" cy="426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038480" y="3048120"/>
            <a:ext cx="3886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expected, if rent is less of an important factor, 10012 (SoHo) is top ran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nt is the sole factor (&gt; 70%), 10038 (Downtown near Wall St.) is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41911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 codes are large lan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not at desired level of specif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subject to our weight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35049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Takeaways –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tail Bou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23920" y="1676520"/>
            <a:ext cx="396252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provides a good starting point for retail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ggest challenge for a NYC boutique is generating enough revenue to overcome the significant cost of 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 between foottraffic/prestige and 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ying conventional wisdom, the popular boutique neighborhoods (SoHo) may not be i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915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 Question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Decis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and Bi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Model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Takeaways About Retail Bou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15000" y="22860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86600" y="22860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62120" y="1371600"/>
            <a:ext cx="3168360" cy="5334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H="1">
            <a:off x="1905120" y="2895480"/>
            <a:ext cx="2743200" cy="2210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2604960"/>
            <a:ext cx="30481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location: 10018* (Midtown W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d for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38 (Downt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128 (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: 10012 (So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5562720"/>
            <a:ext cx="373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e to high intra-zip code variability, the top four zip codes should be further investigated to determine optimal 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k the best Manhattan zip code to launch flagship st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 and learn about different factors related to the boutique retail indu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ch an internal company consensus about importance of factors influencing store 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8003" t="11867" r="9997" b="8478"/>
          <a:stretch/>
        </p:blipFill>
        <p:spPr>
          <a:xfrm>
            <a:off x="4952880" y="1676520"/>
            <a:ext cx="3353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23920" y="144792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ntal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graphic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male Percent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history of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ential foot traff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mentary busi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relevan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358164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6477120"/>
            <a:ext cx="838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s included: Census.gov, rental listings, citysearchguide.com, various real estate pub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sible Decision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1911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Tre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ies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Benefi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urrent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objective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 sensi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1900" t="3105" r="0" b="5244"/>
          <a:stretch/>
        </p:blipFill>
        <p:spPr>
          <a:xfrm>
            <a:off x="4648320" y="1371600"/>
            <a:ext cx="3933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lected Model and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ed zip codes by univers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Vari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ed Boutique Success (Optimal Lo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orre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ed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corre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ation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demo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tors (to generate foot traff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Prestige (Per City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15402" r="0" b="0"/>
          <a:stretch/>
        </p:blipFill>
        <p:spPr>
          <a:xfrm>
            <a:off x="6934320" y="3581280"/>
            <a:ext cx="17269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http://neuromancerwp.free.fr/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1371600"/>
            <a:ext cx="1714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sumptions and Bi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5257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live in NY and have location b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ho vs. 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d our inputs were fully determinis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jective assumptions for relative we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619280" cy="1447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324480" y="2590920"/>
            <a:ext cx="2073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: Consolidate raw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 Scale raw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Determine # of retail stores per sq. m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86600" y="533520"/>
            <a:ext cx="1422360" cy="2133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09680" y="3124080"/>
            <a:ext cx="77436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1:53:06Z</dcterms:created>
  <dc:creator>Kriti Bhandari</dc:creator>
  <dc:description/>
  <dc:language>en-US</dc:language>
  <cp:lastModifiedBy>Stern Business School</cp:lastModifiedBy>
  <dcterms:modified xsi:type="dcterms:W3CDTF">2006-04-27T20:14:07Z</dcterms:modified>
  <cp:revision>15</cp:revision>
  <dc:subject/>
  <dc:title>MAAVK Women’s Boutique Where to locate?</dc:title>
</cp:coreProperties>
</file>