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12.wmf" ContentType="image/x-wmf"/>
  <Override PartName="/ppt/media/image4.png" ContentType="image/png"/>
  <Override PartName="/ppt/media/image9.wmf" ContentType="image/x-wmf"/>
  <Override PartName="/ppt/media/image11.wmf" ContentType="image/x-wmf"/>
  <Override PartName="/ppt/media/image23.jpeg" ContentType="image/jpeg"/>
  <Override PartName="/ppt/media/image19.wmf" ContentType="image/x-wmf"/>
  <Override PartName="/ppt/media/image16.gif" ContentType="image/gif"/>
  <Override PartName="/ppt/media/image21.png" ContentType="image/png"/>
  <Override PartName="/ppt/media/image20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E8BF-9A6D-4828-950D-D36491AFE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 teams in groups of 4 – play 3 games to determine best two teams in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2 teams of each group go to next 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1 teams of groups play number 2 teams of other groups for spot in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ing on group any one team is in, their probability changes as far as making the next round due to their opponent’s cap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 teams in groups of 4 – play 3 games to determine best two teams in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2 teams of each group go to next 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1 teams of groups play number 2 teams of other groups for spot in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ing on group any one team is in, their probability changes as far as making the next round due to their opponent’s cap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Points (3 for win, 1 for tie, 0 for loss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Goal Difference (with a tie of point the team with a higher GD passes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Alphabetical order (if a tie in both of the above items, just go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betical order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DC4E-A655-47D5-BB9A-D462E3B1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85B-479D-4E41-8939-8CBCB5D6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130A-F0F7-4D77-9D89-1CAF5656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D4C-D176-478B-82AC-A82ACAC0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8D1-71C6-4881-858B-959A6DA8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4616-289E-41A2-BDDB-C85B250D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304-E0BC-46E1-9579-A12FEDBB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040-44DF-4911-ACAE-8CA28DBD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6FE2-177F-44CB-9A84-4B9889D2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168A-3AD3-4BE2-9759-BFFF9396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C635-3685-41E7-A88F-73B37DBA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7E3A-18F7-4CA4-9945-9D09D683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fifaworldcup.yahoo.com/06/en/p/h/fifa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2D45-6362-4C11-9F47-F60F90C58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FIF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0"/>
            <a:ext cx="1447920" cy="1008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fifaworldcup.yahoo.com/06/en/p/h/fifa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2.jpeg"/><Relationship Id="rId5" Type="http://schemas.openxmlformats.org/officeDocument/2006/relationships/hyperlink" Target="http://fifaworldcup.yahoo.com/06/en/p/h/trophy.html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fifaworldcup.yahoo.com/06/en/p/h/trophy.html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4720" y="533520"/>
            <a:ext cx="488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orld Cup Mod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5280" y="3922560"/>
            <a:ext cx="27349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ardo Baqu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iana Bl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Lif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fael Tej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art Toma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Determines Probability of Each Team Winning World 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3276720" cy="900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H="1">
            <a:off x="4266720" y="3290760"/>
            <a:ext cx="83844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2909880"/>
            <a:ext cx="3809880" cy="838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represents winning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39604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94812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500200"/>
            <a:ext cx="457200" cy="1462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006560"/>
            <a:ext cx="457200" cy="1508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-411840" y="1653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357120" y="45496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-567360" y="30830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-525960" y="5940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e Predicted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2404800" cy="2590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048120" y="1828800"/>
            <a:ext cx="2590560" cy="1662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539604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948120"/>
            <a:ext cx="457200" cy="146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500200"/>
            <a:ext cx="457200" cy="1462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006560"/>
            <a:ext cx="457200" cy="1508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411840" y="1653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-357120" y="45496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-567360" y="30830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-525960" y="5940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 5 Teams for Each 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396040"/>
            <a:ext cx="457200" cy="14619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94812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500200"/>
            <a:ext cx="457200" cy="1462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006560"/>
            <a:ext cx="457200" cy="1508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-411840" y="1653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-357120" y="45496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-567360" y="30830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-525960" y="5940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1828800"/>
            <a:ext cx="5181840" cy="1523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3429000"/>
            <a:ext cx="5181840" cy="15238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5029200"/>
            <a:ext cx="5181840" cy="1523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181840" cy="1422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193000" cy="1425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969920" y="5051520"/>
            <a:ext cx="519300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822400" y="2743200"/>
            <a:ext cx="328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used to create rank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A ran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2 WCP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8 WCP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Betting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77320" cy="2876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FIF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29718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2895480" y="2800440"/>
            <a:ext cx="5410440" cy="4057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The FIFA World CupTM Troph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3962520"/>
            <a:ext cx="114300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4057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733920" y="280044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historical data as well as reputable rankings in order to predict the 2006 world cup w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5530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World 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Wi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396040"/>
            <a:ext cx="457200" cy="14619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948120"/>
            <a:ext cx="457200" cy="146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500200"/>
            <a:ext cx="457200" cy="1462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06560"/>
            <a:ext cx="457200" cy="1508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411840" y="1653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-357120" y="45496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-567360" y="30830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-525960" y="5940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1523880"/>
            <a:ext cx="22096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1960" y="1600200"/>
            <a:ext cx="1981080" cy="1217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52480" y="2878200"/>
            <a:ext cx="1960560" cy="1193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31960" y="4033800"/>
            <a:ext cx="1981080" cy="1300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831960" y="5338800"/>
            <a:ext cx="2066760" cy="1290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193920" y="2438280"/>
            <a:ext cx="91440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2438280"/>
            <a:ext cx="9144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15000" y="2438280"/>
            <a:ext cx="914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2438280"/>
            <a:ext cx="9144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9040" y="322596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85240" y="297180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04560" y="274320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7560" y="259092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The FIFA World CupTM Troph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001000" y="2362320"/>
            <a:ext cx="1143000" cy="1190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19520" y="342900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324792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301932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19520"/>
            <a:ext cx="3812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72400" y="266688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28960" y="113184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39604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94812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500200"/>
            <a:ext cx="457200" cy="1462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06560"/>
            <a:ext cx="457200" cy="1508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411840" y="1653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357120" y="45496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-567360" y="30830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525960" y="5940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39604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94812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500200"/>
            <a:ext cx="457200" cy="1462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006560"/>
            <a:ext cx="457200" cy="1508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411840" y="1653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357120" y="45496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567360" y="30830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-525960" y="5940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29718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8862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1717560" cy="2361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124080" y="2895480"/>
            <a:ext cx="1676520" cy="13716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s of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goe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2514600"/>
            <a:ext cx="1447560" cy="9144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#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3733920"/>
            <a:ext cx="1447560" cy="9144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#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2514600"/>
            <a:ext cx="152280" cy="213372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20264400">
            <a:off x="4876560" y="3048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754800">
            <a:off x="4876920" y="38098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62920" y="2209680"/>
            <a:ext cx="1676160" cy="266724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667240"/>
              <a:gd name="textAreaBottom" fmla="*/ 2585520 h 2667240"/>
            </a:gdLst>
            <a:ahLst/>
            <a:rect l="textAreaLeft" t="textAreaTop" r="textAreaRight" b="textAreaBottom"/>
            <a:pathLst>
              <a:path w="21600" h="34369">
                <a:moveTo>
                  <a:pt x="3600" y="0"/>
                </a:moveTo>
                <a:arcTo wR="3600" hR="3600" stAng="16200000" swAng="-5400000"/>
                <a:lnTo>
                  <a:pt x="0" y="30769"/>
                </a:lnTo>
                <a:arcTo wR="3600" hR="3600" stAng="10800000" swAng="-5400000"/>
                <a:lnTo>
                  <a:pt x="18000" y="34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abilit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ing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g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p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486400"/>
            <a:ext cx="236196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team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differen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66840" y="4800600"/>
            <a:ext cx="333360" cy="609480"/>
          </a:xfrm>
          <a:prstGeom prst="upArrow">
            <a:avLst>
              <a:gd name="adj1" fmla="val 50000"/>
              <a:gd name="adj2" fmla="val 457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3640" y="270360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828800"/>
            <a:ext cx="710244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ision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res for each first round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torical m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FA rank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World Cup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2 World Cup result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-win odds from betting webs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d to create a cumulative ranking for each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ai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re must be in inte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re must be greater than or equal to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39604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94812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500200"/>
            <a:ext cx="457200" cy="1462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006560"/>
            <a:ext cx="457200" cy="1508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-411840" y="1653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-357120" y="45496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567360" y="30830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-525960" y="5940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47242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ology for Ranking Te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5400" y="1992240"/>
            <a:ext cx="57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separate scenarios for the tournam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7080" y="3327480"/>
            <a:ext cx="52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ve equal weights to each ranking us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0160" y="4506840"/>
            <a:ext cx="60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quality factor included in cumulative sc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39604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4812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500200"/>
            <a:ext cx="457200" cy="1462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006560"/>
            <a:ext cx="457200" cy="1508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411840" y="1653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-357120" y="45496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-567360" y="30830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-525960" y="5940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14400" y="3776760"/>
            <a:ext cx="7467480" cy="533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6400800" cy="703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914400" y="5029200"/>
            <a:ext cx="68580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ystal Ball Simulation of Tourn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3520" y="2616120"/>
            <a:ext cx="8381880" cy="1262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H="1">
            <a:off x="5410080" y="25146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5680" y="214956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ption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39604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94812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500200"/>
            <a:ext cx="457200" cy="1462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006560"/>
            <a:ext cx="457200" cy="1508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-411840" y="1653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-357120" y="45496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-567360" y="30830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-525960" y="5940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590920"/>
            <a:ext cx="8381880" cy="129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419720"/>
            <a:ext cx="8001000" cy="19047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2240" y="4572000"/>
            <a:ext cx="74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 trials for each of the 3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ners of each round succeeded to next r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subsequent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90720" y="1704960"/>
            <a:ext cx="7619760" cy="4995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539604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94812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500200"/>
            <a:ext cx="457200" cy="1462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006560"/>
            <a:ext cx="457200" cy="1508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-411840" y="1653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-357120" y="45496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-567360" y="30830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-525960" y="5940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5800" y="1143000"/>
            <a:ext cx="48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 Four Rounds of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8:35:28Z</dcterms:created>
  <dc:creator>Mariana Blanco</dc:creator>
  <dc:description/>
  <dc:language>en-US</dc:language>
  <cp:lastModifiedBy>Stu Tomanek</cp:lastModifiedBy>
  <dcterms:modified xsi:type="dcterms:W3CDTF">2006-05-01T12:54:48Z</dcterms:modified>
  <cp:revision>20</cp:revision>
  <dc:subject/>
  <dc:title>Slide 1</dc:title>
</cp:coreProperties>
</file>