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11.wmf" ContentType="image/x-wmf"/>
  <Override PartName="/ppt/media/image23.jpeg" ContentType="image/jpeg"/>
  <Override PartName="/ppt/media/image19.wmf" ContentType="image/x-wmf"/>
  <Override PartName="/ppt/media/image16.gif" ContentType="image/gif"/>
  <Override PartName="/ppt/media/image21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E099-D491-4182-9DEE-8F57E69D1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teams in groups of 4 – play 3 games to determine best two teams in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2 teams of each group go to next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1 teams of groups play number 2 teams of other groups for spot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ing on group any one team is in, their probability changes as far as making the next round due to their opponent’s cap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teams in groups of 4 – play 3 games to determine best two teams in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2 teams of each group go to next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1 teams of groups play number 2 teams of other groups for spot i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ing on group any one team is in, their probability changes as far as making the next round due to their opponent’s cap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oints (3 for win, 1 for tie, 0 for los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Goal Difference (with a tie of point the team with a higher GD passe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Alphabetical order (if a tie in both of the above items, just go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betical order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7E5-22F2-4940-9F00-3ACA1239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ED4-C6C2-4327-80BE-4B76A4DB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CA4-48EF-4AD1-A8B7-5EB80F92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768-C5A8-4575-A85B-17055A4E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761-1416-4312-A37A-D1BD9A8D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D7D-207A-43F1-8C06-5168F0FE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697-CFC0-4D6B-8A84-C7F4E47F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D17-54B6-4A1B-B176-6E33C59F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5EE-2809-4168-BEA4-CD7371FF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D4C-7D52-4D16-ADB6-C5D9852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0DB-C506-4D44-8FC3-D1FCAB6D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EDB-867C-4D0D-84EE-0BFBFAC8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fifaworldcup.yahoo.com/06/en/p/h/fifa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2D91-6FBE-4E5B-A539-69007339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FIF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0"/>
            <a:ext cx="1447920" cy="1008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fifaworldcup.yahoo.com/06/en/p/h/fifa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2.jpeg"/><Relationship Id="rId5" Type="http://schemas.openxmlformats.org/officeDocument/2006/relationships/hyperlink" Target="http://fifaworldcup.yahoo.com/06/en/p/h/trophy.html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fifaworldcup.yahoo.com/06/en/p/h/trophy.html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4720" y="533520"/>
            <a:ext cx="488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ld Cup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5280" y="3922560"/>
            <a:ext cx="27349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ardo Baqu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iana Bl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if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fael Tej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art Toma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Determines Probability of Each Team Winning World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276720" cy="900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4266720" y="3290760"/>
            <a:ext cx="83844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2909880"/>
            <a:ext cx="380988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represents winn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Predicted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404800" cy="259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259056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 5 Teams for Each 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1828800"/>
            <a:ext cx="5181840" cy="1523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3429000"/>
            <a:ext cx="5181840" cy="15238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5029200"/>
            <a:ext cx="5181840" cy="1523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81840" cy="1422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93000" cy="1425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969920" y="5051520"/>
            <a:ext cx="51930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22400" y="2743200"/>
            <a:ext cx="328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used to create ran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A ran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 WCP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WCP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Betting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2876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FIF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9718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895480" y="2800440"/>
            <a:ext cx="5410440" cy="4057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The FIFA World CupTM Troph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3962520"/>
            <a:ext cx="11430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733920" y="280044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istorical data as well as reputable rankings in order to predict the 2006 world cup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5530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World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W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1523880"/>
            <a:ext cx="220968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1960" y="1600200"/>
            <a:ext cx="1981080" cy="1217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52480" y="2878200"/>
            <a:ext cx="196056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1960" y="4033800"/>
            <a:ext cx="1981080" cy="1300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31960" y="5338800"/>
            <a:ext cx="2066760" cy="129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93920" y="2438280"/>
            <a:ext cx="914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438280"/>
            <a:ext cx="9144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2438280"/>
            <a:ext cx="914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2438280"/>
            <a:ext cx="914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9040" y="322596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5240" y="29718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04560" y="27432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7560" y="259092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The FIFA World CupTM Troph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01000" y="2362320"/>
            <a:ext cx="1143000" cy="1190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19520" y="34290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32479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30193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1952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72400" y="266688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28960" y="11318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9718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886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1717560" cy="2361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24080" y="2895480"/>
            <a:ext cx="1676520" cy="13716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of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goe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514600"/>
            <a:ext cx="144756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733920"/>
            <a:ext cx="144756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2514600"/>
            <a:ext cx="152280" cy="213372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264400">
            <a:off x="4876560" y="3048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754800">
            <a:off x="4876920" y="38098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2209680"/>
            <a:ext cx="1676160" cy="266724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667240"/>
              <a:gd name="textAreaBottom" fmla="*/ 2585520 h 2667240"/>
            </a:gdLst>
            <a:ahLst/>
            <a:rect l="textAreaLeft" t="textAreaTop" r="textAreaRight" b="textAreaBottom"/>
            <a:pathLst>
              <a:path w="21600" h="34369">
                <a:moveTo>
                  <a:pt x="3600" y="0"/>
                </a:moveTo>
                <a:arcTo wR="3600" hR="3600" stAng="16200000" swAng="-5400000"/>
                <a:lnTo>
                  <a:pt x="0" y="30769"/>
                </a:lnTo>
                <a:arcTo wR="3600" hR="3600" stAng="10800000" swAng="-5400000"/>
                <a:lnTo>
                  <a:pt x="18000" y="34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ing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p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486400"/>
            <a:ext cx="236196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team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differen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66840" y="4800600"/>
            <a:ext cx="333360" cy="609480"/>
          </a:xfrm>
          <a:prstGeom prst="upArrow">
            <a:avLst>
              <a:gd name="adj1" fmla="val 50000"/>
              <a:gd name="adj2" fmla="val 45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3640" y="270360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828800"/>
            <a:ext cx="71024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res for each first round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ical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FA ran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World Cup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2 World Cup resul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-win odds from betting web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 to create a cumulative ranking for each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re must be in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re must be greater than or equal to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4724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y for Ranking T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5400" y="1992240"/>
            <a:ext cx="57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separate scenarios for the tourna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7080" y="3327480"/>
            <a:ext cx="52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ve equal weights to each ranking u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0160" y="4506840"/>
            <a:ext cx="60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quality factor included in cumulative sc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3776760"/>
            <a:ext cx="7467480" cy="533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6400800" cy="703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68580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ystal Ball Simulation of Tourn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2616120"/>
            <a:ext cx="8381880" cy="1262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>
            <a:off x="5410080" y="2514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5680" y="214956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590920"/>
            <a:ext cx="83818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19720"/>
            <a:ext cx="8001000" cy="19047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2240" y="4572000"/>
            <a:ext cx="74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 trials for each of the 3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ners of each round succeeded to next 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ubsequen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1704960"/>
            <a:ext cx="7619760" cy="499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539604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948120"/>
            <a:ext cx="457200" cy="1461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00200"/>
            <a:ext cx="457200" cy="146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006560"/>
            <a:ext cx="457200" cy="15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-411840" y="1653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-357120" y="4549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-567360" y="3083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-525960" y="5940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5800" y="1143000"/>
            <a:ext cx="48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Four Rounds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8:35:28Z</dcterms:created>
  <dc:creator>Mariana Blanco</dc:creator>
  <dc:description/>
  <dc:language>en-US</dc:language>
  <cp:lastModifiedBy>Stu Tomanek</cp:lastModifiedBy>
  <dcterms:modified xsi:type="dcterms:W3CDTF">2006-05-01T12:54:48Z</dcterms:modified>
  <cp:revision>20</cp:revision>
  <dc:subject/>
  <dc:title>Slide 1</dc:title>
</cp:coreProperties>
</file>