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402-037E-4438-95F4-9946AB7F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F73-27FC-4DDE-AA01-1363EAB7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F23-6B09-45A1-AB94-BA3177B0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8736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980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8736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980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1CF-ED30-4863-ABBC-1D3A0CCB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83F7-D241-46EB-A111-7D238EED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4222-CE1C-4FC7-A340-A3CD280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3EE1-206D-4888-B3CF-8741F2DA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6BEB-D53A-4FF5-A9C9-6A78D3BC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3486-9E1F-4BB9-BD9C-D06473A2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543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E182-5E97-4837-A92A-9CC18764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32AE-27CE-4C23-920E-8A6CB109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5E8-A205-4007-B121-D97A771E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3746-69D3-4551-A011-5569046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7EDF-AE07-44F0-B160-24EF6EA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4B28-C259-44FA-A9F3-026C5C0A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21D6-6119-4405-B98D-F8150957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8736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86980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08736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86980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FCD1-BE87-4FB1-860C-8A33DA32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C82-2A94-4A29-8452-980B6837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607-E199-491E-934F-8DF6A528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85D-58B2-4D5E-87B8-B297A1CB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543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72F-6B5D-4825-91B7-7374C18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EC4-C50F-49CE-8DF1-89C802E3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243-9281-493B-80E0-0B300F0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AFA-2AF5-4C6C-BB03-AA903D1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56060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990800" indent="-316080">
              <a:spcBef>
                <a:spcPts val="4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1F4E-F992-42E8-A960-3509D5F911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304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91400" y="304920"/>
            <a:ext cx="452520" cy="609120"/>
            <a:chOff x="8591400" y="304920"/>
            <a:chExt cx="452520" cy="609120"/>
          </a:xfrm>
        </p:grpSpPr>
        <p:sp>
          <p:nvSpPr>
            <p:cNvPr id="9" name=""/>
            <p:cNvSpPr/>
            <p:nvPr/>
          </p:nvSpPr>
          <p:spPr>
            <a:xfrm>
              <a:off x="859140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752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8364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9140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8752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8364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79760" y="38412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140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752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8364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7976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75880" y="46296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91400" y="541800"/>
              <a:ext cx="68040" cy="5652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8752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8364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79760" y="5418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9140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8752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8364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7976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75880" y="621000"/>
              <a:ext cx="68040" cy="565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91400" y="70020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8752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8364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79760" y="70020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59140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8752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78364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7976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68752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87976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208440" y="6232680"/>
            <a:ext cx="21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Decision Models - Stern Air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07A-430C-4732-B1C2-95B419AB5F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4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lvl="1" marL="3430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480" algn="ctr">
              <a:spcBef>
                <a:spcPts val="349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27936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39204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466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Decision Models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Fleet Assignment and Flight Scheduling-Optimizing under uncertainty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6699"/>
                </a:solidFill>
                <a:latin typeface="Arial"/>
              </a:rPr>
              <a:t>May 1, 2006</a:t>
            </a:r>
            <a:endParaRPr b="0" lang="en-US" sz="1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638680"/>
            <a:ext cx="1523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6699"/>
                </a:solidFill>
                <a:latin typeface="Arial"/>
              </a:rPr>
              <a:t>Team 5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imesh An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and Bald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Rajeev Ra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Shivanker Saxe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riability introduced via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 and Flight time are based on a normal distribution with a standard deviation of 10% of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Spill cost =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light delay cost = $100/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C40-64B0-4BE7-83A2-E0A620D4C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829" t="0" r="0" b="5934"/>
          <a:stretch/>
        </p:blipFill>
        <p:spPr>
          <a:xfrm>
            <a:off x="609480" y="1066680"/>
            <a:ext cx="7693200" cy="495144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749-1C3F-47EC-AD48-C5F6EF1711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351" t="0" r="8108" b="0"/>
          <a:stretch/>
        </p:blipFill>
        <p:spPr>
          <a:xfrm>
            <a:off x="2014560" y="1066680"/>
            <a:ext cx="5105520" cy="504828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8C7-67AD-47E2-8557-C3EF2FF01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16080" y="1066680"/>
            <a:ext cx="6694560" cy="301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4495680"/>
            <a:ext cx="8534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vised annual profit (aircrafts run 340 days / year): $8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77080" y="455760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682-20B9-4F25-94F8-E7F59BF2A8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15200" cy="1825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37680" y="3809880"/>
            <a:ext cx="36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pared to EXTEND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resul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5520" y="2238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304920"/>
            <a:ext cx="7543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ptimizing under uncertainty (OPTQUEST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3352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908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24480" y="175752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34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22240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67360" y="1752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104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0400" y="2781360"/>
            <a:ext cx="8534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vised annual profit (aircrafts run 340 days / year): $9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65760"/>
            <a:ext cx="85345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vised annual profit (aircrafts run 340 days / year): $84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315200" cy="182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95520" y="5272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3352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9584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29160" y="479124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81760" y="4786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48006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62160" y="5272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7880" y="282888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6E7-2A8D-4A9B-BBD4-A2387EF446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066680"/>
            <a:ext cx="8458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pected variability in flight times and demand reduces expected 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ing under uncertainty seems to be a superior approach and could yield up to 12% highe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xed demand and flight times (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10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EXTEND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OPTQUEST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D28-C228-4630-8D38-4E573E0FA4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Questions ?</a:t>
            </a:r>
            <a:r>
              <a:rPr b="1" lang="en-US" sz="2500" spc="-1" strike="noStrike">
                <a:solidFill>
                  <a:srgbClr val="669999"/>
                </a:solidFill>
                <a:latin typeface="Arial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336699"/>
                </a:solidFill>
                <a:latin typeface="Arial"/>
              </a:rPr>
              <a:t>(Don’t forget the Happy Hour today!)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ice (revenue)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D96-3F67-4337-A073-2A87B918C4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9072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erating cost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486320" cy="2162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44863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2D1-45C7-46B4-BC26-AC5BCDA4F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2952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passenger demand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5740560"/>
            <a:ext cx="8077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08C-9F9A-4003-AC05-7E190EDFFC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06668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e of 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 and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rect optimization under uncertainty (OPTQUEST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950-6041-4702-BC52-7467CC8012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flight time for each route (one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04E-6EB3-4374-BB0B-CC62BE41DD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istorical average on-time performanc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B0E-099C-4B65-8FD7-803EF4B9EC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22164" t="38273" r="33597" b="30211"/>
          <a:stretch/>
        </p:blipFill>
        <p:spPr>
          <a:xfrm>
            <a:off x="685800" y="1600200"/>
            <a:ext cx="582948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B7A-C78B-4A10-8159-2659FEB088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2940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4920" y="10684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327816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tal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372440" cy="1648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04920" y="54100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assuming the aircrafts run 340 days / year: $ 103.94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1F8-432C-4970-9163-23E004CA15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1047600"/>
            <a:ext cx="6858000" cy="513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3A5-9ECD-4B54-8016-AB98661A5A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6294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D23-E548-4466-8068-13E4706ECE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0D5-8997-401F-BFB4-B73FC1119A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069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irline Fleet scheduling is a complex proble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gnificant effects on airline bottom-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JetBlue aircraft utilization rate 46% higher NWA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JetBlue’s operating cost = 3.2c/ASM* vs. 5.1c/ASM for N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lays can increase flight time, destroy schedules, passenger goodwill and 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ritical to incorporate uncertainty in the optimization proce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 good schedule and fleet assignment is a key competitive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0080" y="601668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6699"/>
                </a:solidFill>
                <a:latin typeface="Arial"/>
              </a:rPr>
              <a:t>*Available Seat 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04920"/>
            <a:ext cx="8076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084-D278-4B0B-99D3-99BBACF0A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066680"/>
            <a:ext cx="85341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tern Air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ey Management: Stern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ther employees: HBS/Stanford/Columbia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 possible destina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fter evaluating various characteristics such as pricing, demand, gate availability and costs, competitor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15 possible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 aircraf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, 2 Boeing 737-500 and 2 Airbus A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irbus A320: 144 seats; turnaround time of 3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1 and 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oeing 737-500: 108 seats; turnaround time of 2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B1 and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FC1-CF55-4C00-8D98-4EE6F6F1B1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0666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Develop a model to assign routes to each aircraft in the fleet such that profits are max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D23-4B3F-4F8D-B1F4-4035E09F4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4582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two aircrafts can have identical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route can be flown more than six times in a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n aircraft should end its day in the city it start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Airbus &lt; 8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Boeing &lt; 1,08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pill cost = 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: Revenue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(demand – spill over) * number of passengers]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s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respective cost per route + (spill over * $450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CC2-E14C-48A3-966F-D18461485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proach 1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3809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066680"/>
            <a:ext cx="8534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timize and then sim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e route selection and fleet assignment assuming fixed demand and flight times in 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troduce uncertainty in demand and flight times via EXTEND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simulation and measure penal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btract penalties from maximum profit to get a “realistic”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89D-0CC8-4D40-A7EE-448C766CC0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4267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proach 2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066680"/>
            <a:ext cx="8534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timize and simulat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e under uncertainty using  OPTQUEST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module (in Crystal Ball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 to directly obtain optimal conditions under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(crude equivalent of 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nd Crystal Ball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combined in 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CCA-46D8-41D5-BE00-373C2DA1F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under fixed demand (i.e. using 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1603440"/>
            <a:ext cx="7277400" cy="167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3352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aily profit = $305,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(aircrafts run 340 days / year): $ 10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066680"/>
            <a:ext cx="8534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leet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380988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DED-45CC-436C-B5E0-6DCC934850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04:52Z</dcterms:created>
  <dc:creator>ABaldawa</dc:creator>
  <dc:description/>
  <dc:language>en-US</dc:language>
  <cp:lastModifiedBy>Anand Baldawa</cp:lastModifiedBy>
  <dcterms:modified xsi:type="dcterms:W3CDTF">2006-05-01T00:16:58Z</dcterms:modified>
  <cp:revision>252</cp:revision>
  <dc:subject/>
  <dc:title>Descartes Systems Group, Inc </dc:title>
</cp:coreProperties>
</file>