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411F-A564-4560-A4E2-7B22C1D07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A363-2662-4376-B303-2C32CCAB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3204-051F-4742-A8C4-7579A2326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F6F2-2CD4-4CBA-BC1C-F6126EADC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E9E7-DBC7-44BD-BC9D-3FA1ABC54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792A-97F1-4044-85F0-64628474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7BEB-CCF8-4291-8F7B-8D948E96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1AB4-83F3-48D9-AC63-BC5C2424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E346-7D20-4FAB-87C1-BDAAAC2F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61C2-9982-4E71-B1CE-01DC7285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8ADA-DFEE-4FAF-B67C-3F48B602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B785-1690-4DA4-BB9E-3341D0E5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F6AC-DDCB-4DCD-9FE5-27B05FD8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F4A7-E05D-448F-8107-EFCBD6A0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E83F-1F95-4738-BCBD-F02C39BC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B486-8F9E-45A7-B831-59D2FC6A9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EBBD-197B-4C3B-9C2B-C23E57E8F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1F4D-7871-4AAA-90F1-399E106F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3795-B9DF-4D69-984B-9851D831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F2F6-AC22-44E3-A920-794FDD69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CF80-F58D-403A-83E8-2E274B2D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501F-54A0-46B7-A23D-2A34DF0D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532F-C660-4221-A52D-C249743F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55DA-FFCF-489D-BAEA-4449C42A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0663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576360" indent="-233280">
              <a:spcBef>
                <a:spcPts val="451"/>
              </a:spcBef>
              <a:buClr>
                <a:srgbClr val="3399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914400" indent="-223920">
              <a:spcBef>
                <a:spcPts val="451"/>
              </a:spcBef>
              <a:buClr>
                <a:srgbClr val="ff6600"/>
              </a:buClr>
              <a:buSzPct val="7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3" marL="1560600" indent="-292320"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4" marL="1990800" indent="-316080">
              <a:spcBef>
                <a:spcPts val="4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5" marL="1990800" indent="-316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6" marL="1990800" indent="-316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6616-4C92-4495-929A-8443FEA2896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58200" y="304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9144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8591400" y="304920"/>
            <a:ext cx="452520" cy="609120"/>
            <a:chOff x="8591400" y="304920"/>
            <a:chExt cx="452520" cy="609120"/>
          </a:xfrm>
        </p:grpSpPr>
        <p:sp>
          <p:nvSpPr>
            <p:cNvPr id="9" name=""/>
            <p:cNvSpPr/>
            <p:nvPr/>
          </p:nvSpPr>
          <p:spPr>
            <a:xfrm>
              <a:off x="8591400" y="304920"/>
              <a:ext cx="68040" cy="558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87520" y="304920"/>
              <a:ext cx="68040" cy="558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783640" y="304920"/>
              <a:ext cx="68040" cy="558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591400" y="384120"/>
              <a:ext cx="68040" cy="558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87520" y="384120"/>
              <a:ext cx="68040" cy="558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783640" y="384120"/>
              <a:ext cx="68040" cy="558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879760" y="384120"/>
              <a:ext cx="68040" cy="558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591400" y="462960"/>
              <a:ext cx="68040" cy="558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7520" y="462960"/>
              <a:ext cx="68040" cy="558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83640" y="462960"/>
              <a:ext cx="68040" cy="558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879760" y="462960"/>
              <a:ext cx="68040" cy="558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975880" y="462960"/>
              <a:ext cx="68040" cy="558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591400" y="541800"/>
              <a:ext cx="68040" cy="5652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87520" y="541800"/>
              <a:ext cx="68040" cy="5652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783640" y="541800"/>
              <a:ext cx="68040" cy="5652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879760" y="541800"/>
              <a:ext cx="68040" cy="565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91400" y="621000"/>
              <a:ext cx="68040" cy="5652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87520" y="621000"/>
              <a:ext cx="68040" cy="5652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783640" y="621000"/>
              <a:ext cx="68040" cy="565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879760" y="621000"/>
              <a:ext cx="68040" cy="565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975880" y="621000"/>
              <a:ext cx="68040" cy="565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591400" y="700200"/>
              <a:ext cx="68040" cy="558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87520" y="700200"/>
              <a:ext cx="68040" cy="558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783640" y="700200"/>
              <a:ext cx="68040" cy="558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879760" y="700200"/>
              <a:ext cx="68040" cy="558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591400" y="779040"/>
              <a:ext cx="68040" cy="558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87520" y="779040"/>
              <a:ext cx="68040" cy="558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783640" y="779040"/>
              <a:ext cx="68040" cy="558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879760" y="779040"/>
              <a:ext cx="68040" cy="558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687520" y="858240"/>
              <a:ext cx="68040" cy="558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8879760" y="858240"/>
              <a:ext cx="68040" cy="558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" name=""/>
          <p:cNvSpPr/>
          <p:nvPr/>
        </p:nvSpPr>
        <p:spPr>
          <a:xfrm>
            <a:off x="208440" y="6232680"/>
            <a:ext cx="21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Decision Models - Stern Airl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1C42-0C74-4E2F-A930-359170C194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3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  <a:p>
            <a:pPr lvl="1" marL="34308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90480" algn="ctr">
              <a:spcBef>
                <a:spcPts val="349"/>
              </a:spcBef>
              <a:buClr>
                <a:srgbClr val="ff6600"/>
              </a:buClr>
              <a:buSzPct val="70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988920" indent="27936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indent="39204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 indent="3920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 indent="3920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46620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6699"/>
                </a:solidFill>
                <a:latin typeface="Arial"/>
              </a:rPr>
              <a:t>Decision Models</a:t>
            </a: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533520" y="3049560"/>
            <a:ext cx="624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6699"/>
                </a:solidFill>
                <a:latin typeface="Arial"/>
              </a:rPr>
              <a:t>Fleet Assignment and Flight Scheduling-Optimizing under uncertainty</a:t>
            </a: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6699"/>
                </a:solidFill>
                <a:latin typeface="Arial"/>
              </a:rPr>
              <a:t>May 1, 2006</a:t>
            </a: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315200" y="5638680"/>
            <a:ext cx="1523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336699"/>
                </a:solidFill>
                <a:latin typeface="Arial"/>
              </a:rPr>
              <a:t>Team 5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6699"/>
                </a:solidFill>
                <a:latin typeface="Arial"/>
              </a:rPr>
              <a:t>Animesh Ana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6699"/>
                </a:solidFill>
                <a:latin typeface="Arial"/>
              </a:rPr>
              <a:t>Anand Baldaw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6699"/>
                </a:solidFill>
                <a:latin typeface="Arial"/>
              </a:rPr>
              <a:t>Rajeev Ra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6699"/>
                </a:solidFill>
                <a:latin typeface="Arial"/>
              </a:rPr>
              <a:t>Shivanker Saxe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xtend Solution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829" t="0" r="0" b="5934"/>
          <a:stretch/>
        </p:blipFill>
        <p:spPr>
          <a:xfrm>
            <a:off x="708120" y="1066680"/>
            <a:ext cx="7692840" cy="4951440"/>
          </a:xfrm>
          <a:prstGeom prst="rect">
            <a:avLst/>
          </a:prstGeom>
          <a:ln w="25560">
            <a:solidFill>
              <a:srgbClr val="3366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8DC7-E0E2-4A05-B6C4-2277C17F84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xtend Solution (contd..)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1351" t="0" r="8108" b="0"/>
          <a:stretch/>
        </p:blipFill>
        <p:spPr>
          <a:xfrm>
            <a:off x="2009880" y="1066680"/>
            <a:ext cx="5105160" cy="5048280"/>
          </a:xfrm>
          <a:prstGeom prst="rect">
            <a:avLst/>
          </a:prstGeom>
          <a:ln w="25560">
            <a:solidFill>
              <a:srgbClr val="3366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89E8-B61D-44A2-8FE9-729E0119B6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xtend Solution (contd..)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6694560" cy="301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8822-4A44-42BB-A672-53025ECCFD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Results from EXTEND simulation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1828800"/>
            <a:ext cx="80769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Revised annual profit (after accounting for variations in demand and flying time) =$84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Uncertainty reduces potential profit by $20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83C9-5B2C-4DA3-BE83-8FC7646EAC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5438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Optimizing under uncertainty (OPTQUEST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7102440" cy="15904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84840" y="2666880"/>
            <a:ext cx="69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t forecast = $276,000/day =$94 M/year (assuming 340 days/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9360" y="3432240"/>
            <a:ext cx="52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For comparison- Results from Ext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57200" y="3962520"/>
            <a:ext cx="7277040" cy="16732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36400" y="5638680"/>
            <a:ext cx="29815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Profit forecast =$84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457200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8320" y="137160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137160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867280" y="457200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0" y="480060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66880" y="167652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480060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57800" y="167652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167652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33920" y="480060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53080" y="480060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00800" y="167652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81080" y="198108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7800" y="198108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502920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48120" y="502920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57800" y="198108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C47C-1667-4BE0-BC9B-DE807155C5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Expected variability in flight times and demand reduces expected profit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Optimizing under uncertainty seems to be a superior approach and could yield up to 12% higher profit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Fixed demand and flight times: Profit = $104 million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Varying demand and flight time (EXTEND): Profit = $84 million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6699"/>
                </a:solidFill>
                <a:latin typeface="Arial"/>
              </a:rPr>
              <a:t>Varying demand and flight time (OPTIQUEST) = $95 million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B215-2A6A-47D0-B86F-309B91F84E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ckground (contd.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4920" y="1066680"/>
            <a:ext cx="80769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Price (revenue) for each 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5613120" cy="27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D8C5-2F64-41E3-98EE-3342DFD4CB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ckground (contd.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990720"/>
            <a:ext cx="3886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Operating cost for each 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4486320" cy="21621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828800" y="3886200"/>
            <a:ext cx="4486320" cy="21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6442-2D88-4EAF-911B-38537512C9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ckground (contd.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1295280"/>
            <a:ext cx="8076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Average passenger demand for each 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5740560"/>
            <a:ext cx="8077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613480" cy="270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3B78-FDB0-4801-9954-233EFD64DA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ckground (contd.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1066680"/>
            <a:ext cx="80769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Average flight time for each route (one 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5613480" cy="270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6D18-3C57-4EA9-9832-9307205F6E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Index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1066680"/>
            <a:ext cx="8534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roblem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Use of Solver and Ext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irect optimization under uncertainty (OPTQU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FFE3-5C09-44B2-86D3-3502C8E20D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ckground (contd.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1066680"/>
            <a:ext cx="80769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Historical average on-time performance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5613120" cy="27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2363-F1F3-46AB-816A-22EA327C2D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olver Solution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1066680"/>
            <a:ext cx="80769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olver Parame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rcRect l="22164" t="38273" r="33597" b="30211"/>
          <a:stretch/>
        </p:blipFill>
        <p:spPr>
          <a:xfrm>
            <a:off x="685800" y="1600200"/>
            <a:ext cx="5829480" cy="31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1BEC-C0AF-4CC1-A6FC-B9513942BA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olver Solution (contd.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6629400" cy="15238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04920" y="1068480"/>
            <a:ext cx="8076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olver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278160"/>
            <a:ext cx="8076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otal 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7372440" cy="16480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04920" y="5410080"/>
            <a:ext cx="8076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Annual profit assuming the aircrafts run 340 days / year: $ 103.94 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21E2-28BB-40DC-8B27-9EBAA35098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olver Solution (contd.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85800" y="1047600"/>
            <a:ext cx="6858000" cy="513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30CC-00FB-457B-87D5-F6A438546F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olver Solution (contd.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6629400" cy="36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0844-802D-40F3-A4F0-C26F8605A6C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Results from EXTEND simulation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1066680"/>
            <a:ext cx="80769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Revised annual profit (after accounting for variations in demand and flying time) =$84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Uncertainty reduces potential profit by $20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853416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24F3-EB7B-41A0-84FD-283F38DA144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20570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Questions ?</a:t>
            </a:r>
            <a:r>
              <a:rPr b="1" lang="en-US" sz="2500" spc="-1" strike="noStrike">
                <a:solidFill>
                  <a:srgbClr val="669999"/>
                </a:solidFill>
                <a:latin typeface="Arial"/>
              </a:rPr>
              <a:t> </a:t>
            </a:r>
            <a:br>
              <a:rPr sz="2500"/>
            </a:br>
            <a:br>
              <a:rPr sz="2500"/>
            </a:br>
            <a:r>
              <a:rPr b="1" lang="en-US" sz="2500" spc="-1" strike="noStrike">
                <a:solidFill>
                  <a:srgbClr val="336699"/>
                </a:solidFill>
                <a:latin typeface="Arial"/>
              </a:rPr>
              <a:t>(Don’t forget the Happy Hour today!)</a:t>
            </a:r>
            <a:endParaRPr b="1" lang="en-US" sz="25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irline Fleet Scheduling is a complex problem.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ignificant effects on airline bottom-line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576360" indent="-233280">
              <a:spcBef>
                <a:spcPts val="400"/>
              </a:spcBef>
              <a:buClr>
                <a:srgbClr val="3399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Blue aircraft utilization rate 46% higher NWA in 200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spcBef>
                <a:spcPts val="400"/>
              </a:spcBef>
              <a:buClr>
                <a:srgbClr val="3399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Blue’s operating cost = 3.2c/ASM* vs. 5.1c/ASM for NW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spcBef>
                <a:spcPts val="400"/>
              </a:spcBef>
              <a:buClr>
                <a:srgbClr val="3399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ays can increase flight time, destroy schedules, passenger goodwill and pro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spcBef>
                <a:spcPts val="400"/>
              </a:spcBef>
              <a:buClr>
                <a:srgbClr val="3399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itical to incorporate uncertainty in the optimization proces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spcBef>
                <a:spcPts val="400"/>
              </a:spcBef>
              <a:buClr>
                <a:srgbClr val="3399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good schedule and fleet assignment is a key competitive advant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0800" y="57261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*Available Seat M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4F33-3E62-4D2E-A5CB-B6AA75FAC7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ckground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838080"/>
            <a:ext cx="8534160" cy="62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tern Air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buClr>
                <a:srgbClr val="3366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Key Management: Stern gradu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buClr>
                <a:srgbClr val="3366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Other employees: HBS/Stanford/Columbia gradu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buClr>
                <a:srgbClr val="3366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ix possible destination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After evaluating various characteristics such as pricing, demand, gate availability and costs, competitor pro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15 possible ro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4 aircrafts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, 2 Boeing 737-500 and 2 Airbus A3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buClr>
                <a:srgbClr val="3366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Airbus A320: 144 seats; turnaround time of 35min </a:t>
            </a:r>
            <a:r>
              <a:rPr b="0" lang="en-US" sz="18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A1 and A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buClr>
                <a:srgbClr val="3366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Boeing 737-500: 108 seats; turnaround time of 25min </a:t>
            </a:r>
            <a:r>
              <a:rPr b="0" lang="en-US" sz="18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B1 and 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5044-30F8-4484-A90B-18944DC5F7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roblem Definition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1066680"/>
            <a:ext cx="853416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Develop a model to assign routes to each aircraft in the fleet such that profits are maxim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5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7763-AB77-42AF-B73F-79285FB599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onstraint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1219320"/>
            <a:ext cx="8458200" cy="42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No two aircrafts can have identical ro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No route can be flown more than six times in a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An aircraft should end its day in the city it started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otal flying time (plus turnaround time) for Airbus &lt; 840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otal flying time (plus turnaround time) for Boeing &lt; 1,080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pill cost = $450/passe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Profit: Revenues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[(demand – spill over) * number of passengers]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Costs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[respective cost per route + (spill over * $450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D9BD-8F8D-448F-9870-1B498EF118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pproach 1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Optimize and then simulate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Optimize route selection and fleet assignment assuming fixed demand and flight times in Solver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ntroduce uncertainty in demand and flight times via EXTEND simulation and measure penalties 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ubtract penalties from maximum profit to get a “realistic” profit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3581280"/>
            <a:ext cx="754380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pproach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426708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Optimize and simulate simultaneous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99"/>
                </a:solidFill>
                <a:latin typeface="Arial"/>
              </a:rPr>
              <a:t>Optimize under uncertainty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using  OPTQUEST module (in CRYSTAL BALL) to directly obtain optimal conditions under uncertain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(crude equivalent of Solver and Crystal Ball combined in o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F118-7C4C-4359-88C1-1EB78CED84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1532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Results under fixed demand (Solver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277040" cy="1673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41440" y="121932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eet Ass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4038480"/>
            <a:ext cx="80773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Daily profit = $305,7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Annual profit (aircrafts run 340 days / year): $ 104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D5DD-70D5-45C0-B027-B41C671426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Variability introduced via EXTEND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1676520"/>
            <a:ext cx="80769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Demand  and Flight time are based on a normal distribution with a standard deviation of 10% of the 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Demand Spill cost =$450/passe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Flight delay cost = $100/min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C8FB-C6DA-42FE-BE20-91CA5168E1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3T19:04:52Z</dcterms:created>
  <dc:creator>ABaldawa</dc:creator>
  <dc:description/>
  <dc:language>en-US</dc:language>
  <cp:lastModifiedBy>RR</cp:lastModifiedBy>
  <dcterms:modified xsi:type="dcterms:W3CDTF">2006-04-30T18:46:12Z</dcterms:modified>
  <cp:revision>207</cp:revision>
  <dc:subject/>
  <dc:title>Descartes Systems Group, Inc </dc:title>
</cp:coreProperties>
</file>