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F5E-4CED-4CBA-8988-8F6B79F8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AA6-AA73-496C-AE94-4ACC60E1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0D7-F421-4540-8BEE-153276CA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D05-78A8-4242-87CF-A140C6C2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BE29-0188-4BBD-8D06-CB2C5DE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50E3-0379-4AFE-8AFA-6E242D81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3AA-D0FD-47E0-BF65-A3A5C715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2F84-E0C8-476C-B708-3B3AE316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7685-B9BC-4F45-9A8D-D0350E58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54D0-E961-40A6-B09E-96A49740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364B-B82F-49A2-8FC8-06B3A30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63B-FC26-4643-98E0-5DB7116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2A3-3016-46C6-A177-878F63B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F22D-B3A3-41CC-BC0B-76E3B45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6A4B-5F54-42D8-87B9-AAB02130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73FE-721D-4CBB-B7C8-8B54CCA6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774-1461-468C-AE21-3D6B9A32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21E-6278-4AB5-9B26-0ECF5E5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EA0-440A-4D0F-B71C-6EAB61E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06B-D45F-46FD-927F-8C87DE1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A73-2942-4E20-BDA2-72A1D566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0CB-8A20-461B-A369-503451F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CE8-5E06-4B20-ACEF-3CCD339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AE4-612B-4016-89E7-391186C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DAB-243B-453E-B5C1-EFB03E773C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389B-3C86-4274-A27B-E100665C8A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AC5-2233-44EE-A702-3D534C639C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609480" y="1066680"/>
            <a:ext cx="769320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9DC-F581-4CC5-B626-5AA9D0DE1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14560" y="1066680"/>
            <a:ext cx="510552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B70-0892-44B5-A02E-38A831A03F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6080" y="1066680"/>
            <a:ext cx="6694560" cy="301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4495680"/>
            <a:ext cx="853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455760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6F2-C83F-4489-8790-F052EA1BD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15200" cy="1825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7680" y="3809880"/>
            <a:ext cx="36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pared to EXTEND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5520" y="2238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04920"/>
            <a:ext cx="7543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3352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908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24480" y="175752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3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2240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67360" y="1752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10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0400" y="2781360"/>
            <a:ext cx="853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9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65760"/>
            <a:ext cx="85345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315200" cy="182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9552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3352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9584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29160" y="479124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1760" y="4786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6216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7880" y="2828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4A0-CB25-4405-B710-FEB77842D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66680"/>
            <a:ext cx="8458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 (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10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7B1-96FB-4845-AF0D-C0B92D157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58E-9133-4FCF-8EA0-7400CCAEE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3A4-5D41-4501-9610-04A55BD33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4D7-96F5-4A00-A327-1FC3F8FAF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and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ABE-785C-4BBC-AA45-86D7ADD696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9D3-4B25-4B3F-919C-1489FD200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19B-390E-4DF8-8BA7-E3FC90374F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8B1-F7E7-45CD-A251-6BCCF7E4C5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54C-61EF-4D7C-BE15-5E24FBD0A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14D-A198-4EDD-8844-C8D7417C04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5B8-0014-4AAF-BA40-C142549DAD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8EF-83FB-4C26-89C9-9059E15253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069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irline Fleet scheduling is a complex proble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 aircraft utilization rate 46% higher NWA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’s operating cost = 3.2c/ASM* vs. 5.1c/ASM for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lays can increase flight time, destroy schedules, passenger goodwill an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ritical to incorporate uncertainty in the optimization proce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 good schedule and fleet assignment is a key competitive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0080" y="601668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6699"/>
                </a:solidFill>
                <a:latin typeface="Arial"/>
              </a:rPr>
              <a:t>*Available Seat 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04920"/>
            <a:ext cx="8076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D29-ECA8-404B-A864-685681798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60E-E594-4E42-8AF4-15A3DA486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655-56CE-4B9D-87C6-5339DD8C5F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458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662-9DC1-44C7-A099-32717BAAC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3809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066680"/>
            <a:ext cx="8534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simulation and measure pena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499-1E50-4548-AEC9-EA3121FC8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066680"/>
            <a:ext cx="8534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under uncertainty using  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module (in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 to directly obtain optimal conditions under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(crude equivalent of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nd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combined in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299-AA79-4EAE-8ECA-36EF9EA4F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under fixed demand (i.e. using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603440"/>
            <a:ext cx="7277400" cy="167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3352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066680"/>
            <a:ext cx="853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809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CB7-1734-4346-BB7A-EC8AC116E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Anand Baldawa</cp:lastModifiedBy>
  <dcterms:modified xsi:type="dcterms:W3CDTF">2006-05-01T00:16:58Z</dcterms:modified>
  <cp:revision>252</cp:revision>
  <dc:subject/>
  <dc:title>Descartes Systems Group, Inc </dc:title>
</cp:coreProperties>
</file>