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BCA-EE29-4DE4-8E2D-1EFC1F0B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F07-7844-4AE6-9308-CE2DC852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906-1724-49F5-B3FA-DDE3163C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10B-271A-48A1-B0CA-066BD8C0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E60-16CB-4C00-8E1E-46807F70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82B2-958E-4797-A9D1-8CC462C0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C347-6EE0-4B4D-9BA0-E56AD192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9AF8-F945-4181-8DA0-41B0EF6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47BB-D170-4FCF-9072-24C2CB4F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BF8D-D6FD-4D60-925F-53FECBC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0CF6-C9D4-40FE-9BF0-90B4A55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00C-78D2-45E9-8D14-B40CF76D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299A-8726-409B-9226-2D506E8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59A3-9B1D-4916-8865-2F6C3993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FE10-22C0-4E2A-BC8D-A910F0A1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3DD-2B58-443C-85E1-16BBBE63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08736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869800" y="10663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08736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869800" y="3370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D18-60CE-46A0-89F7-7C487EE9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ED2-EE6D-4C5C-9B08-CB4EE82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180-38FE-480E-BC7F-31F70A6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A67F-68B7-41C1-8E77-FE1CEAA0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543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B10-0131-475D-9443-B1BB95D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C92-C6DC-4BBD-92AB-C55EDDA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21960" y="3370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B31-8C71-4881-8151-9B8D6FF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1960" y="10663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370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308-8538-4A70-BE95-9D23251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115-E4B5-4D1F-B91C-E1E3ED8855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231-4DBA-4D86-A1A1-3DD00BC16F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592-FF50-4994-BC1A-E629B435CB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609480" y="1066680"/>
            <a:ext cx="769320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B04-216B-452D-B9C4-8D1446FD92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14560" y="1066680"/>
            <a:ext cx="510552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861-2894-4AFE-952D-ABBB2FBF7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6080" y="1066680"/>
            <a:ext cx="6694560" cy="3019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4495680"/>
            <a:ext cx="85341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77080" y="455760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11F-2D87-4E08-9595-29336ED3A6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315200" cy="1825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7680" y="3809880"/>
            <a:ext cx="36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pared to EXTEND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resul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5520" y="2238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04920"/>
            <a:ext cx="7543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3352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908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24480" y="175752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3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22240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67360" y="1752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10400" y="199548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0400" y="2781360"/>
            <a:ext cx="853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Revised annual profit (aircrafts run 340 days / year): $95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65760"/>
            <a:ext cx="85345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vised annual profit (aircrafts run 340 days / year): $84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7315200" cy="182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59552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3352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9584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29160" y="479124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5029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1760" y="4786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8006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62160" y="5272200"/>
            <a:ext cx="228600" cy="2286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7880" y="2828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4EC-55A6-4E80-86E0-2F2D6FA169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66680"/>
            <a:ext cx="8458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 (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10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: Profit = 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AEA-525A-44B6-BE8D-36A18D0B83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405-C5C3-40EE-A137-B1D6E8557A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D7A-CD32-4827-83FB-504C76FA68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14E-4F1F-48F2-8ACC-1F06B6377A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 and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614-E658-4C0A-8F60-05ED38480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C6B-AC21-4D8B-9E7C-6E60B73D6D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B12-318A-4111-AEBC-2B7AAB343B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ADD-E91D-4253-8FAF-BC7F70FC6D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®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4AD-F78B-4A2B-BF13-AC85B05FB5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8BB-12DD-4D14-A57B-83AC4B2F35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DCE-6F20-424F-B14C-4B99A55CF3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B7C-C663-4896-8DFC-A3A4A5078B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069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irline Fleet scheduling is a complex problem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 aircraft utilization rate 46% higher NWA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JetBlue’s operating cost = 3.2c/ASM* vs. 5.1c/ASM for N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lays can increase flight time, destroy schedules, passenger goodwill and pro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ritical to incorporate uncertainty in the optimization proces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160000"/>
              </a:lnSpc>
              <a:buClr>
                <a:srgbClr val="336699"/>
              </a:buClr>
              <a:buSzPct val="70000"/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 good schedule and fleet assignment is a key competitive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0080" y="601668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6699"/>
                </a:solidFill>
                <a:latin typeface="Arial"/>
              </a:rPr>
              <a:t>*Available Seat 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04920"/>
            <a:ext cx="8076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BF0-A5F4-4FB3-85EA-C80ACF83C6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360-3B6D-4B7C-8C14-7994B903F8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254-8E2F-4ADA-A75E-188F3E4AD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45820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10A-9E90-4851-884A-79E98AB5C1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3809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066680"/>
            <a:ext cx="85341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simulation and measure penal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A56-18C2-42C5-8A7C-C47D6F82EC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066680"/>
            <a:ext cx="8534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e under uncertainty using  OPTQUEST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module (in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) to directly obtain optimal conditions under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(crude equivalent of Solver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nd Crystal Ball</a:t>
            </a:r>
            <a:r>
              <a:rPr b="0" lang="en-US" sz="18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combined in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84C-E731-4AC8-A92F-7680791594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under fixed demand (i.e. using Solver</a:t>
            </a:r>
            <a:r>
              <a:rPr b="1" lang="en-US" sz="2400" spc="-1" strike="noStrike" baseline="30000">
                <a:solidFill>
                  <a:srgbClr val="336699"/>
                </a:solidFill>
                <a:latin typeface="Arial"/>
              </a:rPr>
              <a:t>®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603440"/>
            <a:ext cx="7277400" cy="1673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920" y="3352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066680"/>
            <a:ext cx="853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809880"/>
            <a:ext cx="13096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F1F-BD03-4C27-863D-3B15E7CFB9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Anand Baldawa</cp:lastModifiedBy>
  <dcterms:modified xsi:type="dcterms:W3CDTF">2006-05-01T00:16:58Z</dcterms:modified>
  <cp:revision>252</cp:revision>
  <dc:subject/>
  <dc:title>Descartes Systems Group, Inc </dc:title>
</cp:coreProperties>
</file>