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272-3938-4678-BB46-5E74675E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4203360"/>
            <a:ext cx="8226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FB2-3FBC-496D-8AF9-4DBD1639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420336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420336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5993-402F-4A38-9825-D48740C6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213372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213372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420336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420336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420336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1CB-4FEE-487A-807C-A2C9145E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AFFE-AE10-4B1E-A6F9-6FA43953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A1C4-019A-4280-B2B4-F25867D8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5AB4-8E98-44BF-9414-2FC13813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CDBE-B3C9-471C-9C01-2898DF79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BC22-4D05-4147-8299-79A01758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5400" y="68544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5DD4-793C-4FB9-A040-5450AB87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5400" y="420336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F1CF-B51F-4C0D-82B5-94BF2D44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917-A275-4D76-8FD6-4CEEB749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1000" y="420336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A793-7547-4C30-AC0A-43D32ECD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5400" y="4203360"/>
            <a:ext cx="8226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8E93-99DA-4FC7-9A71-86F9BB2B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5400" y="4203360"/>
            <a:ext cx="8226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99E3-49F2-4F35-8E49-EEC91ADF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5400" y="420336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1000" y="420336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FB38-5412-4267-8D01-2517B607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6760" y="213372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18120" y="213372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5400" y="420336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6760" y="420336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18120" y="420336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5FD1-8D2F-4C50-9C3A-586C003D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965-4DEA-4D0A-A92B-DF6BB9C0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9E2-7D0A-4AC3-A2B3-C131385F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F1E-53A7-4F2A-B5CE-2A042703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68544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E7C-86AE-4135-BF4D-1573511A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420336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F4F-0D94-41AC-AEE1-8B22972C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420336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52D-D39B-4775-84DF-8A3A782E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4203360"/>
            <a:ext cx="8226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527-D38E-4B20-B0B3-6DCF0552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CAE2-ED14-4867-8FCA-648D2CE2CE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A665-51E6-4EF9-9041-55A59D9D23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984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28600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Optimal Asset Allocation for Michael Price Student Investment Fund (MPSIF)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458"/>
                </a:solidFill>
                <a:latin typeface="Times New Roman"/>
              </a:rPr>
              <a:t>Marco Ru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458"/>
                </a:solidFill>
                <a:latin typeface="Times New Roman"/>
              </a:rPr>
              <a:t>Ricky S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458"/>
                </a:solidFill>
                <a:latin typeface="Times New Roman"/>
              </a:rPr>
              <a:t>Sara X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Data Input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4037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59230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Run Premium Solver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4037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362320" y="2438280"/>
            <a:ext cx="5788080" cy="2411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flipV="1">
            <a:off x="4191120" y="4876560"/>
            <a:ext cx="5331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66280" y="5638680"/>
            <a:ext cx="58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PSIF fund volatility has to be less than the benchma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Run SolverTable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4037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I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54864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Flat Efficient Frontier?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8080" y="1546200"/>
            <a:ext cx="7467840" cy="5311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276720" y="4724280"/>
            <a:ext cx="39290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Run Crystal Ball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359320" cy="1774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571760" y="3962520"/>
            <a:ext cx="5359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Compare portfolio returns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76960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Resulting Stats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funds are highly correlated, there is no significant diversification benefit by having them 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ortfolio of 80% small cap and 20% fixed income has the highest expected increase in val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ing 10% in growth and value, 50% in small cap, and 30% in fixed income is the second b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urrent portfolio is better than the portfolio we obtain when we optimize historical index retur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ter divers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Resulting Stats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we assume that active management will not be positive in the future, the expected increase in the portfolio is similar for all portfol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ly managed portfolios have higher expected g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ero correlation among strategies offers diversification benef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Limitations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90296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s in the short term may not be normally distrib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s in the past may not reflect returns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most strict form of efficient market theory, active porfolio management should NOT beat the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ac458"/>
                </a:solidFill>
                <a:latin typeface="Times New Roman"/>
              </a:rPr>
              <a:t>Q&amp;A</a:t>
            </a:r>
            <a:endParaRPr b="0" lang="en-US" sz="9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3209400"/>
            <a:ext cx="822636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Agenda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Background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PSIF is a family of funds managed directly by NYU Stern MBA students. The fund, part of the overall NYU endowment, was established in 1999 through a generous gift from Michael Price, managing partner, MFP Investors, LLC and former chairman of Franklin Mutual Series fu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fund is divided into three equity funds-</a:t>
            </a:r>
            <a:r>
              <a:rPr b="1" lang="en-US" sz="2000" spc="-1" strike="noStrike">
                <a:solidFill>
                  <a:srgbClr val="fac458"/>
                </a:solidFill>
                <a:latin typeface="Times New Roman"/>
              </a:rPr>
              <a:t>Grow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ac458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fac458"/>
                </a:solidFill>
                <a:latin typeface="Times New Roman"/>
              </a:rPr>
              <a:t>Small Cap</a:t>
            </a:r>
            <a:r>
              <a:rPr b="0" lang="en-US" sz="2000" spc="-1" strike="noStrike">
                <a:solidFill>
                  <a:srgbClr val="fac45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d one </a:t>
            </a:r>
            <a:r>
              <a:rPr b="1" lang="en-US" sz="2000" spc="-1" strike="noStrike">
                <a:solidFill>
                  <a:srgbClr val="fac458"/>
                </a:solidFill>
                <a:latin typeface="Times New Roman"/>
              </a:rPr>
              <a:t>fixed inco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und, total value of $2 mill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four individual funds, the performance benchmark used are Russell 1000 Growth Index, Russell 1000 Value Index, Russell 2000 and the Vanguard Total Bond Inde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PSIF is required to pay an annual </a:t>
            </a:r>
            <a:r>
              <a:rPr b="1" lang="en-US" sz="2000" spc="-1" strike="noStrike">
                <a:solidFill>
                  <a:srgbClr val="fac458"/>
                </a:solidFill>
                <a:latin typeface="Times New Roman"/>
              </a:rPr>
              <a:t>5% divide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 the University of Oklahoma Price School of Busin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Formulation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identify asset allocation among the four funds with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ighest monthly retur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ceptable amount of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ssess the value of active portfolio management by comparing the returns of active management vs. passive inves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Formulation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 Vari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 of asset allocated to growth, value, small cap and fixed income funds respect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Formulation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 deviation of return cannot exceed those of the benchm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inimum 10% allocation is required in each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ximum of 50% allocation is allowed in each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t must be 100% allocated among growth, value, small cap and fixed income f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Assumptions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75452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index returns and active management returns are normally dis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x returns have the same correlation as they did in the p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e management returns are not correlated (skill in one fund has nothing to do with the skill in ano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Model Overview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2133360"/>
            <a:ext cx="8383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years of MPSIF fund family monthly retu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years of benchmark monthly retur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Methodolo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 model derives monthly mean and standard deviations of retu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Premium Solver to derive the optimal al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SolverTable to present the optimal allocation at different levels of risk tole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Model Overview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set allocation with the highest monthly return given a level of risk tol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frontier of asset al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21:43:27Z</dcterms:created>
  <dc:creator>Stern School of Business</dc:creator>
  <dc:description/>
  <dc:language>en-US</dc:language>
  <cp:lastModifiedBy>Marco Ruiz</cp:lastModifiedBy>
  <dcterms:modified xsi:type="dcterms:W3CDTF">2006-04-29T02:26:59Z</dcterms:modified>
  <cp:revision>63</cp:revision>
  <dc:subject/>
  <dc:title>Slide 1</dc:title>
</cp:coreProperties>
</file>